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BF5-FAAD-4E9B-8B78-E93932F5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B6D-2BC5-4182-AD20-D9E1D2A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7BD-1B16-4C63-817A-223E9BA4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3B3-DFC4-4CF2-B0CE-8B06C4E7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686-E848-4E5E-9129-FFF7A52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E9A-52E6-4DF4-9124-E996885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DD1-D5BD-4422-997D-49E3157C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505-2B05-4CB1-BD92-7FDC604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F0A-54FE-4684-8316-69DFA4F0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D57-11B1-433F-9705-701DD31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CCE-56F2-4084-AAB9-D5B1C15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E62-E501-439B-8E64-E244E57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6BD-8BF3-4842-BE73-1D47EE53E7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496205602&amp;tn=baiduimagedetail&amp;word=&#39321;&#28207;&#21306;&#26071;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La01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05720" cy="487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76320"/>
            <a:ext cx="4876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坚持“一国两制”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7621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实现祖国完全统一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44" name=""/>
          <p:cNvSpPr/>
          <p:nvPr/>
        </p:nvSpPr>
        <p:spPr>
          <a:xfrm>
            <a:off x="21420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324480" y="3962520"/>
            <a:ext cx="1066680" cy="1252080"/>
            <a:chOff x="6324480" y="3962520"/>
            <a:chExt cx="1066680" cy="1252080"/>
          </a:xfrm>
        </p:grpSpPr>
        <p:pic>
          <p:nvPicPr>
            <p:cNvPr id="46" name="redflag" descr=""/>
            <p:cNvPicPr/>
            <p:nvPr/>
          </p:nvPicPr>
          <p:blipFill>
            <a:blip r:embed="rId2"/>
            <a:stretch/>
          </p:blipFill>
          <p:spPr>
            <a:xfrm>
              <a:off x="6400440" y="3962520"/>
              <a:ext cx="990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324480" y="4003200"/>
              <a:ext cx="75960" cy="1211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001000" y="4800600"/>
            <a:ext cx="8380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    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1000" y="5334120"/>
            <a:ext cx="8380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形   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5867280"/>
            <a:ext cx="8380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台    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4267080"/>
            <a:ext cx="8380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导    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4920" y="228600"/>
            <a:ext cx="8610480" cy="5562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台   湾   人   民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求和平、求安定、求统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73680" y="64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720" y="125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如何解决台湾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74040" y="914400"/>
            <a:ext cx="5160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中国共产党确定的解决台湾问题方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“和平统一、一国两制”是解决台湾问题的总方针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总政策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解决台湾问题，实现祖国完全统一我们寄希望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台湾人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大力发展以“三通”为核心内容的两岸交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反对任何形式的“两个中国”“一中一台”“台湾独立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承诺放弃使用武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30120" y="649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胡：军事斗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487440"/>
            <a:ext cx="8686800" cy="5884920"/>
            <a:chOff x="228600" y="487440"/>
            <a:chExt cx="8686800" cy="5884920"/>
          </a:xfrm>
        </p:grpSpPr>
        <p:sp>
          <p:nvSpPr>
            <p:cNvPr id="113" name=""/>
            <p:cNvSpPr/>
            <p:nvPr/>
          </p:nvSpPr>
          <p:spPr>
            <a:xfrm>
              <a:off x="228600" y="487440"/>
              <a:ext cx="8686800" cy="18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8600" y="487440"/>
              <a:ext cx="6400800" cy="5884920"/>
              <a:chOff x="228600" y="487440"/>
              <a:chExt cx="6400800" cy="58849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" y="487440"/>
                <a:ext cx="6400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28600" y="487440"/>
                <a:ext cx="6240600" cy="5884920"/>
                <a:chOff x="228600" y="487440"/>
                <a:chExt cx="6240600" cy="58849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28600" y="487440"/>
                  <a:ext cx="6240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8600" y="487440"/>
                  <a:ext cx="4311720" cy="58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36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9" name="07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57984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60920" y="447840"/>
            <a:ext cx="387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00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日，军委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席胡锦涛在观摩指挥信息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统演示并会见全军司令部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设会议代表时强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军要抓紧搞好军事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准备，扎扎实实地做好军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各项工作，更好地肩负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党和人民赋予的光荣使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69480" y="649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40800" y="53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中国统一事业上，我们中学生应该做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9600" y="1936800"/>
            <a:ext cx="290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努力掌握现代化建设的本领，为祖国国强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贡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大力宣传“一国两制”方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与破坏祖国统一的言行作斗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94360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171360"/>
            <a:ext cx="4038480" cy="3029040"/>
            <a:chOff x="304920" y="171360"/>
            <a:chExt cx="4038480" cy="3029040"/>
          </a:xfrm>
        </p:grpSpPr>
        <p:pic>
          <p:nvPicPr>
            <p:cNvPr id="53" name="jiulong" descr=""/>
            <p:cNvPicPr/>
            <p:nvPr/>
          </p:nvPicPr>
          <p:blipFill>
            <a:blip r:embed="rId1"/>
            <a:stretch/>
          </p:blipFill>
          <p:spPr>
            <a:xfrm>
              <a:off x="304920" y="17136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u=3663182676,803374863&amp;gp=2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895480" y="217440"/>
              <a:ext cx="13716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304920" y="3505320"/>
            <a:ext cx="4038480" cy="3047760"/>
            <a:chOff x="304920" y="3505320"/>
            <a:chExt cx="4038480" cy="3047760"/>
          </a:xfrm>
        </p:grpSpPr>
        <p:pic>
          <p:nvPicPr>
            <p:cNvPr id="56" name="004" descr=""/>
            <p:cNvPicPr/>
            <p:nvPr/>
          </p:nvPicPr>
          <p:blipFill>
            <a:blip r:embed="rId4"/>
            <a:stretch/>
          </p:blipFill>
          <p:spPr>
            <a:xfrm>
              <a:off x="304920" y="3505320"/>
              <a:ext cx="403848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u=2118304530,1915789396&amp;gp=1" descr=""/>
            <p:cNvPicPr/>
            <p:nvPr/>
          </p:nvPicPr>
          <p:blipFill>
            <a:blip r:embed="rId5"/>
            <a:stretch/>
          </p:blipFill>
          <p:spPr>
            <a:xfrm>
              <a:off x="2895480" y="3581280"/>
              <a:ext cx="13716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wses13" descr=""/>
          <p:cNvPicPr/>
          <p:nvPr/>
        </p:nvPicPr>
        <p:blipFill>
          <a:blip r:embed="rId6"/>
          <a:stretch/>
        </p:blipFill>
        <p:spPr>
          <a:xfrm>
            <a:off x="4800600" y="228600"/>
            <a:ext cx="3962520" cy="6324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48720" y="594360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01880"/>
            <a:ext cx="86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制度可以不同，但在国际代表中国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只能是中华人民共和国。祖国统一后，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湾特别行政区可以有自己的独立性，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实行同大陆不同的制度。司法独立，终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权不须到北京。台湾还可以有自己的军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只是不能构成为威胁。……台湾的党、政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军等系统，都由台湾自己来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选自《邓小平文选》第三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1447920"/>
            <a:ext cx="6324480" cy="457200"/>
            <a:chOff x="76320" y="1447920"/>
            <a:chExt cx="6324480" cy="457200"/>
          </a:xfrm>
        </p:grpSpPr>
        <p:sp>
          <p:nvSpPr>
            <p:cNvPr id="62" name=""/>
            <p:cNvSpPr/>
            <p:nvPr/>
          </p:nvSpPr>
          <p:spPr>
            <a:xfrm>
              <a:off x="838080" y="1447920"/>
              <a:ext cx="556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1905120"/>
              <a:ext cx="3809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1905120"/>
            <a:ext cx="6477120" cy="838080"/>
            <a:chOff x="0" y="1905120"/>
            <a:chExt cx="6477120" cy="838080"/>
          </a:xfrm>
        </p:grpSpPr>
        <p:sp>
          <p:nvSpPr>
            <p:cNvPr id="65" name=""/>
            <p:cNvSpPr/>
            <p:nvPr/>
          </p:nvSpPr>
          <p:spPr>
            <a:xfrm>
              <a:off x="4038480" y="19051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62320"/>
              <a:ext cx="632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7432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6320" y="2743200"/>
            <a:ext cx="6476760" cy="1295280"/>
            <a:chOff x="76320" y="2743200"/>
            <a:chExt cx="6476760" cy="1295280"/>
          </a:xfrm>
        </p:grpSpPr>
        <p:sp>
          <p:nvSpPr>
            <p:cNvPr id="69" name=""/>
            <p:cNvSpPr/>
            <p:nvPr/>
          </p:nvSpPr>
          <p:spPr>
            <a:xfrm>
              <a:off x="4038480" y="2743200"/>
              <a:ext cx="236232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200400"/>
              <a:ext cx="6476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320" y="3657600"/>
              <a:ext cx="6476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320" y="4038480"/>
              <a:ext cx="48765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905120" y="76320"/>
            <a:ext cx="4419360" cy="761760"/>
          </a:xfrm>
          <a:prstGeom prst="wedgeRoundRectCallout">
            <a:avLst>
              <a:gd name="adj1" fmla="val -19865"/>
              <a:gd name="adj2" fmla="val 103333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前提和基础是一个中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1676520" cy="2438280"/>
          </a:xfrm>
          <a:prstGeom prst="wedgeRoundRectCallout">
            <a:avLst>
              <a:gd name="adj1" fmla="val -83712"/>
              <a:gd name="adj2" fmla="val -25000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两种制度并存，主体是社会主义制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800600"/>
            <a:ext cx="5105520" cy="762120"/>
          </a:xfrm>
          <a:prstGeom prst="wedgeRoundRectCallout">
            <a:avLst>
              <a:gd name="adj1" fmla="val -23351"/>
              <a:gd name="adj2" fmla="val -166458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特别行政区享有高度自治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97360" y="64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批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914400"/>
            <a:ext cx="746784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批驳观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 “</a:t>
            </a: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一国两制”是一种“软弱”的做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台湾既不实行社会主义制度，又由台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人自己来管理，其实质上是让台湾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一个独立的资本主义国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752480"/>
            <a:ext cx="6934320" cy="3581640"/>
            <a:chOff x="914400" y="1752480"/>
            <a:chExt cx="6934320" cy="3581640"/>
          </a:xfrm>
        </p:grpSpPr>
        <p:sp>
          <p:nvSpPr>
            <p:cNvPr id="79" name=""/>
            <p:cNvSpPr/>
            <p:nvPr/>
          </p:nvSpPr>
          <p:spPr>
            <a:xfrm>
              <a:off x="5257800" y="1752480"/>
              <a:ext cx="8380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方正姚体"/>
                </a:rPr>
                <a:t>双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2743200"/>
              <a:ext cx="37335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方正姚体"/>
                </a:rPr>
                <a:t>可以回到祖国的怀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2743200"/>
              <a:ext cx="1143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方正姚体"/>
                </a:rPr>
                <a:t>保持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4400" y="3733920"/>
              <a:ext cx="25909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方正姚体"/>
                </a:rPr>
                <a:t>台湾稳定繁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4800600"/>
              <a:ext cx="4495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方正姚体"/>
                </a:rPr>
                <a:t>中国不可分割的一部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848720" y="594360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59680" y="295200"/>
            <a:ext cx="570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7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，全国人大发表《告台湾同胞书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解决台湾问题时尊重台湾现状和台湾各界人士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见，采取合情合理的政策和办法，并建议两岸恢复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、通邮、通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4600" y="2463840"/>
            <a:ext cx="588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8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，叶剑英委员长发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《关于台湾回归中国实现和平统一的方针政策》谈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家实现统一后，台湾可作为特别行政区，享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度自治权，并可保留军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台湾现行社会、经济制度不变，生活方式不变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私有财产、房屋、土地、企业所有权……等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侵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8600" y="649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谈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xpzj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0"/>
            <a:ext cx="6019920" cy="2133720"/>
          </a:xfrm>
          <a:prstGeom prst="wedgeRoundRectCallout">
            <a:avLst>
              <a:gd name="adj1" fmla="val 51263"/>
              <a:gd name="adj2" fmla="val 74925"/>
              <a:gd name="adj3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在飞赴北京时，一再考虑一个问题，那就是中国根本不承认英国与清政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84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就香港岛签订的《南京条约》，这是中国领导人提出的先决条件。我们事先也商量过了，能不能主权换治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40800" y="6400800"/>
            <a:ext cx="21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14800"/>
            <a:ext cx="4800600" cy="1752480"/>
          </a:xfrm>
          <a:prstGeom prst="wedgeRoundRectCallout">
            <a:avLst>
              <a:gd name="adj1" fmla="val -43023"/>
              <a:gd name="adj2" fmla="val -113495"/>
              <a:gd name="adj3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权问题不可谈判，谈判不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也要收回。香港主权根本不在讨论之列，稍后中国会正式公布收回香港的决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905120"/>
            <a:ext cx="33526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质：用治权掩盖主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xpzj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43000" y="304920"/>
            <a:ext cx="5105520" cy="685800"/>
          </a:xfrm>
          <a:prstGeom prst="wedgeRoundRectCallout">
            <a:avLst>
              <a:gd name="adj1" fmla="val 60449"/>
              <a:gd name="adj2" fmla="val 2942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哪你们想如何收回香港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495680"/>
            <a:ext cx="6477120" cy="1067040"/>
          </a:xfrm>
          <a:prstGeom prst="wedgeRoundRectCallout">
            <a:avLst>
              <a:gd name="adj1" fmla="val -38750"/>
              <a:gd name="adj2" fmla="val -1924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关于收回香港主权的问题，可以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个国家，两种制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”的方案解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2640" y="62690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宪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84400" y="37152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通过的《宪法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规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家在必要时得设立特别行政区。在特别行政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实行的制度按照具体情况由全国人民代表大会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律规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8880" y="2971800"/>
            <a:ext cx="551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１９８４年５月，在第六届全国人民代表大会第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次会议上所作的《政府工作报告》中正式提出了“一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两制”的构想，获得会议通过，“一国两制”成为具有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律效力的国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94360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20240" y="13644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台  湾  问  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9400" y="914400"/>
            <a:ext cx="619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李登辉在接受德国一家广播公司采访时公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宣称：台湾当局将两岸关系定位在“国家与国家，至少是特殊的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国的关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陈水扁在向极端台独组织“世台会”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表讲话时，公然声称“台湾跟对岸中国一边一国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，蒋介石集团依仗美国的支持，发动全面内战，失败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退踞台湾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， 美国派第七舰队侵入台湾海峡，第十三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空队进驻台湾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，美蒋又签订了所谓《共同防御条约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将台湾置于美国的保护之下，造成台湾海峡地区长期紧张对峙局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近年来，美国国会中的反华势力再次掀起遏制中国的逆流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， 美国政府批准李登辉访美，这是美国公然干涉中国内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严重事件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066680"/>
            <a:ext cx="5943600" cy="1067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台湾“台独”势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191120"/>
            <a:ext cx="594360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国的反华势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960" y="647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登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24:13Z</dcterms:created>
  <dc:creator>jhxsj</dc:creator>
  <dc:description/>
  <dc:language>en-US</dc:language>
  <cp:lastModifiedBy>jhxsj</cp:lastModifiedBy>
  <dcterms:modified xsi:type="dcterms:W3CDTF">2004-11-26T00:40:43Z</dcterms:modified>
  <cp:revision>25</cp:revision>
  <dc:subject/>
  <dc:title>PowerPoint 演示文稿</dc:title>
</cp:coreProperties>
</file>