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0.jpeg" ContentType="image/jpeg"/>
  <Override PartName="/ppt/media/image19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6.jpeg" ContentType="image/jpeg"/>
  <Override PartName="/ppt/media/type.wav" ContentType="audio/x-wav"/>
  <Override PartName="/ppt/media/camera.wav" ContentType="audio/x-wav"/>
  <Override PartName="/ppt/media/image8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C32-4252-4ACE-9512-A783B69C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F6E-D7D3-4DBC-A5E7-BC716E26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574-0500-4F48-8406-60DA497F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ECA-402E-4495-9FD5-DF0CEC61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3D2-A2E1-41F3-877C-985819D6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198-159C-4708-9D10-281EA456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583-DD56-474C-848D-6C457F44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42C-0C23-4B49-A1AE-93DA4A14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3F5-CE94-4686-A3FE-A809E232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AA1-3F75-4A61-ACD0-7BED60F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567-AE32-46E5-AA9F-967868B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713-E5ED-4231-80AF-46D64E46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CCCF-DB9E-4219-BDEB-AC20DF020A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5337000"/>
            <a:ext cx="143964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2120" y="4876920"/>
            <a:ext cx="761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可是，小村庄，却被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咆哮</a:t>
            </a: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洪水不知卷到了何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什么都没有了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所有靠斧头得到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切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那些锋利的斧头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们在上节课了解了小村庄的巨大变化，那么是什么原因使小村庄发生了这么大的变化呢？（细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——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们砍树用来做什么？他们这样做结果怎样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7600" y="46245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6858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724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486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谁家想盖房，谁家想造犁，就拎起斧头到山坡上去，把树木              砍下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83560" y="5432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棵一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532908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就这样，山坡上出现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的土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8720" y="530064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裸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47242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一年年，一代代，山坡上的树         减少，裸露的土地         扩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38280" y="530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不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96200" y="530064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不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77440" y="584676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除了想盖房、想造犁、村里的人还会想砍树去做什么？应有尽有的家具会有哪些家具？请仿造课文里的句子，在空白处填上合适的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谁家想盖房，谁家想造犁，谁家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谁家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拎起斧头到山上去，把树木一棵棵砍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6520" y="160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87720" y="213372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树木变成了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树木变成了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树木变成了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树木变成了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62640" y="213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黑体"/>
              </a:rPr>
              <a:t>房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61200" y="2879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黑体"/>
              </a:rPr>
              <a:t>工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61200" y="3581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黑体"/>
              </a:rPr>
              <a:t>家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1720" y="43275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黑体"/>
              </a:rPr>
              <a:t>柴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80880" y="685800"/>
            <a:ext cx="990720" cy="1447920"/>
            <a:chOff x="380880" y="685800"/>
            <a:chExt cx="990720" cy="1447920"/>
          </a:xfrm>
        </p:grpSpPr>
        <p:sp>
          <p:nvSpPr>
            <p:cNvPr id="97" name="Document"/>
            <p:cNvSpPr/>
            <p:nvPr/>
          </p:nvSpPr>
          <p:spPr>
            <a:xfrm>
              <a:off x="380880" y="685800"/>
              <a:ext cx="990720" cy="144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5880" y="882720"/>
              <a:ext cx="71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ff"/>
                  </a:solidFill>
                  <a:latin typeface="Times New Roman"/>
                  <a:ea typeface="华文彩云"/>
                </a:rPr>
                <a:t>回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ff"/>
                  </a:solidFill>
                  <a:latin typeface="Times New Roman"/>
                  <a:ea typeface="华文彩云"/>
                </a:rPr>
                <a:t> </a:t>
              </a:r>
              <a:r>
                <a:rPr b="0" lang="zh-CN" sz="2800" spc="-1" strike="noStrike">
                  <a:solidFill>
                    <a:srgbClr val="ff00ff"/>
                  </a:solidFill>
                  <a:latin typeface="Times New Roman"/>
                  <a:ea typeface="华文彩云"/>
                </a:rPr>
                <a:t>一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796040" y="5627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应有尽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中国十大名曲 古筝 雪山春晓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760320" y="0"/>
            <a:ext cx="9904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838080"/>
            <a:ext cx="8458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大量的树木随着屋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冒出的柴烟消失在天空中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75248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97180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37908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不管怎样，家家户户靠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锋利的斧头，日子过得都不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40600" y="836640"/>
            <a:ext cx="545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不管怎样，家家户户靠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锋利的斧头，日子过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都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村庄家家户户靠着锋利的斧头，日子过得都不错。但这不错的日子能长久吗？课文是怎么说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6640" y="342900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知过了多少年、多少代，在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雨水奇多的八月，大雨没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喘气儿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连下了五天五夜，到了第六天黎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雨才停下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981000"/>
            <a:ext cx="73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一切都没有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有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有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有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也没有了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1640" y="26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城市垃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854120" y="93348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水污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3480" y="60804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砍伐森林，动物无家可归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209680" cy="152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0720" y="3657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038480" y="373392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8080" y="304920"/>
            <a:ext cx="3657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乱砍乱伐现象严重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705720" y="373392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843120"/>
            <a:ext cx="83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我想设计一句公益环保广告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643120"/>
            <a:ext cx="81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地球是我家，我爱我的家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栽花种树，让地球鸟语花香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44400">
            <a:off x="-395640" y="333000"/>
            <a:ext cx="1923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916280"/>
            <a:ext cx="662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郁郁葱葱            清澈见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湛蓝深远            清新甜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295280" y="1676520"/>
            <a:ext cx="5867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一个小村庄的故事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5373720"/>
            <a:ext cx="24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新庙小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执教人汤秀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会认“郁、澈、湛”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生字，会写森、葱、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联系上下文和生活实际，理解课文中含义深刻的句子，并体会表达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懂课文主要内容，理解小村庄消失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领会爱护家园，保护环境，爱护树木、维护生态平衡的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自读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要求：读准字音、读通句子遇到难读的地方多读几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词语闯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森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林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郁郁葱葱   湛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蓝  甜润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盖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房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裸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露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扩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造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犁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一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栋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柴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烟  锋利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黎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明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砍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下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应有尽有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喘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气儿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开火车读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：课文讲了一个什么故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7734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5:15:54Z</dcterms:created>
  <dc:creator>wangliping</dc:creator>
  <dc:description/>
  <cp:keywords/>
  <dc:language>en-US</dc:language>
  <cp:lastModifiedBy>Lenovo</cp:lastModifiedBy>
  <cp:lastPrinted>1899-12-30T00:00:00Z</cp:lastPrinted>
  <dcterms:modified xsi:type="dcterms:W3CDTF">2014-03-11T14:31:25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