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185-B08A-4F15-B388-A6D64D96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6E95-05A8-442B-B072-9BC180D5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968C-072F-43CC-BC23-1FCD53FB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082-5C9C-4E7F-9F8B-209F3EBE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241D-5690-4653-B0C8-FC3AE869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3125-D2B1-4C9E-B8E8-1F2411E1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1A07-7F78-491D-B518-DD679F4C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8607-DB86-4E9D-8BFF-81BEFBC5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37AA-7AE9-4203-8A08-BC3BA01C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531B-0BDB-4B7E-A197-1253ED09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5322-FDB6-42F7-9E3F-32A49594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41E-30F4-4B0A-B23E-BFC90490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8F56-4B4B-4C64-BA34-B6A9B1BE517A}" type="slidenum"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" Target="slide18.xml"/><Relationship Id="rId4" Type="http://schemas.openxmlformats.org/officeDocument/2006/relationships/slide" Target="slide15.xml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" Target="slide18.xml"/><Relationship Id="rId4" Type="http://schemas.openxmlformats.org/officeDocument/2006/relationships/slide" Target="slide15.xml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" Target="slide18.xml"/><Relationship Id="rId4" Type="http://schemas.openxmlformats.org/officeDocument/2006/relationships/slide" Target="slide15.xml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1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050920" y="1752480"/>
            <a:ext cx="51818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燕子专列</a:t>
            </a:r>
            <a:endParaRPr b="1" lang="en-US" sz="8000" spc="1" strike="noStrike">
              <a:ln w="32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203640" y="2287440"/>
            <a:ext cx="3197160" cy="2810160"/>
            <a:chOff x="3203640" y="2287440"/>
            <a:chExt cx="3197160" cy="2810160"/>
          </a:xfrm>
        </p:grpSpPr>
        <p:sp>
          <p:nvSpPr>
            <p:cNvPr id="82" name=""/>
            <p:cNvSpPr/>
            <p:nvPr/>
          </p:nvSpPr>
          <p:spPr>
            <a:xfrm>
              <a:off x="3381480" y="3357720"/>
              <a:ext cx="2638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  </a:t>
              </a: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特 殊　</a:t>
              </a:r>
              <a:endParaRPr b="0" lang="en-US" sz="5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3640" y="2287440"/>
              <a:ext cx="31971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　   </a:t>
              </a: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shū</a:t>
              </a: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　</a:t>
              </a:r>
              <a:endParaRPr b="0" lang="en-US" sz="5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71640" y="2060640"/>
            <a:ext cx="7777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自由朗读课文，要求：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）借助拼音读准文中的新字；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）努力把课文读正确，圈出不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理解的字词。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914400" y="1376280"/>
            <a:ext cx="7618320" cy="6247800"/>
            <a:chOff x="914400" y="1376280"/>
            <a:chExt cx="7618320" cy="6247800"/>
          </a:xfrm>
        </p:grpSpPr>
        <p:sp>
          <p:nvSpPr>
            <p:cNvPr id="87" name=""/>
            <p:cNvSpPr/>
            <p:nvPr/>
          </p:nvSpPr>
          <p:spPr>
            <a:xfrm>
              <a:off x="914400" y="1447920"/>
              <a:ext cx="7618320" cy="61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      </a:t>
              </a: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骤然　　跋涉</a:t>
              </a:r>
              <a:endParaRPr b="0" lang="en-US" sz="54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　</a:t>
              </a:r>
              <a:endParaRPr b="0" lang="en-US" sz="54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     </a:t>
              </a: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濒临    覆盖     </a:t>
              </a:r>
              <a:endParaRPr b="0" lang="en-US" sz="54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　　　　　　　</a:t>
              </a:r>
              <a:endParaRPr b="0" lang="en-US" sz="28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32000" y="1376280"/>
              <a:ext cx="7188120" cy="46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  </a:t>
              </a: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zhòu</a:t>
              </a: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　    </a:t>
              </a: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b</a:t>
              </a:r>
              <a:r>
                <a:rPr b="1" lang="zh-CN" sz="5400" spc="-1" strike="noStrike">
                  <a:solidFill>
                    <a:srgbClr val="800080"/>
                  </a:solidFill>
                  <a:latin typeface="Century Gothic"/>
                </a:rPr>
                <a:t>á</a:t>
              </a: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 shè</a:t>
              </a:r>
              <a:endParaRPr b="0" lang="en-US" sz="54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　</a:t>
              </a:r>
              <a:endParaRPr b="0" lang="en-US" sz="54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</a:rPr>
                <a:t>bīn       fù           xiān</a:t>
              </a:r>
              <a:r>
                <a:rPr b="0" lang="zh-CN" sz="5400" spc="-1" strike="noStrike">
                  <a:solidFill>
                    <a:srgbClr val="800080"/>
                  </a:solidFill>
                  <a:latin typeface="Arial"/>
                </a:rPr>
                <a:t>g  </a:t>
              </a:r>
              <a:endParaRPr b="0" lang="en-US" sz="54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800080"/>
                  </a:solidFill>
                  <a:latin typeface="Arial"/>
                </a:rPr>
                <a:t>                         </a:t>
              </a: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车厢</a:t>
              </a:r>
              <a:endParaRPr b="0" lang="en-US" sz="54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Times New Roman"/>
                </a:rPr>
                <a:t>　　　　　　　　</a:t>
              </a:r>
              <a:endParaRPr b="0" lang="en-US" sz="28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143000" y="1523880"/>
            <a:ext cx="7618320" cy="4996080"/>
            <a:chOff x="1143000" y="1523880"/>
            <a:chExt cx="7618320" cy="4996080"/>
          </a:xfrm>
        </p:grpSpPr>
        <p:sp>
          <p:nvSpPr>
            <p:cNvPr id="90" name=""/>
            <p:cNvSpPr/>
            <p:nvPr/>
          </p:nvSpPr>
          <p:spPr>
            <a:xfrm>
              <a:off x="1143000" y="1595520"/>
              <a:ext cx="7618320" cy="49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　　跋涉      车厢 </a:t>
              </a:r>
              <a:endParaRPr b="0" lang="en-US" sz="54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濒临    骤然   覆盖</a:t>
              </a:r>
              <a:endParaRPr b="0" lang="en-US" sz="54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　　　　　　　</a:t>
              </a:r>
              <a:endParaRPr b="0" lang="en-US" sz="28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0600" y="1523880"/>
              <a:ext cx="71881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19320" y="297180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905120"/>
            <a:ext cx="76197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800080"/>
                </a:solidFill>
                <a:latin typeface="Times New Roman"/>
              </a:rPr>
              <a:t>欧洲    瑞士    舒适 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800080"/>
                </a:solidFill>
                <a:latin typeface="Times New Roman"/>
              </a:rPr>
              <a:t>启程    特殊    骤降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Times New Roman"/>
              </a:rPr>
              <a:t>疲劳    政府    饥寒交迫</a:t>
            </a:r>
            <a:r>
              <a:rPr b="1" lang="zh-CN" sz="5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endParaRPr b="0" lang="en-US" sz="5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19320" y="297180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46101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510552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295280"/>
            <a:ext cx="76201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事情是这样的：这年春天，成千上万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只燕子从南方飞回北方时，在瑞士境内遇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到了麻烦。当地气温骤降，风雪不止，几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乎所有昆虫都被冻死了。燕子经过长途跋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涉，已经非常疲劳，再加上找不到食物，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饥寒交迫，濒临死亡。瑞士政府知道了这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个情况，决定用火车把这些燕子送到温暖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的地方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320040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41972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4419720"/>
            <a:ext cx="1905120" cy="457200"/>
          </a:xfrm>
          <a:custGeom>
            <a:avLst/>
            <a:gdLst>
              <a:gd name="textAreaLeft" fmla="*/ 29520 w 1905120"/>
              <a:gd name="textAreaRight" fmla="*/ 1875600 w 1905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52" h="21600">
                <a:moveTo>
                  <a:pt x="0" y="0"/>
                </a:moveTo>
                <a:lnTo>
                  <a:pt x="89952" y="0"/>
                </a:lnTo>
                <a:lnTo>
                  <a:pt x="89952" y="21600"/>
                </a:lnTo>
                <a:lnTo>
                  <a:pt x="0" y="21600"/>
                </a:lnTo>
                <a:close/>
              </a:path>
              <a:path fill="lightenLess" w="89952" h="21600">
                <a:moveTo>
                  <a:pt x="0" y="0"/>
                </a:moveTo>
                <a:lnTo>
                  <a:pt x="89952" y="0"/>
                </a:lnTo>
                <a:lnTo>
                  <a:pt x="88552" y="1400"/>
                </a:lnTo>
                <a:lnTo>
                  <a:pt x="1400" y="1400"/>
                </a:lnTo>
                <a:close/>
              </a:path>
              <a:path fill="darken" w="89952" h="21600">
                <a:moveTo>
                  <a:pt x="89952" y="0"/>
                </a:moveTo>
                <a:lnTo>
                  <a:pt x="89952" y="21600"/>
                </a:lnTo>
                <a:lnTo>
                  <a:pt x="88552" y="20200"/>
                </a:lnTo>
                <a:lnTo>
                  <a:pt x="88552" y="1400"/>
                </a:lnTo>
                <a:close/>
              </a:path>
              <a:path fill="darkenLess" w="89952" h="21600">
                <a:moveTo>
                  <a:pt x="89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52" y="20200"/>
                </a:lnTo>
                <a:close/>
              </a:path>
              <a:path fill="lighten" w="89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2590920"/>
            <a:ext cx="1676160" cy="457200"/>
          </a:xfrm>
          <a:custGeom>
            <a:avLst/>
            <a:gdLst>
              <a:gd name="textAreaLeft" fmla="*/ 29520 w 1676160"/>
              <a:gd name="textAreaRight" fmla="*/ 1646640 w 1676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43" h="21600">
                <a:moveTo>
                  <a:pt x="0" y="0"/>
                </a:moveTo>
                <a:lnTo>
                  <a:pt x="79143" y="0"/>
                </a:lnTo>
                <a:lnTo>
                  <a:pt x="79143" y="21600"/>
                </a:lnTo>
                <a:lnTo>
                  <a:pt x="0" y="21600"/>
                </a:lnTo>
                <a:close/>
              </a:path>
              <a:path fill="lightenLess" w="79143" h="21600">
                <a:moveTo>
                  <a:pt x="0" y="0"/>
                </a:moveTo>
                <a:lnTo>
                  <a:pt x="79143" y="0"/>
                </a:lnTo>
                <a:lnTo>
                  <a:pt x="77743" y="1400"/>
                </a:lnTo>
                <a:lnTo>
                  <a:pt x="1400" y="1400"/>
                </a:lnTo>
                <a:close/>
              </a:path>
              <a:path fill="darken" w="79143" h="21600">
                <a:moveTo>
                  <a:pt x="79143" y="0"/>
                </a:moveTo>
                <a:lnTo>
                  <a:pt x="79143" y="21600"/>
                </a:lnTo>
                <a:lnTo>
                  <a:pt x="77743" y="20200"/>
                </a:lnTo>
                <a:lnTo>
                  <a:pt x="77743" y="1400"/>
                </a:lnTo>
                <a:close/>
              </a:path>
              <a:path fill="darkenLess" w="79143" h="21600">
                <a:moveTo>
                  <a:pt x="79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43" y="20200"/>
                </a:lnTo>
                <a:close/>
              </a:path>
              <a:path fill="lighten" w="79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00000" y="765000"/>
            <a:ext cx="755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800080"/>
                </a:solidFill>
                <a:latin typeface="Arial"/>
                <a:ea typeface="隶书"/>
              </a:rPr>
              <a:t>当地　　　　，风雪不止，几乎所有昆虫都被冻死了。燕子经过　　　　，已经非常疲劳，再加上找不到食物，               ，          。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2000" y="76500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Arial"/>
                <a:ea typeface="隶书"/>
              </a:rPr>
              <a:t>气温骤降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32000" y="0"/>
            <a:ext cx="180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220500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Arial"/>
                <a:ea typeface="隶书"/>
              </a:rPr>
              <a:t>长途跋涉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72040" y="3716280"/>
            <a:ext cx="288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Arial"/>
                <a:ea typeface="隶书"/>
              </a:rPr>
              <a:t>  </a:t>
            </a:r>
            <a:r>
              <a:rPr b="1" lang="zh-CN" sz="4800" spc="-1" strike="noStrike">
                <a:solidFill>
                  <a:srgbClr val="800080"/>
                </a:solidFill>
                <a:latin typeface="Arial"/>
                <a:ea typeface="隶书"/>
              </a:rPr>
              <a:t>饥寒交迫 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04440" y="3645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Arial"/>
                <a:ea typeface="隶书"/>
              </a:rPr>
              <a:t>濒临死亡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19320" y="297180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6101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510552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295280"/>
            <a:ext cx="76201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事情是这样的：这年春天，成千上万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只燕子从南方飞回北方时，在瑞士境内遇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到了麻烦。当地气温骤降，风雪不止，几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乎所有昆虫都被冻死了。燕子经过长途跋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涉，已经非常疲劳，再加上找不到食物，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饥寒交迫，濒临死亡。瑞士政府知道了这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个情况，决定用火车把这些燕子送到温暖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的地方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609480" y="42670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2438280" y="495288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2895480" y="289548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4648320" y="4952880"/>
            <a:ext cx="1904760" cy="457200"/>
          </a:xfrm>
          <a:custGeom>
            <a:avLst/>
            <a:gdLst>
              <a:gd name="textAreaLeft" fmla="*/ 29520 w 1904760"/>
              <a:gd name="textAreaRight" fmla="*/ 1875240 w 1904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35" h="21600">
                <a:moveTo>
                  <a:pt x="0" y="0"/>
                </a:moveTo>
                <a:lnTo>
                  <a:pt x="89935" y="0"/>
                </a:lnTo>
                <a:lnTo>
                  <a:pt x="89935" y="21600"/>
                </a:lnTo>
                <a:lnTo>
                  <a:pt x="0" y="21600"/>
                </a:lnTo>
                <a:close/>
              </a:path>
              <a:path fill="lightenLess" w="89935" h="21600">
                <a:moveTo>
                  <a:pt x="0" y="0"/>
                </a:moveTo>
                <a:lnTo>
                  <a:pt x="89935" y="0"/>
                </a:lnTo>
                <a:lnTo>
                  <a:pt x="88535" y="1400"/>
                </a:lnTo>
                <a:lnTo>
                  <a:pt x="1400" y="1400"/>
                </a:lnTo>
                <a:close/>
              </a:path>
              <a:path fill="darken" w="89935" h="21600">
                <a:moveTo>
                  <a:pt x="89935" y="0"/>
                </a:moveTo>
                <a:lnTo>
                  <a:pt x="89935" y="21600"/>
                </a:lnTo>
                <a:lnTo>
                  <a:pt x="88535" y="20200"/>
                </a:lnTo>
                <a:lnTo>
                  <a:pt x="88535" y="1400"/>
                </a:lnTo>
                <a:close/>
              </a:path>
              <a:path fill="darkenLess" w="89935" h="21600">
                <a:moveTo>
                  <a:pt x="89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35" y="20200"/>
                </a:lnTo>
                <a:close/>
              </a:path>
              <a:path fill="lighten" w="89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5715000"/>
            <a:ext cx="2209680" cy="1143000"/>
          </a:xfrm>
          <a:custGeom>
            <a:avLst/>
            <a:gdLst>
              <a:gd name="textAreaLeft" fmla="*/ 73800 w 2209680"/>
              <a:gd name="textAreaRight" fmla="*/ 2135880 w 2209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1751" h="21600">
                <a:moveTo>
                  <a:pt x="0" y="0"/>
                </a:moveTo>
                <a:lnTo>
                  <a:pt x="41751" y="0"/>
                </a:lnTo>
                <a:lnTo>
                  <a:pt x="41751" y="21600"/>
                </a:lnTo>
                <a:lnTo>
                  <a:pt x="0" y="21600"/>
                </a:lnTo>
                <a:close/>
              </a:path>
              <a:path fill="lightenLess" w="41751" h="21600">
                <a:moveTo>
                  <a:pt x="0" y="0"/>
                </a:moveTo>
                <a:lnTo>
                  <a:pt x="41751" y="0"/>
                </a:lnTo>
                <a:lnTo>
                  <a:pt x="40351" y="1400"/>
                </a:lnTo>
                <a:lnTo>
                  <a:pt x="1400" y="1400"/>
                </a:lnTo>
                <a:close/>
              </a:path>
              <a:path fill="darken" w="41751" h="21600">
                <a:moveTo>
                  <a:pt x="41751" y="0"/>
                </a:moveTo>
                <a:lnTo>
                  <a:pt x="41751" y="21600"/>
                </a:lnTo>
                <a:lnTo>
                  <a:pt x="40351" y="20200"/>
                </a:lnTo>
                <a:lnTo>
                  <a:pt x="40351" y="1400"/>
                </a:lnTo>
                <a:close/>
              </a:path>
              <a:path fill="darkenLess" w="41751" h="21600">
                <a:moveTo>
                  <a:pt x="41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51" y="20200"/>
                </a:lnTo>
                <a:close/>
              </a:path>
              <a:path fill="lighten" w="41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51" h="21600">
                <a:moveTo>
                  <a:pt x="13869" y="10800"/>
                </a:moveTo>
                <a:lnTo>
                  <a:pt x="27882" y="3794"/>
                </a:lnTo>
                <a:lnTo>
                  <a:pt x="2788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2209680"/>
            <a:ext cx="2527560" cy="1309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骤 降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19320" y="297180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46101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510552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1295280"/>
            <a:ext cx="76201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事情是这样的：这年春天，成千上万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只燕子从南方飞回北方时，在瑞士境内遇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到了麻烦。当地气温骤降，风雪不止，几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乎所有昆虫都被冻死了。燕子经过长途跋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涉，已经非常疲劳，再加上找不到食物，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饥寒交迫，濒临死亡。瑞士政府知道了这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个情况，决定用火车把这些燕子送到温暖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的地方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609480" y="42670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2438280" y="495288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2895480" y="289548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6" name="">
            <a:hlinkClick r:id="rId5" action="ppaction://hlinksldjump"/>
          </p:cNvPr>
          <p:cNvSpPr/>
          <p:nvPr/>
        </p:nvSpPr>
        <p:spPr>
          <a:xfrm>
            <a:off x="4648320" y="4952880"/>
            <a:ext cx="1904760" cy="457200"/>
          </a:xfrm>
          <a:custGeom>
            <a:avLst/>
            <a:gdLst>
              <a:gd name="textAreaLeft" fmla="*/ 29520 w 1904760"/>
              <a:gd name="textAreaRight" fmla="*/ 1875240 w 1904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35" h="21600">
                <a:moveTo>
                  <a:pt x="0" y="0"/>
                </a:moveTo>
                <a:lnTo>
                  <a:pt x="89935" y="0"/>
                </a:lnTo>
                <a:lnTo>
                  <a:pt x="89935" y="21600"/>
                </a:lnTo>
                <a:lnTo>
                  <a:pt x="0" y="21600"/>
                </a:lnTo>
                <a:close/>
              </a:path>
              <a:path fill="lightenLess" w="89935" h="21600">
                <a:moveTo>
                  <a:pt x="0" y="0"/>
                </a:moveTo>
                <a:lnTo>
                  <a:pt x="89935" y="0"/>
                </a:lnTo>
                <a:lnTo>
                  <a:pt x="88535" y="1400"/>
                </a:lnTo>
                <a:lnTo>
                  <a:pt x="1400" y="1400"/>
                </a:lnTo>
                <a:close/>
              </a:path>
              <a:path fill="darken" w="89935" h="21600">
                <a:moveTo>
                  <a:pt x="89935" y="0"/>
                </a:moveTo>
                <a:lnTo>
                  <a:pt x="89935" y="21600"/>
                </a:lnTo>
                <a:lnTo>
                  <a:pt x="88535" y="20200"/>
                </a:lnTo>
                <a:lnTo>
                  <a:pt x="88535" y="1400"/>
                </a:lnTo>
                <a:close/>
              </a:path>
              <a:path fill="darkenLess" w="89935" h="21600">
                <a:moveTo>
                  <a:pt x="89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35" y="20200"/>
                </a:lnTo>
                <a:close/>
              </a:path>
              <a:path fill="lighten" w="89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2819520"/>
            <a:ext cx="3240000" cy="1657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长途跋涉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19320" y="297180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46101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510552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295280"/>
            <a:ext cx="76201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事情是这样的：这年春天，成千上万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只燕子从南方飞回北方时，在瑞士境内遇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到了麻烦。当地气温骤降，风雪不止，几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乎所有昆虫都被冻死了。燕子经过长途跋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涉，已经非常疲劳，再加上找不到食物，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饥寒交迫，濒临死亡。瑞士政府知道了这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个情况，决定用火车把这些燕子送到温暖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的地方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609480" y="42670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>
            <a:off x="2438280" y="495288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5" name="">
            <a:hlinkClick r:id="rId4" action="ppaction://hlinksldjump"/>
          </p:cNvPr>
          <p:cNvSpPr/>
          <p:nvPr/>
        </p:nvSpPr>
        <p:spPr>
          <a:xfrm>
            <a:off x="2895480" y="289548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6" name="">
            <a:hlinkClick r:id="rId5" action="ppaction://hlinksldjump"/>
          </p:cNvPr>
          <p:cNvSpPr/>
          <p:nvPr/>
        </p:nvSpPr>
        <p:spPr>
          <a:xfrm>
            <a:off x="4648320" y="4952880"/>
            <a:ext cx="1904760" cy="457200"/>
          </a:xfrm>
          <a:custGeom>
            <a:avLst/>
            <a:gdLst>
              <a:gd name="textAreaLeft" fmla="*/ 29520 w 1904760"/>
              <a:gd name="textAreaRight" fmla="*/ 1875240 w 1904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35" h="21600">
                <a:moveTo>
                  <a:pt x="0" y="0"/>
                </a:moveTo>
                <a:lnTo>
                  <a:pt x="89935" y="0"/>
                </a:lnTo>
                <a:lnTo>
                  <a:pt x="89935" y="21600"/>
                </a:lnTo>
                <a:lnTo>
                  <a:pt x="0" y="21600"/>
                </a:lnTo>
                <a:close/>
              </a:path>
              <a:path fill="lightenLess" w="89935" h="21600">
                <a:moveTo>
                  <a:pt x="0" y="0"/>
                </a:moveTo>
                <a:lnTo>
                  <a:pt x="89935" y="0"/>
                </a:lnTo>
                <a:lnTo>
                  <a:pt x="88535" y="1400"/>
                </a:lnTo>
                <a:lnTo>
                  <a:pt x="1400" y="1400"/>
                </a:lnTo>
                <a:close/>
              </a:path>
              <a:path fill="darken" w="89935" h="21600">
                <a:moveTo>
                  <a:pt x="89935" y="0"/>
                </a:moveTo>
                <a:lnTo>
                  <a:pt x="89935" y="21600"/>
                </a:lnTo>
                <a:lnTo>
                  <a:pt x="88535" y="20200"/>
                </a:lnTo>
                <a:lnTo>
                  <a:pt x="88535" y="1400"/>
                </a:lnTo>
                <a:close/>
              </a:path>
              <a:path fill="darkenLess" w="89935" h="21600">
                <a:moveTo>
                  <a:pt x="89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35" y="20200"/>
                </a:lnTo>
                <a:close/>
              </a:path>
              <a:path fill="lighten" w="89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3733920"/>
            <a:ext cx="3240000" cy="1657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饥寒交迫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6019560" cy="4496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447920" y="1295280"/>
            <a:ext cx="6100560" cy="4577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447920" y="12952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447920" y="12952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447920" y="12952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1447920" y="12952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1371600" y="1219320"/>
            <a:ext cx="6296040" cy="4814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371600" y="1219320"/>
            <a:ext cx="6400800" cy="4914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500"/>
                            </p:stCondLst>
                            <p:childTnLst>
                              <p:par>
                                <p:cTn id="35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19320" y="297180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46101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510552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295280"/>
            <a:ext cx="762012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事情是这样的：这年春天，成千上万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只燕子从南方飞回北方时，在瑞士境内遇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到了麻烦。当地气温骤降，风雪不止，几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乎所有昆虫都被冻死了。燕子经过长途跋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涉，已经非常疲劳，再加上找不到食物，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饥寒交迫，濒临死亡。瑞士政府知道了这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个情况，决定用火车把这些燕子送到温暖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的地方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2670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495288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289548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4952880"/>
            <a:ext cx="1904760" cy="457200"/>
          </a:xfrm>
          <a:custGeom>
            <a:avLst/>
            <a:gdLst>
              <a:gd name="textAreaLeft" fmla="*/ 29520 w 1904760"/>
              <a:gd name="textAreaRight" fmla="*/ 1875240 w 1904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35" h="21600">
                <a:moveTo>
                  <a:pt x="0" y="0"/>
                </a:moveTo>
                <a:lnTo>
                  <a:pt x="89935" y="0"/>
                </a:lnTo>
                <a:lnTo>
                  <a:pt x="89935" y="21600"/>
                </a:lnTo>
                <a:lnTo>
                  <a:pt x="0" y="21600"/>
                </a:lnTo>
                <a:close/>
              </a:path>
              <a:path fill="lightenLess" w="89935" h="21600">
                <a:moveTo>
                  <a:pt x="0" y="0"/>
                </a:moveTo>
                <a:lnTo>
                  <a:pt x="89935" y="0"/>
                </a:lnTo>
                <a:lnTo>
                  <a:pt x="88535" y="1400"/>
                </a:lnTo>
                <a:lnTo>
                  <a:pt x="1400" y="1400"/>
                </a:lnTo>
                <a:close/>
              </a:path>
              <a:path fill="darken" w="89935" h="21600">
                <a:moveTo>
                  <a:pt x="89935" y="0"/>
                </a:moveTo>
                <a:lnTo>
                  <a:pt x="89935" y="21600"/>
                </a:lnTo>
                <a:lnTo>
                  <a:pt x="88535" y="20200"/>
                </a:lnTo>
                <a:lnTo>
                  <a:pt x="88535" y="1400"/>
                </a:lnTo>
                <a:close/>
              </a:path>
              <a:path fill="darkenLess" w="89935" h="21600">
                <a:moveTo>
                  <a:pt x="89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35" y="20200"/>
                </a:lnTo>
                <a:close/>
              </a:path>
              <a:path fill="lighten" w="89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3733920"/>
            <a:ext cx="3240360" cy="1657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濒临死亡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19320" y="297180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4610160"/>
            <a:ext cx="7238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510552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1563840"/>
            <a:ext cx="76201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这年春天，成千上万只燕子从南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方飞回北方时，在瑞士境内遇到了麻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烦。当地气温骤降，风雪不止，几乎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所有昆虫都被冻死了。燕子经过长途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跋涉，已经非常疲劳，再加上找不到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食物，饥寒交迫，濒临死亡。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55640" y="1125360"/>
            <a:ext cx="7345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80"/>
                </a:solidFill>
                <a:latin typeface="Arial"/>
                <a:ea typeface="隶书"/>
              </a:rPr>
              <a:t>        </a:t>
            </a:r>
            <a:r>
              <a:rPr b="0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听到消息后，居民们 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走出家门，   料峭的春寒，   满天飞舞的大雪，   冻得坚硬的山路，             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寻找冻僵的燕子。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2440" y="1844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纷纷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2440" y="4005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四处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61880" y="1844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冒着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15960" y="256536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顶着</a:t>
            </a:r>
            <a:r>
              <a:rPr b="0" lang="zh-CN" sz="4800" spc="-1" strike="noStrike">
                <a:solidFill>
                  <a:srgbClr val="800080"/>
                </a:solidFill>
                <a:latin typeface="Arial"/>
                <a:ea typeface="隶书"/>
              </a:rPr>
              <a:t> 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19280" y="3284640"/>
            <a:ext cx="14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踏着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887480" y="4083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76360" y="2276640"/>
            <a:ext cx="201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4920" y="0"/>
            <a:ext cx="45363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800080"/>
                </a:solidFill>
                <a:latin typeface="Arial"/>
                <a:ea typeface="隶书"/>
              </a:rPr>
              <a:t>一个叫贝蒂的小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Arial"/>
                <a:ea typeface="隶书"/>
              </a:rPr>
              <a:t>姑娘，听到广播后，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Arial"/>
                <a:ea typeface="隶书"/>
              </a:rPr>
              <a:t>和爸爸妈妈一起，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Arial"/>
                <a:ea typeface="隶书"/>
              </a:rPr>
              <a:t>在覆盖着皑皑白雪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Arial"/>
                <a:ea typeface="隶书"/>
              </a:rPr>
              <a:t>的山间岩缝里，寻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Arial"/>
                <a:ea typeface="隶书"/>
              </a:rPr>
              <a:t>找冻僵的檐子。一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Arial"/>
                <a:ea typeface="隶书"/>
              </a:rPr>
              <a:t>天下来，她一个人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Arial"/>
                <a:ea typeface="隶书"/>
              </a:rPr>
              <a:t>就救护了十几只燕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Arial"/>
                <a:ea typeface="隶书"/>
              </a:rPr>
              <a:t>子。她的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Arial"/>
                <a:ea typeface="隶书"/>
              </a:rPr>
              <a:t>但她一点也           。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56000" y="6040440"/>
            <a:ext cx="17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Arial"/>
                <a:ea typeface="隶书"/>
              </a:rPr>
              <a:t>不在乎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4869000"/>
            <a:ext cx="42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80"/>
                </a:solidFill>
                <a:latin typeface="Arial"/>
                <a:ea typeface="隶书"/>
              </a:rPr>
              <a:t>         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脸冻得通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红，手冻得僵硬，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71600" y="259092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800080"/>
                </a:solidFill>
                <a:latin typeface="隶书"/>
                <a:ea typeface="隶书"/>
              </a:rPr>
              <a:t>   </a:t>
            </a:r>
            <a:r>
              <a:rPr b="1" lang="zh-CN" sz="9600" spc="-1" strike="noStrike">
                <a:solidFill>
                  <a:srgbClr val="800080"/>
                </a:solidFill>
                <a:latin typeface="隶书"/>
                <a:ea typeface="隶书"/>
              </a:rPr>
              <a:t>再 见</a:t>
            </a:r>
            <a:r>
              <a:rPr b="1" lang="zh-CN" sz="8000" spc="-1" strike="noStrike">
                <a:solidFill>
                  <a:srgbClr val="800080"/>
                </a:solidFill>
                <a:latin typeface="隶书"/>
                <a:ea typeface="隶书"/>
              </a:rPr>
              <a:t> </a:t>
            </a:r>
            <a:endParaRPr b="0" lang="en-US" sz="8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4419720"/>
            <a:ext cx="1905120" cy="457200"/>
          </a:xfrm>
          <a:custGeom>
            <a:avLst/>
            <a:gdLst>
              <a:gd name="textAreaLeft" fmla="*/ 29520 w 1905120"/>
              <a:gd name="textAreaRight" fmla="*/ 1875600 w 1905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52" h="21600">
                <a:moveTo>
                  <a:pt x="0" y="0"/>
                </a:moveTo>
                <a:lnTo>
                  <a:pt x="89952" y="0"/>
                </a:lnTo>
                <a:lnTo>
                  <a:pt x="89952" y="21600"/>
                </a:lnTo>
                <a:lnTo>
                  <a:pt x="0" y="21600"/>
                </a:lnTo>
                <a:close/>
              </a:path>
              <a:path fill="lightenLess" w="89952" h="21600">
                <a:moveTo>
                  <a:pt x="0" y="0"/>
                </a:moveTo>
                <a:lnTo>
                  <a:pt x="89952" y="0"/>
                </a:lnTo>
                <a:lnTo>
                  <a:pt x="88552" y="1400"/>
                </a:lnTo>
                <a:lnTo>
                  <a:pt x="1400" y="1400"/>
                </a:lnTo>
                <a:close/>
              </a:path>
              <a:path fill="darken" w="89952" h="21600">
                <a:moveTo>
                  <a:pt x="89952" y="0"/>
                </a:moveTo>
                <a:lnTo>
                  <a:pt x="89952" y="21600"/>
                </a:lnTo>
                <a:lnTo>
                  <a:pt x="88552" y="20200"/>
                </a:lnTo>
                <a:lnTo>
                  <a:pt x="88552" y="1400"/>
                </a:lnTo>
                <a:close/>
              </a:path>
              <a:path fill="darkenLess" w="89952" h="21600">
                <a:moveTo>
                  <a:pt x="89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52" y="20200"/>
                </a:lnTo>
                <a:close/>
              </a:path>
              <a:path fill="lighten" w="89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-171360"/>
            <a:ext cx="9372600" cy="7029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258920" y="1773360"/>
            <a:ext cx="72738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90720" y="3962520"/>
            <a:ext cx="792468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有一年春天，在欧（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ōu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）洲（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zhōu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）瑞（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ruì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）  士的一个车站，一列漂亮舒适的空调列  车正准备启（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qǐ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）程，站台上站满了送行的人。他们送的是一批特殊（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shū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）的客人——燕子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7010280" y="5867280"/>
            <a:ext cx="2362320" cy="990720"/>
          </a:xfrm>
          <a:custGeom>
            <a:avLst/>
            <a:gdLst>
              <a:gd name="textAreaLeft" fmla="*/ 64080 w 2362320"/>
              <a:gd name="textAreaRight" fmla="*/ 2298240 w 2362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1493" h="21600">
                <a:moveTo>
                  <a:pt x="0" y="0"/>
                </a:moveTo>
                <a:lnTo>
                  <a:pt x="51493" y="0"/>
                </a:lnTo>
                <a:lnTo>
                  <a:pt x="51493" y="21600"/>
                </a:lnTo>
                <a:lnTo>
                  <a:pt x="0" y="21600"/>
                </a:lnTo>
                <a:close/>
              </a:path>
              <a:path fill="lightenLess" w="51493" h="21600">
                <a:moveTo>
                  <a:pt x="0" y="0"/>
                </a:moveTo>
                <a:lnTo>
                  <a:pt x="51493" y="0"/>
                </a:lnTo>
                <a:lnTo>
                  <a:pt x="50093" y="1400"/>
                </a:lnTo>
                <a:lnTo>
                  <a:pt x="1400" y="1400"/>
                </a:lnTo>
                <a:close/>
              </a:path>
              <a:path fill="darken" w="51493" h="21600">
                <a:moveTo>
                  <a:pt x="51493" y="0"/>
                </a:moveTo>
                <a:lnTo>
                  <a:pt x="51493" y="21600"/>
                </a:lnTo>
                <a:lnTo>
                  <a:pt x="50093" y="20200"/>
                </a:lnTo>
                <a:lnTo>
                  <a:pt x="50093" y="1400"/>
                </a:lnTo>
                <a:close/>
              </a:path>
              <a:path fill="darkenLess" w="51493" h="21600">
                <a:moveTo>
                  <a:pt x="51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093" y="20200"/>
                </a:lnTo>
                <a:close/>
              </a:path>
              <a:path fill="lighten" w="51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493" h="21600">
                <a:moveTo>
                  <a:pt x="18740" y="10800"/>
                </a:moveTo>
                <a:lnTo>
                  <a:pt x="32753" y="3794"/>
                </a:lnTo>
                <a:lnTo>
                  <a:pt x="3275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4495680" y="4114800"/>
            <a:ext cx="3505320" cy="457200"/>
          </a:xfrm>
          <a:custGeom>
            <a:avLst/>
            <a:gdLst>
              <a:gd name="textAreaLeft" fmla="*/ 29520 w 3505320"/>
              <a:gd name="textAreaRight" fmla="*/ 3475800 w 3505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5492" h="21600">
                <a:moveTo>
                  <a:pt x="0" y="0"/>
                </a:moveTo>
                <a:lnTo>
                  <a:pt x="165492" y="0"/>
                </a:lnTo>
                <a:lnTo>
                  <a:pt x="165492" y="21600"/>
                </a:lnTo>
                <a:lnTo>
                  <a:pt x="0" y="21600"/>
                </a:lnTo>
                <a:close/>
              </a:path>
              <a:path fill="lightenLess" w="165492" h="21600">
                <a:moveTo>
                  <a:pt x="0" y="0"/>
                </a:moveTo>
                <a:lnTo>
                  <a:pt x="165492" y="0"/>
                </a:lnTo>
                <a:lnTo>
                  <a:pt x="164092" y="1400"/>
                </a:lnTo>
                <a:lnTo>
                  <a:pt x="1400" y="1400"/>
                </a:lnTo>
                <a:close/>
              </a:path>
              <a:path fill="darken" w="165492" h="21600">
                <a:moveTo>
                  <a:pt x="165492" y="0"/>
                </a:moveTo>
                <a:lnTo>
                  <a:pt x="165492" y="21600"/>
                </a:lnTo>
                <a:lnTo>
                  <a:pt x="164092" y="20200"/>
                </a:lnTo>
                <a:lnTo>
                  <a:pt x="164092" y="1400"/>
                </a:lnTo>
                <a:close/>
              </a:path>
              <a:path fill="darkenLess" w="165492" h="21600">
                <a:moveTo>
                  <a:pt x="165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4092" y="20200"/>
                </a:lnTo>
                <a:close/>
              </a:path>
              <a:path fill="lighten" w="165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1219320" y="4495680"/>
            <a:ext cx="1676160" cy="457200"/>
          </a:xfrm>
          <a:custGeom>
            <a:avLst/>
            <a:gdLst>
              <a:gd name="textAreaLeft" fmla="*/ 29520 w 1676160"/>
              <a:gd name="textAreaRight" fmla="*/ 1646640 w 1676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43" h="21600">
                <a:moveTo>
                  <a:pt x="0" y="0"/>
                </a:moveTo>
                <a:lnTo>
                  <a:pt x="79143" y="0"/>
                </a:lnTo>
                <a:lnTo>
                  <a:pt x="79143" y="21600"/>
                </a:lnTo>
                <a:lnTo>
                  <a:pt x="0" y="21600"/>
                </a:lnTo>
                <a:close/>
              </a:path>
              <a:path fill="lightenLess" w="79143" h="21600">
                <a:moveTo>
                  <a:pt x="0" y="0"/>
                </a:moveTo>
                <a:lnTo>
                  <a:pt x="79143" y="0"/>
                </a:lnTo>
                <a:lnTo>
                  <a:pt x="77743" y="1400"/>
                </a:lnTo>
                <a:lnTo>
                  <a:pt x="1400" y="1400"/>
                </a:lnTo>
                <a:close/>
              </a:path>
              <a:path fill="darken" w="79143" h="21600">
                <a:moveTo>
                  <a:pt x="79143" y="0"/>
                </a:moveTo>
                <a:lnTo>
                  <a:pt x="79143" y="21600"/>
                </a:lnTo>
                <a:lnTo>
                  <a:pt x="77743" y="20200"/>
                </a:lnTo>
                <a:lnTo>
                  <a:pt x="77743" y="1400"/>
                </a:lnTo>
                <a:close/>
              </a:path>
              <a:path fill="darkenLess" w="79143" h="21600">
                <a:moveTo>
                  <a:pt x="79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43" y="20200"/>
                </a:lnTo>
                <a:close/>
              </a:path>
              <a:path fill="lighten" w="79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9" name="">
            <a:hlinkClick r:id="rId5" action="ppaction://hlinksldjump"/>
          </p:cNvPr>
          <p:cNvSpPr/>
          <p:nvPr/>
        </p:nvSpPr>
        <p:spPr>
          <a:xfrm>
            <a:off x="2514600" y="4952880"/>
            <a:ext cx="1752480" cy="457200"/>
          </a:xfrm>
          <a:custGeom>
            <a:avLst/>
            <a:gdLst>
              <a:gd name="textAreaLeft" fmla="*/ 29520 w 1752480"/>
              <a:gd name="textAreaRight" fmla="*/ 1722960 w 1752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46" h="21600">
                <a:moveTo>
                  <a:pt x="0" y="0"/>
                </a:moveTo>
                <a:lnTo>
                  <a:pt x="82746" y="0"/>
                </a:lnTo>
                <a:lnTo>
                  <a:pt x="82746" y="21600"/>
                </a:lnTo>
                <a:lnTo>
                  <a:pt x="0" y="21600"/>
                </a:lnTo>
                <a:close/>
              </a:path>
              <a:path fill="lightenLess" w="82746" h="21600">
                <a:moveTo>
                  <a:pt x="0" y="0"/>
                </a:moveTo>
                <a:lnTo>
                  <a:pt x="82746" y="0"/>
                </a:lnTo>
                <a:lnTo>
                  <a:pt x="81346" y="1400"/>
                </a:lnTo>
                <a:lnTo>
                  <a:pt x="1400" y="1400"/>
                </a:lnTo>
                <a:close/>
              </a:path>
              <a:path fill="darken" w="82746" h="21600">
                <a:moveTo>
                  <a:pt x="82746" y="0"/>
                </a:moveTo>
                <a:lnTo>
                  <a:pt x="82746" y="21600"/>
                </a:lnTo>
                <a:lnTo>
                  <a:pt x="81346" y="20200"/>
                </a:lnTo>
                <a:lnTo>
                  <a:pt x="81346" y="1400"/>
                </a:lnTo>
                <a:close/>
              </a:path>
              <a:path fill="darkenLess" w="82746" h="21600">
                <a:moveTo>
                  <a:pt x="82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46" y="20200"/>
                </a:lnTo>
                <a:close/>
              </a:path>
              <a:path fill="lighten" w="82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3581280" y="5410080"/>
            <a:ext cx="1905120" cy="457200"/>
          </a:xfrm>
          <a:custGeom>
            <a:avLst/>
            <a:gdLst>
              <a:gd name="textAreaLeft" fmla="*/ 29520 w 1905120"/>
              <a:gd name="textAreaRight" fmla="*/ 1875600 w 1905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52" h="21600">
                <a:moveTo>
                  <a:pt x="0" y="0"/>
                </a:moveTo>
                <a:lnTo>
                  <a:pt x="89952" y="0"/>
                </a:lnTo>
                <a:lnTo>
                  <a:pt x="89952" y="21600"/>
                </a:lnTo>
                <a:lnTo>
                  <a:pt x="0" y="21600"/>
                </a:lnTo>
                <a:close/>
              </a:path>
              <a:path fill="lightenLess" w="89952" h="21600">
                <a:moveTo>
                  <a:pt x="0" y="0"/>
                </a:moveTo>
                <a:lnTo>
                  <a:pt x="89952" y="0"/>
                </a:lnTo>
                <a:lnTo>
                  <a:pt x="88552" y="1400"/>
                </a:lnTo>
                <a:lnTo>
                  <a:pt x="1400" y="1400"/>
                </a:lnTo>
                <a:close/>
              </a:path>
              <a:path fill="darken" w="89952" h="21600">
                <a:moveTo>
                  <a:pt x="89952" y="0"/>
                </a:moveTo>
                <a:lnTo>
                  <a:pt x="89952" y="21600"/>
                </a:lnTo>
                <a:lnTo>
                  <a:pt x="88552" y="20200"/>
                </a:lnTo>
                <a:lnTo>
                  <a:pt x="88552" y="1400"/>
                </a:lnTo>
                <a:close/>
              </a:path>
              <a:path fill="darkenLess" w="89952" h="21600">
                <a:moveTo>
                  <a:pt x="89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52" y="20200"/>
                </a:lnTo>
                <a:close/>
              </a:path>
              <a:path fill="lighten" w="89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1332000" y="836640"/>
            <a:ext cx="6769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532720" cy="3645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00000" y="4101840"/>
            <a:ext cx="700560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隶书"/>
                <a:ea typeface="隶书"/>
              </a:rPr>
              <a:t>          </a:t>
            </a:r>
            <a:r>
              <a:rPr b="0" lang="zh-CN" sz="4400" spc="-1" strike="noStrike">
                <a:solidFill>
                  <a:srgbClr val="800080"/>
                </a:solidFill>
                <a:latin typeface="隶书"/>
                <a:ea typeface="隶书"/>
              </a:rPr>
              <a:t>燕子专列是专门把燕子从（       ）送到（     ）的火车。</a:t>
            </a: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934320" y="3200400"/>
            <a:ext cx="47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欧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洲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90720" y="1523880"/>
            <a:ext cx="7200720" cy="407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0" y="762120"/>
            <a:ext cx="6019920" cy="5519520"/>
            <a:chOff x="2286000" y="762120"/>
            <a:chExt cx="6019920" cy="551952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8370" r="0" b="0"/>
            <a:stretch/>
          </p:blipFill>
          <p:spPr>
            <a:xfrm>
              <a:off x="2286000" y="762120"/>
              <a:ext cx="4816440" cy="55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7451640" y="2514600"/>
              <a:ext cx="854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欧</a:t>
              </a:r>
              <a:endParaRPr b="0" lang="en-US" sz="36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洲</a:t>
              </a:r>
              <a:endParaRPr b="0" lang="en-US" sz="3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2286000" y="762120"/>
            <a:ext cx="6019920" cy="5519520"/>
            <a:chOff x="2286000" y="762120"/>
            <a:chExt cx="6019920" cy="5519520"/>
          </a:xfrm>
        </p:grpSpPr>
        <p:pic>
          <p:nvPicPr>
            <p:cNvPr id="72" name="" descr=""/>
            <p:cNvPicPr/>
            <p:nvPr/>
          </p:nvPicPr>
          <p:blipFill>
            <a:blip r:embed="rId2"/>
            <a:srcRect l="0" t="8370" r="0" b="0"/>
            <a:stretch/>
          </p:blipFill>
          <p:spPr>
            <a:xfrm>
              <a:off x="2286000" y="762120"/>
              <a:ext cx="4816440" cy="55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451640" y="2514600"/>
              <a:ext cx="854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欧</a:t>
              </a:r>
              <a:endParaRPr b="0" lang="en-US" sz="36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80008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洲</a:t>
              </a:r>
              <a:endParaRPr b="0" lang="en-US" sz="36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6400" y="3809880"/>
            <a:ext cx="1277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瑞  士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4267080"/>
            <a:ext cx="2666880" cy="304920"/>
          </a:xfrm>
          <a:prstGeom prst="rightArrow">
            <a:avLst>
              <a:gd name="adj1" fmla="val 50000"/>
              <a:gd name="adj2" fmla="val 218654"/>
            </a:avLst>
          </a:prstGeom>
          <a:solidFill>
            <a:srgbClr val="ff33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3511440" y="2276640"/>
            <a:ext cx="2736720" cy="2820960"/>
            <a:chOff x="3511440" y="2276640"/>
            <a:chExt cx="2736720" cy="2820960"/>
          </a:xfrm>
        </p:grpSpPr>
        <p:sp>
          <p:nvSpPr>
            <p:cNvPr id="78" name=""/>
            <p:cNvSpPr/>
            <p:nvPr/>
          </p:nvSpPr>
          <p:spPr>
            <a:xfrm>
              <a:off x="3582720" y="3357720"/>
              <a:ext cx="2665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启 程　　</a:t>
              </a:r>
              <a:endParaRPr b="0" lang="en-US" sz="5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11440" y="2276640"/>
              <a:ext cx="1425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800080"/>
                  </a:solidFill>
                  <a:latin typeface="Times New Roman"/>
                </a:rPr>
                <a:t>qǐ</a:t>
              </a:r>
              <a:endParaRPr b="0" lang="en-US" sz="54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7010280" y="5867280"/>
            <a:ext cx="2133720" cy="990720"/>
          </a:xfrm>
          <a:custGeom>
            <a:avLst/>
            <a:gdLst>
              <a:gd name="textAreaLeft" fmla="*/ 64080 w 2133720"/>
              <a:gd name="textAreaRight" fmla="*/ 2069640 w 2133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11" h="21600">
                <a:moveTo>
                  <a:pt x="0" y="0"/>
                </a:moveTo>
                <a:lnTo>
                  <a:pt x="46511" y="0"/>
                </a:lnTo>
                <a:lnTo>
                  <a:pt x="46511" y="21600"/>
                </a:lnTo>
                <a:lnTo>
                  <a:pt x="0" y="21600"/>
                </a:lnTo>
                <a:close/>
              </a:path>
              <a:path fill="lightenLess" w="46511" h="21600">
                <a:moveTo>
                  <a:pt x="0" y="0"/>
                </a:moveTo>
                <a:lnTo>
                  <a:pt x="46511" y="0"/>
                </a:lnTo>
                <a:lnTo>
                  <a:pt x="45111" y="1400"/>
                </a:lnTo>
                <a:lnTo>
                  <a:pt x="1400" y="1400"/>
                </a:lnTo>
                <a:close/>
              </a:path>
              <a:path fill="darken" w="46511" h="21600">
                <a:moveTo>
                  <a:pt x="46511" y="0"/>
                </a:moveTo>
                <a:lnTo>
                  <a:pt x="46511" y="21600"/>
                </a:lnTo>
                <a:lnTo>
                  <a:pt x="45111" y="20200"/>
                </a:lnTo>
                <a:lnTo>
                  <a:pt x="45111" y="1400"/>
                </a:lnTo>
                <a:close/>
              </a:path>
              <a:path fill="darkenLess" w="46511" h="21600">
                <a:moveTo>
                  <a:pt x="465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11" y="20200"/>
                </a:lnTo>
                <a:close/>
              </a:path>
              <a:path fill="lighten" w="465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11" h="21600">
                <a:moveTo>
                  <a:pt x="16249" y="10800"/>
                </a:moveTo>
                <a:lnTo>
                  <a:pt x="30262" y="3794"/>
                </a:lnTo>
                <a:lnTo>
                  <a:pt x="302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2:55:00Z</dcterms:created>
  <dc:creator/>
  <dc:description/>
  <dc:language>en-US</dc:language>
  <cp:lastModifiedBy>创编</cp:lastModifiedBy>
  <dcterms:modified xsi:type="dcterms:W3CDTF">2010-01-31T21:39:13Z</dcterms:modified>
  <cp:revision>145</cp:revision>
  <dc:subject/>
  <dc:title/>
</cp:coreProperties>
</file>