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7E37-1C51-4DEF-BC78-D2208EB3A8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9FEC-7966-48D8-8A9D-3B018D4D2E4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点击图片观看视频。这段视频配合课文的第三、四自然段教学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460D-C832-4EEF-A59A-4DAB4AF6E69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zypyyb"/>
                <a:ea typeface="zypyyb"/>
              </a:rPr>
              <a:t>（点击图片欣赏）让学生看图片和文字用自己的话复述课文内容。也可用来概括课文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AF36-4766-4103-8912-CD3AAA6F130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出示读书思考问题时点击幻灯片下的按钮，三个思考问题，一个一个的出示，然后可回到第二张幻灯片（雅鲁藏布大峡谷），在学生交流答案时，再点击到这里，显示答案就直接点击幻灯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E48-27E2-4C29-AE1B-4EA88F20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7C5-E749-4B0A-9F0D-3D16E510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5DE-0E73-4DA3-AF34-2FDD9533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DF4-0F2F-450C-A9BC-90040723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6A2-01D7-4E1F-AB51-3374FEC6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7C3-A0A5-4391-9B06-718CD972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CD5-506E-43D2-88F3-5474E929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B64-5053-4B97-942A-6F63A530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DBA-3B7D-4305-A87A-19A403D9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724-D9BF-447A-B81A-723E4FAF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9E4-7593-4EF1-924F-4DBB9AEE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AA2-43F7-4E87-9A8B-FF3C65A3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A3B5-AF6F-4289-8101-ED929BEB131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雅鲁藏布大峡谷25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06736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/>
          <p:cNvSpPr/>
          <p:nvPr/>
        </p:nvSpPr>
        <p:spPr>
          <a:xfrm>
            <a:off x="0" y="5543640"/>
            <a:ext cx="2514600" cy="838080"/>
          </a:xfrm>
          <a:prstGeom prst="cloudCallout">
            <a:avLst>
              <a:gd name="adj1" fmla="val 30115"/>
              <a:gd name="adj2" fmla="val -137120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课文诵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7">
            <a:hlinkClick r:id="rId2" action="ppaction://hlinksldjump"/>
          </p:cNvPr>
          <p:cNvSpPr/>
          <p:nvPr/>
        </p:nvSpPr>
        <p:spPr>
          <a:xfrm>
            <a:off x="6629400" y="5410080"/>
            <a:ext cx="2514600" cy="838440"/>
          </a:xfrm>
          <a:prstGeom prst="cloudCallout">
            <a:avLst>
              <a:gd name="adj1" fmla="val -27537"/>
              <a:gd name="adj2" fmla="val -100759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读书思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4495680" y="6019920"/>
            <a:ext cx="2597400" cy="838080"/>
          </a:xfrm>
          <a:prstGeom prst="cloudCallout">
            <a:avLst>
              <a:gd name="adj1" fmla="val -29101"/>
              <a:gd name="adj2" fmla="val -15303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自学质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2133720" y="6019920"/>
            <a:ext cx="2209680" cy="838080"/>
          </a:xfrm>
          <a:prstGeom prst="cloudCallout">
            <a:avLst>
              <a:gd name="adj1" fmla="val 33407"/>
              <a:gd name="adj2" fmla="val -148486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读一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560" y="9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雅鲁藏布大峡谷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当易网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://www.downyi.c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4656240" y="476280"/>
            <a:ext cx="388764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雅鲁藏布大峡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位于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界屋脊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青藏高原之上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均海拔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00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以上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峡谷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险峻幽深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激流咆哮，具有从高山冰雪带到低河谷准热带季雨林等九个垂直自然带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世界山地垂直自然带最齐全、最完整的地方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里麇（</a:t>
            </a:r>
            <a:r>
              <a:rPr b="0" lang="en-US" sz="2800" spc="-1" strike="noStrike">
                <a:solidFill>
                  <a:srgbClr val="ff0000"/>
                </a:solidFill>
                <a:latin typeface="zypyyb"/>
                <a:ea typeface="zypyyb"/>
              </a:rPr>
              <a:t>q*n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集了许多生物资源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堪称世界之最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Object 23"/>
          <p:cNvGraphicFramePr/>
          <p:nvPr/>
        </p:nvGraphicFramePr>
        <p:xfrm>
          <a:off x="0" y="0"/>
          <a:ext cx="4572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572000" cy="685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3123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珠 穆 朗 玛    涓 涓 细 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滔 滔 江 水   山 脉   花 卉   罕 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395440" y="2514600"/>
            <a:ext cx="21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zypyyb"/>
                <a:ea typeface="zypyyb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zypyyb"/>
              </a:rPr>
              <a:t>ù</a:t>
            </a:r>
            <a:r>
              <a:rPr b="1" lang="en-US" sz="2800" spc="-1" strike="noStrike">
                <a:solidFill>
                  <a:srgbClr val="ff0000"/>
                </a:solidFill>
                <a:latin typeface="zypyyb"/>
                <a:ea typeface="zypyyb"/>
              </a:rPr>
              <a:t>     m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143000" y="1677960"/>
            <a:ext cx="678168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09480" y="4114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zypyyb"/>
                <a:ea typeface="zypyyb"/>
              </a:rPr>
              <a:t>tā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7429680" y="4114800"/>
            <a:ext cx="8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zypyyb"/>
                <a:ea typeface="zypyyb"/>
              </a:rPr>
              <a:t>hǎ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505400" y="411480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zypyyb"/>
                <a:ea typeface="zypyyb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zypyyb"/>
              </a:rPr>
              <a:t>à</a:t>
            </a:r>
            <a:r>
              <a:rPr b="1" lang="en-US" sz="2800" spc="-1" strike="noStrike">
                <a:solidFill>
                  <a:srgbClr val="ff0000"/>
                </a:solidFill>
                <a:latin typeface="zypyyb"/>
                <a:ea typeface="zypyyb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305400" y="4114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zypyyb"/>
                <a:ea typeface="zypyyb"/>
              </a:rPr>
              <a:t>hu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zypyyb"/>
              </a:rPr>
              <a:t>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986360" y="2514600"/>
            <a:ext cx="95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zypyyb"/>
                <a:ea typeface="zypyyb"/>
              </a:rPr>
              <a:t>juā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读书思考：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914400" y="1447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用什么来证明雅鲁藏布大峡谷是世界第一大峡谷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914400" y="342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作者用非常具体、准确的数字来证明雅鲁藏布大峡谷是世界第一大峡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3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85800" y="99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中一连几处用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    到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句式，读了这些句子，你感受到了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26920" y="3141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作者反复用</a:t>
            </a:r>
            <a:r>
              <a:rPr b="0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从</a:t>
            </a:r>
            <a:r>
              <a:rPr b="0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…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到</a:t>
            </a:r>
            <a:r>
              <a:rPr b="0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…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句式。使我们形象地感到大峡谷的雪山冰川和原始森林范围广大，形态多样，让人感觉到大自然的神奇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5905440" y="838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277040" y="838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914400" y="1447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什么把九个垂直自然带比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凌空展开的一幅神奇美丽的画卷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55640" y="3284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这些景观都在海拔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00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米以上的山坡上，于是就有凌空的感觉；而且每一个自然景色都不相同，说它是神奇美丽的画卷是非常确切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1026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027"/>
          <p:cNvSpPr/>
          <p:nvPr/>
        </p:nvSpPr>
        <p:spPr>
          <a:xfrm>
            <a:off x="914400" y="1447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什么把九个垂直自然带比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凌空展开的一幅神奇美丽的画卷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684360" y="31417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这些景观都在海拔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00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米以上的山坡上，于是就有凌空的感觉；而且每一个自然景色都不相同，说它是神奇美丽的画卷是非常确切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学质疑：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14400" y="1447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从哪几方面介绍大峡谷的，找出能概括段意的句子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36480" y="270828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是不容置疑的世界第一大峡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映衬着雪山冰川和郁郁苍苍的原始林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大峡谷的奇异景观还体现在生物的多样性上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学质疑：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914400" y="1447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从哪几方面介绍大峡谷的，找出能概括段意的句子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5640" y="278136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是不容置疑的世界第一大峡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映衬着雪山冰川和郁郁苍苍的原始林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大峡谷的奇异景观还体现在生物的多样性上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当易网 http://www.downyi.com</dc:creator>
  <dc:description>当易网 http://www.downyi.com</dc:description>
  <cp:keywords>当易网 http:/www.downyi.com</cp:keywords>
  <dc:language>en-US</dc:language>
  <cp:lastModifiedBy>Administrator</cp:lastModifiedBy>
  <dcterms:modified xsi:type="dcterms:W3CDTF">2016-07-08T09:11:47Z</dcterms:modified>
  <cp:revision>86</cp:revision>
  <dc:subject>当易网 http://www.downyi.com</dc:subject>
  <dc:title>当易网 http://www.downyi.com</dc:title>
</cp:coreProperties>
</file>