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938-83F4-4B8D-853E-A5FC55D4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043-C70B-46A5-873B-5E1FFD1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1C8-40FC-4EC6-9EC4-FDA36D62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02C-B9C0-42C4-B05F-653B168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82A6-7F36-4B50-8DEB-3DD6AB3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022-0AAA-42CF-9DAC-E5A973F1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46A0-8FA5-4F71-9FD9-A0E64916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2FE-CE6B-4C9E-99A8-487C8D1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B82F-E811-4A44-9A59-2275E552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DDB-BF6D-4C67-9309-16836EF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C69-28CB-48B0-9A6E-0187127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00A-CF69-4B48-BC7E-64E97B2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FB53-87AE-453A-BD4F-9B43E5F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D84D-6843-4AE0-9D87-E280DE0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AC25-7041-4C14-980A-AC5D83C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C45-8EDD-4806-A5C6-D3414D16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FFA-42E7-4892-8A05-11CC0E9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755-48DA-47D2-9109-F0FFBDD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5D0-7351-4B94-B8F5-B9E1A2D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CD0-C9E2-471E-9A8A-BEB66F0C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2F4-60BC-4DED-B991-A6FB6F3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4F6-2391-42DF-A709-77F2D14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670-D889-49CC-BD60-6D72BD5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0F6-F999-4825-8788-55A8423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811-DF0C-470B-A552-8BFEB2281A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A18-B8CF-47A5-9DAA-E410C268475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51aspx.com/CV/Xuanke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8200" y="2133360"/>
            <a:ext cx="693432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南昌大学选课系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04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姓  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导  师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专  业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源码下载及讨论地址：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http://www.51aspx.com/CV/XuankeDo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199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3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系统的功能介绍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67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0879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3.2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必修课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858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3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选修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675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4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已选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5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设置选课时间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267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6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录入学生和教师信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2671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7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录入教学楼教室信息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8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教师信息管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8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开设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6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9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课程时间地点编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67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毕业设计提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3832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引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的设计与实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的功能介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总结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课系统的核心就是数据库，根据数据库需求分析中的结果建立了选课系统需要的数据库，所有的学生信息及选课信息都存放在数据库中，后面所有的操作本质上都是在对数据库进行操作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08760" y="24382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8480" y="4419720"/>
            <a:ext cx="5834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源码下载及讨论地址：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51aspx.com/CV/Xuanke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引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课题简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线选课系统是学校教务领域中的一个重要系统，涉及教师开课和学生选课的双向交互关系。该系统基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QL Server 20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构建，采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isual Studio.NET200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为开发工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题研究的目的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课系统主要目的就是利用网络实现教师开课的网络化，学生选课的网络化，教师评定学生成绩的网络化等，提高教师和学生的效率，降低管理的成本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系统的设计与实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本系统中，有三类用户：系统管理员，教师和学生。三种不同的用户所具有的操作权限以及操作内容均不一样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.2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系统总体设计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227480" y="22366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46640" y="1905120"/>
            <a:ext cx="15714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用户登录身份验证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975040"/>
            <a:ext cx="38124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选课时间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965320"/>
            <a:ext cx="38088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录入信息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2984400"/>
            <a:ext cx="3808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开设课程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33880" y="2986200"/>
            <a:ext cx="382680" cy="15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辑程序时间地点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19840" y="2984400"/>
            <a:ext cx="3808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评分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965320"/>
            <a:ext cx="381240" cy="14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查看课程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19840" y="3022560"/>
            <a:ext cx="38124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课和锁定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3520" y="2598840"/>
            <a:ext cx="526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2600" y="259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2520" y="26082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2320" y="2608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3160" y="2608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99120" y="26082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8120" y="259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2240" y="2608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3800" y="4881600"/>
            <a:ext cx="538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2880" y="4521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1600" y="4521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22600" y="44928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2240" y="45115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8200" y="450216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55920" y="4464000"/>
            <a:ext cx="97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37280" y="4521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6095880"/>
            <a:ext cx="9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模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51480" y="4881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5257800"/>
            <a:ext cx="72216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访问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571500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71500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.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数据库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2362320"/>
            <a:ext cx="7162560" cy="3200040"/>
            <a:chOff x="914400" y="2362320"/>
            <a:chExt cx="7162560" cy="3200040"/>
          </a:xfrm>
        </p:grpSpPr>
        <p:sp>
          <p:nvSpPr>
            <p:cNvPr id="144" name=""/>
            <p:cNvSpPr/>
            <p:nvPr/>
          </p:nvSpPr>
          <p:spPr>
            <a:xfrm flipV="1">
              <a:off x="7111080" y="2686680"/>
              <a:ext cx="12708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14400" y="2362320"/>
              <a:ext cx="7162560" cy="3200040"/>
              <a:chOff x="914400" y="2362320"/>
              <a:chExt cx="7162560" cy="3200040"/>
            </a:xfrm>
          </p:grpSpPr>
          <p:sp>
            <p:nvSpPr>
              <p:cNvPr id="146" name=""/>
              <p:cNvSpPr/>
              <p:nvPr/>
            </p:nvSpPr>
            <p:spPr>
              <a:xfrm>
                <a:off x="914400" y="247320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师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30240" y="245808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26920" y="2683800"/>
                <a:ext cx="1904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69640" y="2683800"/>
                <a:ext cx="228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11920" y="236232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开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30440" y="2458080"/>
                <a:ext cx="30276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1840" y="247320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课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51640" y="240696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选修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76320" y="248832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学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16080" y="379584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室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87240" y="382608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管理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30080" y="505872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学楼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66000" y="3622680"/>
                <a:ext cx="2425320" cy="7963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上课地点时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78640" y="493236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属于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44400" y="241344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0920" y="2473200"/>
                <a:ext cx="30276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0240" y="376596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52720" y="501336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76360" y="2686680"/>
                <a:ext cx="228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745800" y="2641680"/>
                <a:ext cx="3553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4360" y="2611800"/>
                <a:ext cx="304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447880" y="2656440"/>
                <a:ext cx="20304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641640" y="2716560"/>
                <a:ext cx="25380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4533120" y="2867040"/>
                <a:ext cx="37800" cy="76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2440" y="4024440"/>
                <a:ext cx="304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60400" y="3994200"/>
                <a:ext cx="330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7060320" y="4204800"/>
                <a:ext cx="1260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42960" y="5196960"/>
                <a:ext cx="622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79520" y="5211720"/>
                <a:ext cx="7362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.4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共类与公共页面设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eb.confi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页面设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eb.Confi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是用来保存网站的很多全局设置 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库连接操作类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SP.N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DO.N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技术对数据库进行操作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.4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共类与公共页面设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3400" y="205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工具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yUtilit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网站的编写过程中经常会有很多公共函数调用，把它们都写在一个工具类里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yUtilit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，每个函数作为工具类的一个静态成员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是所有用户公用的功能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u</cp:lastModifiedBy>
  <dcterms:modified xsi:type="dcterms:W3CDTF">2008-08-20T07:31:44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