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8.jpeg" ContentType="image/jpeg"/>
  <Override PartName="/ppt/media/image13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2.wmf" ContentType="image/x-wmf"/>
  <Override PartName="/ppt/media/chimes.wav" ContentType="audio/x-wav"/>
  <Override PartName="/ppt/media/image16.jpeg" ContentType="image/jpeg"/>
  <Override PartName="/ppt/media/image6.jpeg" ContentType="image/jpeg"/>
  <Override PartName="/ppt/media/image5.gif" ContentType="image/gif"/>
  <Override PartName="/ppt/media/image2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20.jpeg" ContentType="image/jpeg"/>
  <Override PartName="/ppt/media/image19.gif" ContentType="image/gif"/>
  <Override PartName="/ppt/media/image24.png" ContentType="image/png"/>
  <Override PartName="/ppt/media/image18.jpeg" ContentType="image/jpeg"/>
  <Override PartName="/ppt/media/type.wav" ContentType="audio/x-wav"/>
  <Override PartName="/ppt/media/image17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A24-4D20-4398-B9AA-13E8510E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D7A-D79D-4045-BF85-147FEE63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EC3-B7B5-41DE-9C51-243EBA96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46D-2B8F-4D30-A956-6C84A09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1BE-BD4A-4808-8718-F5D11CD5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6BD-95CD-4F7E-BB90-71F551BB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F93-AA0E-483F-B913-4C7BD03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161-737D-439C-B0AF-BB822A1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D6E-315E-4063-ABFF-1FDC0A8F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DD8-DA26-43C1-8C2B-9CE3673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9E3-8B76-4F94-A5DE-6923E88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F9E-FF8F-4FAE-A65C-D4621E6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2E50-5955-4B0B-BCE2-45D52E1AA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29.photo.store.qq.com/http_imgload.cgi?/rurl4_b=f52733238bc189dd92eac1a168c98ddf98b616a8dcda8b6214ac50970332f59e5f85b7cece460f2fb1a5ea84ae54efe9eff820317d3470f5159be7634a6300688901a93a0db6f084b4b0908fc36577e9a2ff52fe&amp;a=29&amp;b=29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4645" t="14721" r="4645" b="5036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20720" y="291960"/>
            <a:ext cx="485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人教版五年级语文上册第一组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4645" t="14721" r="4645" b="5036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143000" y="2209680"/>
            <a:ext cx="6858000" cy="394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1769" t="0" r="88502" b="0"/>
          <a:stretch/>
        </p:blipFill>
        <p:spPr>
          <a:xfrm>
            <a:off x="0" y="2209680"/>
            <a:ext cx="1143000" cy="3962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77320" y="2514600"/>
            <a:ext cx="1066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184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14972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673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季羡林：倒不一定是</a:t>
            </a: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岁，当然早学比晚学好。学外语的发音跟母语有很大的关系，有些地方的人口音太重，学起来就困难。古文也很重要。我觉得，一个小孩起马要背两百首诗，五十篇古文，这是最起码的要求。最近出了一本书，鼓励小孩背诗。我提个建议，应该再出一本散文集，从《古文观止》里选，加点儿注。小时候背的，忘不了。</a:t>
            </a:r>
            <a:br>
              <a:rPr sz="3200"/>
            </a:b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　　苗苗：背两百首诗，五十篇古文呀！</a:t>
            </a:r>
            <a:br>
              <a:rPr sz="3200"/>
            </a:b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　　季羡林：（笑）可不是让你一天背下来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6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1143000"/>
            <a:ext cx="838188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Comic Sans MS"/>
                <a:ea typeface="隶书"/>
              </a:rPr>
              <a:t>认读下列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é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公案     济公传    水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施公案        三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义     滚瓜烂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文能武     中西贯通    古今贯通   文理贯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古文观止      绿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808"/>
                </a:solidFill>
                <a:latin typeface="宋体"/>
              </a:rPr>
              <a:t>l</a:t>
            </a:r>
            <a:r>
              <a:rPr b="1" lang="zh-CN" sz="3200" spc="-1" strike="noStrike">
                <a:solidFill>
                  <a:srgbClr val="000808"/>
                </a:solidFill>
                <a:latin typeface="宋体"/>
                <a:ea typeface="Times New Roman"/>
              </a:rPr>
              <a:t>ù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林好汉   闲书   起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百单八将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林好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287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百单八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6600" y="39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滚瓜烂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333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原指西汉末年聚集起义的湖北绿林山的农民起义军。后来泛指聚集山林、反抗封建统治者的人们。文中指《水浒传》里所描写的起义后聚集到梁山上的各位英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2997360"/>
            <a:ext cx="6119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单，一个。文中指梁山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的一百零八个好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400536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形容朗读、背诵得熟练流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6483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偏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4653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华文新魏"/>
              </a:rPr>
              <a:t>指单独着重某一科，不能全面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00" y="537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贯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6200" y="587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全部透彻地理解与领悟，达到精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23880" y="914400"/>
            <a:ext cx="556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默读课文，思考问题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苗苗和季老交流了哪几方面的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对于读书，季老提出了哪些见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是从哪些词句了解到的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做好批注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►►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划出你感兴趣的或不明白的地方，自读课文后全班交流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6858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读课文，说说苗苗和季老交流了哪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几方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048120"/>
            <a:ext cx="5903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看闲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偏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学习外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531205534" descr=""/>
          <p:cNvPicPr/>
          <p:nvPr/>
        </p:nvPicPr>
        <p:blipFill>
          <a:blip r:embed="rId3"/>
          <a:srcRect l="0" t="11546" r="27562" b="0"/>
          <a:stretch/>
        </p:blipFill>
        <p:spPr>
          <a:xfrm>
            <a:off x="3809880" y="2590920"/>
            <a:ext cx="28958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rcRect l="0" t="0" r="20000" b="0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4400" y="1143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对于读书，季老提出了哪些见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531205534" descr=""/>
          <p:cNvPicPr/>
          <p:nvPr/>
        </p:nvPicPr>
        <p:blipFill>
          <a:blip r:embed="rId3"/>
          <a:srcRect l="0" t="11546" r="27562" b="0"/>
          <a:stretch/>
        </p:blipFill>
        <p:spPr>
          <a:xfrm>
            <a:off x="6324480" y="3657600"/>
            <a:ext cx="2133720" cy="259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74320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把文章写好，要多看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要中西贯通、古今贯通、文理贯通、不要偏科，要学　好外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进行古诗文积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rcRect l="0" t="0" r="20000" b="0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1143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是从哪些词句了解到的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514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最近清华大学办了一个班，选的是高才生，提出要培养中西贯通、古今贯通的人才。我看，有这两个贯通还不行，还应该加一个文理贯通。三贯通，这才是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世纪的青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1052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幼圆"/>
              </a:rPr>
              <a:t>　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①我小时候，跟我一个妹妹一块儿看，家里的桌子底下有个盛白面的大缸，叔父一来，我们就赶紧把闲书藏到缸里头，桌上摆的，都是正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99736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“闲书”指的是《彭公案》《济公传》等课外书，“正课”指的是课内要学习的课程。“闲书”与“正课”的区分源自教师与家长的界定。这句话是季老在与苗苗交流读课外读物时，现身说法，举了自己童年的例子。季老对童年时阅读印象深刻，说得生动形象，听来如临其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33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课文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40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1197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贯通，这才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纪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84464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      “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贯通”，即全部透彻地理解和领悟，达到精通。“三贯通”则是指清华大学提出的“中西贯通”“古今贯通”和季老提出的“文理贯通”。这句话是季老针对苗苗偏科而说的。国力的竞争取决于人才的竞争，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21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世纪是一个知识和经济高速发展的社会，对人才提出了更高的要求，不仅要学贯中西、博古通今，还要文理兼备。这种综合型的人才，才能适应新世纪发展的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0920" y="134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我觉得，一个小孩起码要背两百首诗，五十篇古文，这是最起码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7082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起码”即最低要求，最低限度。季老在与苗苗交流中提出古诗文积累的建议，并用“起码”、“最起码”提出了量化的要求。这里面既有季老自身成长的体验，又有着对中华传统文化继承的关注，更是对“古今贯通”的一个注解与落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4645" t="14721" r="4645" b="5036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8756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56000" y="476280"/>
            <a:ext cx="47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48000" y="476280"/>
            <a:ext cx="42865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羡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11-2009.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中国著名古文字学家、历史学家、作家。曾任中国科学院哲学社会科学部委员、北京大学副校长、中国社科院南亚研究所所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1066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插图，说一说季老和苗苗分别分别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84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286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易近人，亲切随和，幽默中善于引导，满含着对下一代的关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286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季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1148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苗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1148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爱读书的小学生，谦虚好问，对季老的充满着尊敬崇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12952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朗读、思考后，品味题目的寓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905120"/>
            <a:ext cx="7562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表面上与二人的名字密切相关，“小苗”－苗苗；“大树”－季羡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实际上“小苗”还包含着苗苗在求学和增长知识的路上刚刚起步，犹如破土而出的小苗要汲取营养；而季老学识渊博、学有建树，恰似一株根深叶茂的大树。“小苗”与“大树”交流的正是如何生长、汲取营养，小苗才会长成参天大树，像苗苗这样的孩子们才会成才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533520"/>
            <a:ext cx="3886200" cy="609480"/>
          </a:xfrm>
          <a:prstGeom prst="rect">
            <a:avLst/>
          </a:prstGeom>
          <a:solidFill>
            <a:srgbClr val="ffff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回归整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762120"/>
            <a:ext cx="8153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听写第一课课后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给下列形近字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峡（    ）       访（    ）      浒（    ）     偏（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侠（    ）       仿（    ）      许（    ）     编（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给多音字（传，将，绿）分别注音，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熟读课文，并正确，流利地读给家长听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采访一个爱读书的人，列一份采访提纲，并做一份访谈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8195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819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28195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533520"/>
            <a:ext cx="3886200" cy="609480"/>
          </a:xfrm>
          <a:prstGeom prst="rect">
            <a:avLst/>
          </a:prstGeom>
          <a:solidFill>
            <a:srgbClr val="ffff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图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205740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胖娃简体"/>
              </a:rPr>
              <a:t>再见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胖娃简体"/>
              <a:ea typeface="方正胖娃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543800" cy="533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80880"/>
            <a:ext cx="3886200" cy="609840"/>
          </a:xfrm>
          <a:prstGeom prst="rect">
            <a:avLst/>
          </a:prstGeom>
          <a:solidFill>
            <a:srgbClr val="ffff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宋体"/>
              </a:rPr>
              <a:t>掌握开头四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1769" t="0" r="88502" b="0"/>
          <a:stretch/>
        </p:blipFill>
        <p:spPr>
          <a:xfrm>
            <a:off x="457200" y="990720"/>
            <a:ext cx="38088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676520" y="1371600"/>
          <a:ext cx="6248160" cy="609480"/>
        </p:xfrm>
        <a:graphic>
          <a:graphicData uri="http://schemas.openxmlformats.org/drawingml/2006/table">
            <a:tbl>
              <a:tblPr/>
              <a:tblGrid>
                <a:gridCol w="6248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北京大学季羡林家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―――→</a:t>
                      </a:r>
                      <a:r>
                        <a:rPr b="1" i="1" lang="zh-CN" sz="32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地点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752480" y="2590920"/>
          <a:ext cx="5867640" cy="60948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1999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月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21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日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――――→</a:t>
                      </a:r>
                      <a:r>
                        <a:rPr b="1" i="1" lang="zh-CN" sz="32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3657600"/>
          <a:ext cx="6171840" cy="1065240"/>
        </p:xfrm>
        <a:graphic>
          <a:graphicData uri="http://schemas.openxmlformats.org/drawingml/2006/table">
            <a:tbl>
              <a:tblPr/>
              <a:tblGrid>
                <a:gridCol w="61718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季羡林，苗苗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―――――→</a:t>
                      </a:r>
                      <a:r>
                        <a:rPr b="1" i="1" lang="zh-CN" sz="32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人物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小苗与大树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838080" y="973080"/>
            <a:ext cx="7467840" cy="7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7467840" cy="76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9"/>
          <p:cNvSpPr/>
          <p:nvPr/>
        </p:nvSpPr>
        <p:spPr>
          <a:xfrm>
            <a:off x="1066680" y="1447920"/>
            <a:ext cx="428760" cy="4284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9"/>
          <p:cNvSpPr/>
          <p:nvPr/>
        </p:nvSpPr>
        <p:spPr>
          <a:xfrm>
            <a:off x="1066680" y="274320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505320"/>
            <a:ext cx="7467840" cy="759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800600"/>
            <a:ext cx="7467840" cy="76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9"/>
          <p:cNvSpPr/>
          <p:nvPr/>
        </p:nvSpPr>
        <p:spPr>
          <a:xfrm>
            <a:off x="1066680" y="388620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9"/>
          <p:cNvSpPr/>
          <p:nvPr/>
        </p:nvSpPr>
        <p:spPr>
          <a:xfrm>
            <a:off x="7696080" y="152388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9"/>
          <p:cNvSpPr/>
          <p:nvPr/>
        </p:nvSpPr>
        <p:spPr>
          <a:xfrm>
            <a:off x="7696080" y="274320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9"/>
          <p:cNvSpPr/>
          <p:nvPr/>
        </p:nvSpPr>
        <p:spPr>
          <a:xfrm>
            <a:off x="7696080" y="380988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76520" y="5181480"/>
          <a:ext cx="5943600" cy="6094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0808"/>
                          </a:solidFill>
                          <a:latin typeface="Arial"/>
                        </a:rPr>
                        <a:t>小苗与大树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话――→</a:t>
                      </a:r>
                      <a:r>
                        <a:rPr b="1" i="1" lang="zh-CN" sz="32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椭圆 9"/>
          <p:cNvSpPr/>
          <p:nvPr/>
        </p:nvSpPr>
        <p:spPr>
          <a:xfrm>
            <a:off x="1143000" y="5257800"/>
            <a:ext cx="428760" cy="42876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9"/>
          <p:cNvSpPr/>
          <p:nvPr/>
        </p:nvSpPr>
        <p:spPr>
          <a:xfrm>
            <a:off x="7696080" y="5334120"/>
            <a:ext cx="428760" cy="4284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6095880"/>
            <a:ext cx="7467480" cy="76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184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14972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9907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季羡林：苗苗，现在你是采访者，我是被采访者，你问我答，好吗？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苗苗：好。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季羡林：那你就随便问吧。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苗苗：爷爷，您在《我的童年》里说，您小时候，最感兴趣的是看闲书，您喜欢看《三国演义》，还能将《水浒（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hǔ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）传》里的绿（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Times New Roman"/>
              </a:rPr>
              <a:t>ù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）林好汉的名字背得滚瓜烂熟。爷爷，我跟您太像了，我也最喜欢看闲书。有一回上数学课，我低头看《水浒传》，一边看，一边背一百单八将的座次，结果被老师发现了。爸爸知道这件事后，头一回打了我，虽然一点儿都不疼，可打那次以后，我再也不看《水浒传》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3886200" cy="609840"/>
          </a:xfrm>
          <a:prstGeom prst="rect">
            <a:avLst/>
          </a:prstGeom>
          <a:solidFill>
            <a:srgbClr val="ffff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宋体"/>
              </a:rPr>
              <a:t>采访对话的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533520"/>
            <a:ext cx="640080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808"/>
                </a:solidFill>
                <a:latin typeface="Arial"/>
              </a:rPr>
              <a:t>《三国演义》</a:t>
            </a:r>
            <a:r>
              <a:rPr b="1" lang="zh-CN" sz="2400" spc="-1" strike="noStrike">
                <a:solidFill>
                  <a:srgbClr val="000808"/>
                </a:solidFill>
                <a:latin typeface="宋体"/>
              </a:rPr>
              <a:t>开始于刘备、关羽、张飞桃园三结义，结束于王浚平吴，描写了东汉末年和三国时代魏、蜀、吴三国之间的军事、政治斗争。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057400"/>
            <a:ext cx="63248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808"/>
                </a:solidFill>
                <a:latin typeface="Arial"/>
              </a:rPr>
              <a:t>《水浒传》</a:t>
            </a:r>
            <a:r>
              <a:rPr b="1" lang="zh-CN" sz="2400" spc="-1" strike="noStrike">
                <a:solidFill>
                  <a:srgbClr val="000808"/>
                </a:solidFill>
                <a:latin typeface="宋体"/>
              </a:rPr>
              <a:t>全书以描写农民战争为主要题材，塑造了李逵、武松、林冲、鲁智深等梁山英雄</a:t>
            </a:r>
            <a:r>
              <a:rPr b="1" lang="zh-CN" sz="2400" spc="-1" strike="noStrike">
                <a:solidFill>
                  <a:srgbClr val="000808"/>
                </a:solidFill>
                <a:latin typeface="Arial"/>
              </a:rPr>
              <a:t>一百单八将</a:t>
            </a:r>
            <a:r>
              <a:rPr b="1" lang="zh-CN" sz="2400" spc="-1" strike="noStrike">
                <a:solidFill>
                  <a:srgbClr val="000808"/>
                </a:solidFill>
                <a:latin typeface="宋体"/>
              </a:rPr>
              <a:t>，揭示了当时的社会矛盾。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28600" y="35053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28600" y="48769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52480" y="4876920"/>
            <a:ext cx="63248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红楼梦》以贾、王、史、薛四大家族为背景，以贾宝玉、林黛玉的爱情悲剧为主线，揭露了封建统治者的罪恶，暗示了封建王朝必将走向衰落的历史命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3505320"/>
            <a:ext cx="6400800" cy="825480"/>
          </a:xfrm>
          <a:prstGeom prst="rect">
            <a:avLst/>
          </a:prstGeom>
          <a:solidFill>
            <a:srgbClr val="ed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西游记》以民间传说故事、话本及杂剧为基础创作而成。写唐僧、孙悟空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八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沙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天取经，沿途除妖降魔、战胜困难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685800"/>
            <a:ext cx="1067040" cy="55627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中国四大名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84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14972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99072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季羡林：（笑）我小时候父母不在跟前，叔父不大管我，可是他不让看闲书。怎么办呢？我就放学以后不回家，偷偷藏在一个地方看闲书。我看的闲书可多了，《彭（</a:t>
            </a:r>
            <a:r>
              <a:rPr b="1" lang="zh-CN" sz="2800" spc="-1" strike="noStrike">
                <a:solidFill>
                  <a:srgbClr val="000808"/>
                </a:solidFill>
                <a:latin typeface="Times New Roman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é</a:t>
            </a:r>
            <a:r>
              <a:rPr b="1" lang="zh-CN" sz="2800" spc="-1" strike="noStrike">
                <a:solidFill>
                  <a:srgbClr val="000808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ɡ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）公案》《济公传》《施公案》《三侠（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xiá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）五义》我都看。我是主张看闲书的，为什么呢？苗苗你说说，文章怎样才能写好呢？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苗苗：我觉得，应该写真事。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季羡林：嗯（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Times New Roman"/>
              </a:rPr>
              <a:t>ńɡ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），你再说说，从技术上讲，怎么才能写得通顺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苗苗：得多看点儿课外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609480"/>
            <a:ext cx="6400800" cy="691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《彭公案》写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古代清官彭朋查办不同事务的断案故事，广为留传而千古不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057400"/>
            <a:ext cx="6248160" cy="128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施公案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》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以施仕纶为中心人物的公案题材情节，宣扬</a:t>
            </a:r>
            <a:r>
              <a:rPr b="1" lang="zh-CN" sz="2800" spc="-1" strike="noStrike">
                <a:solidFill>
                  <a:srgbClr val="000808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惩恶扬善</a:t>
            </a:r>
            <a:r>
              <a:rPr b="1" lang="zh-CN" sz="2800" spc="-1" strike="noStrike">
                <a:solidFill>
                  <a:srgbClr val="000808"/>
                </a:solidFill>
                <a:latin typeface="Times New Roman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思想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105520"/>
            <a:ext cx="6095880" cy="69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济公传》主要讲述了济公济困扶危，惩治强梁，与为富不仁者作对的故事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581280"/>
            <a:ext cx="6248520" cy="691200"/>
          </a:xfrm>
          <a:prstGeom prst="rect">
            <a:avLst/>
          </a:prstGeom>
          <a:solidFill>
            <a:srgbClr val="ed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三侠五义 》是由清朝评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艺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石玉昆口头创作的评书 ，全书１２０回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685800"/>
            <a:ext cx="1067040" cy="55627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侠义公案小说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0" r="76889" b="0"/>
          <a:stretch/>
        </p:blipFill>
        <p:spPr>
          <a:xfrm>
            <a:off x="228600" y="6094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0" r="65327" b="0"/>
          <a:stretch/>
        </p:blipFill>
        <p:spPr>
          <a:xfrm>
            <a:off x="304920" y="3505320"/>
            <a:ext cx="1447560" cy="143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5762" t="4009" r="7910" b="7924"/>
          <a:stretch/>
        </p:blipFill>
        <p:spPr>
          <a:xfrm>
            <a:off x="228600" y="510552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84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14972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　　季羡林：是这样。文学家鲁迅曾经讲过，要把文章写好，最可靠的还是要多看书。我小时候，跟我一个妹妹一块儿看，家里的桌子底下有个盛白面的大缸，叔父一来，我们就赶紧把闲书藏到缸里头，桌上摆的，都是正课。（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苗苗：爷爷，我喜欢语文，数学不行，偏科。</a:t>
            </a:r>
            <a:br>
              <a:rPr sz="2800"/>
            </a:b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　　季羡林：喜欢语文当然好，但语文要好，数学也要好。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世纪的青年，要能文能理。所以，不管你喜不喜欢，一定要学好数学。最近清华大学办了一个班，选的是高才生，提出要培养中西贯通、古今贯通的人才。我看，有这两个贯通还不行，还应该加一个文理贯通。三贯通，这才是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世纪的青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9144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苗苗：中西贯通，古今贯通，文理贯通，我记住了。爷爷，有人让我妈妈赶快给我找一个好外语老师，说过了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</a:rPr>
              <a:t>岁再学外语就永远也说不冷了。爷爷，您会那么多种外语，您说，他们说得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76720"/>
            <a:ext cx="7162920" cy="76176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9504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三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华文行楷"/>
              </a:rPr>
              <a:t>贯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191120"/>
            <a:ext cx="502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中西贯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古今贯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文理贯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365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user</dc:creator>
  <dc:description/>
  <dc:language>en-US</dc:language>
  <cp:lastModifiedBy>USER</cp:lastModifiedBy>
  <dcterms:modified xsi:type="dcterms:W3CDTF">2011-02-21T15:29:17Z</dcterms:modified>
  <cp:revision>531</cp:revision>
  <dc:subject/>
  <dc:title>人教版五年级语文上册第一组《02小苗与大树的对话》PPT课件.ppt</dc:title>
</cp:coreProperties>
</file>