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076-40E0-41A7-9977-3A9607B8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EB7-AFDA-40EF-82F4-96A5A7D1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C73-C31C-419C-84DA-9706A599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BFF5-31E9-4279-BD08-EC43E1DD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0BF-C89F-4F66-B827-241F5CF8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B79-570E-4288-B5BA-9DEFBD00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6A4-DE7C-49BD-B9D5-B2483AA7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6A8-A7E5-43DE-B3FF-C250BCDF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227-7441-445F-A468-637AE24F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C1E-5B75-4A39-8E11-B09C50B0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24B-558F-40BF-9937-45322B39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CBF-B8CD-4E29-A819-9B0E6A9B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253D-A7D8-4882-B6D6-9F7CE30A8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天空之城 宫崎骏.mp3" descr=""/>
          <p:cNvPicPr/>
          <p:nvPr/>
        </p:nvPicPr>
        <p:blipFill>
          <a:blip r:embed="rId2"/>
          <a:stretch/>
        </p:blipFill>
        <p:spPr>
          <a:xfrm>
            <a:off x="7740720" y="76500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sh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36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39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故事讲完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40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2:58:11Z</dcterms:created>
  <dc:creator>yang</dc:creator>
  <dc:description/>
  <dc:language>en-US</dc:language>
  <cp:lastModifiedBy>USER</cp:lastModifiedBy>
  <dcterms:modified xsi:type="dcterms:W3CDTF">2013-11-01T15:32:01Z</dcterms:modified>
  <cp:revision>11</cp:revision>
  <dc:subject/>
  <dc:title>幻灯片 1</dc:title>
</cp:coreProperties>
</file>