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398-781B-44CC-97C1-2D8819D3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52E-6578-429D-858B-37C19068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A11E6-8F89-43B3-BCF1-9E9C7278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E1130-AACB-4983-85B4-B826CF71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887BD-0B87-4224-9EF3-3025845E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41682-029D-48C3-9481-805B810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0924E-89ED-4C06-A16F-CCE5DDC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DE7C8-ABEB-4A19-9712-EAA7AF80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BDEE9-C682-4A08-940E-3262A7DE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E480B-D3A5-45AD-AD9D-22B0186E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76DBD-2EEC-4E96-BE1D-21CF94F0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5FEE4-8471-4F2A-A1C4-6D4F0AFD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F7E8-F2CD-4045-AD35-6B43F2A5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56CED-6977-47C6-B618-B4D38B15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74438-2D02-44BF-83A0-D2F05627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9EA8A-28D4-4AF0-B9D9-F0AA9B5A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91434-F225-4A46-BF51-3D9E8D1B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E2EE8-383A-40BB-9FB7-01CBD1B7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7298B-8D54-48A3-9E9A-8E480892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90E90-5245-409D-BD05-C4B2774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CA437-5A84-4741-814D-A69342E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F764B-7E40-47D2-A69E-135CF19D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97C65-B2BB-45AB-A896-6E8EB7AA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E02-8902-44F9-A182-01D4EF08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1B0AB-3C3A-435A-B004-40A96F3F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797DE-3B1B-43E5-B5A7-DEE51E05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40EAD-164B-47DC-858A-B13F147E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8B628-4384-4DEE-B090-03CACD2E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F8505-5534-4210-A3FC-8BAD50E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48C99-3479-4B22-A374-7A6A6825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0B33F-4D95-4DD3-B897-431F1FBF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5EBA5-2E4D-4E67-BC71-D2D9AFB0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6F7E8-2A3B-4950-9395-318E129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0A74B-2514-4A89-AD66-4301374B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D318-6580-48E5-9A35-178EC0EA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0BFB8-CBEA-4F00-AEF7-8A4E2396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FFF3D-30B7-4FDA-B6CD-96C98BBC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4CFA9-CCA5-418C-9278-E98A3897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D3C8A-D903-409F-AFEB-A9C3DF8F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19836-85CF-488B-B8D5-45A7A78F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35B88-F48E-4C3D-B158-11C9CE58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DEECD-B46E-42C9-9807-F2730560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5FD46-BF4D-448F-90BC-E98FA829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36993-DF65-4250-AAD8-38C1FF74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FB4D8-C9FA-43BD-BF4B-BEA7AC3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E76B-2469-4C00-B120-01A5E9C1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10040-F5F0-403E-85C5-188D8431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A705E-4252-4FFB-8E1C-D62DF2D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F1266-8A7A-40B6-8D7C-74DB52A4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9AE89-0CBE-4114-9CF8-7848F8A8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EC93C-E494-473A-92CE-5DD7B4B7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2ECD-46E6-4CF9-AE37-13600836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BB35-842C-4331-97B0-5322782E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483A-562C-48F6-BE68-E3BBAF04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CFF-176B-4368-8D20-720C0BC5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02ED-484F-47A3-A2E3-FB290C6A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CFA-AAE7-462C-A48C-78AC6CD7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74A7-EFC0-4630-9E96-87E211E0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D8ED-A64A-45D6-8B3E-3122DA4D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8A04-324E-4A1C-83EB-11C0C4B0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1304-0730-406E-BBDB-86D3D7EA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AFAC-4195-4B60-AD99-211C4512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702C-F9A9-4AE4-A260-1EDD40A2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8959-BD5A-44CE-871A-D2D56A5D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9A1A0-895F-4C13-9C0A-CB2E7C29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90AD-0788-4667-A402-783A7D1D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7C1A-AE86-47B7-ACE0-54B2AF5A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BC6-0175-4E7E-AF32-5254F056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871C-2D9D-405E-843B-CC7CC3B0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2C9A4-655E-454B-BDBE-DAF0B41C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B086-1953-44F1-B077-9F5E57FC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8C95-D67B-41B7-89F5-F295804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1705-D7CF-48B5-80E4-00F59EA7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AC23-C2B8-4392-A10E-B75F00AD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58FD-DF2F-48F9-8308-48837773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C254-4777-4098-A0CB-E579C0A7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DDF6-C14B-47A6-9DC3-B910590C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F56C6-611C-4CD1-AA76-B8B8C6DE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B07-8AD4-4A47-B843-C9C469C9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204A2-4AF8-4C9D-9FC2-7839ADE8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A904-B07F-4805-90B1-43909560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5BEC3-CB77-4D7A-8287-896D5DA0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CE04-EC91-4BEE-BDD6-0EE85352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84EBA-5640-465B-8A6F-6C94848D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B5E2-7B68-41A3-B193-512C5BA1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1A29-B5A5-4071-9E2A-B462050E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0C0F5-BC73-4D78-A73F-0016A32D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FA32-FB02-4917-9A98-F40CD65A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24DA8-C8BC-4792-98DF-82DF0B7E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CAD-A21F-434B-B61B-7A9B099A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A2FA2-198D-4D62-8721-3FE14F59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34B70-6028-4645-98C6-0C970E14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043BD-0BD5-4B86-9A3D-9C923F1F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6435E-D1A9-4A35-B60F-E36A6AA9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CE60-C9C6-453A-8C44-5CDAAE74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FD0CB-F943-4A15-B38B-37C603A8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11BC4-7FFA-4FC5-9B79-AE419AD0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B4E55-5025-483B-A1BC-1072972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87DB-AF0C-4F0B-9CE7-258394F6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5D00-57DE-45E2-948B-2B201B67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3BB-A1DA-4C3A-832B-9D764D8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D6FC5-DCE1-4CE7-ADA8-484114DC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DE46-DFC9-4E38-A8C0-7A171BCE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9B44A-B726-4289-8964-64A637D4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E7ACB-EDF0-433A-ACB9-6498473F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EEAA2-5450-459F-876F-00D1A253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95B42-5EF0-41AA-8B3B-0E311CB7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90E2-6EFB-44CF-85A3-C405C8A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D173D-2565-4B54-9405-B66A2D0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49B2B-A3A3-4E9D-961B-83E51A5B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A1616-A9DC-4592-8FB1-788A096B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387-340D-4CBE-94F3-C8A2DA56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4DDF-65ED-425F-AD64-25FE5DD0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AE5DE-6E5F-468E-9040-CBAC8F2A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7F624-B405-4B25-BA5D-9C0967E9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C0151-5F83-4B77-BB05-059B0485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88169-BB14-43D2-9F89-D2095FCB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1462-C8A7-4AC9-A49A-7932E40E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D07A0-EA10-48D0-8B2F-E323EC32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D25BC-079C-4EFB-8813-4D900E1A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2B18F-09A2-4BEC-8166-0E33CE13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07188-CF21-4E32-AD6F-E429109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F93-5A4A-4950-873D-D0D9473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60376-68DA-4BFB-B0C7-9AD5F5D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A1489-D67F-4808-A64F-AEDE636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6225-719A-47C2-B99E-834B296F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42CB-23C2-4709-8F13-69A5D8A8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94493-89DB-4270-9754-7E9A2129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D5328-2528-4656-A837-FE555C46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E82F3-5AFE-4EA1-B84C-9867B0D8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18380-EE74-4C79-8139-0EDD290A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9152A-AC65-4A30-917A-4C1DF5D6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0A50-DB74-4B7B-A666-5E1EEFF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B39-7E0E-459C-A5C5-BDE2CAF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E256F-B1AD-4A00-8990-D8395FFE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A2E05-5F96-471B-9E4C-B48BEF34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CD7B2-8B13-4345-B4C8-8E17FA6B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7A6E-1DC4-4D81-8CFC-52A982C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5E905-3025-446F-BCD1-0EB202CE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B4C54-44D7-4E21-9D92-7816B095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D594E-CA49-423B-A786-01AF30E5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34890-3323-4F7C-8D29-4D05C9CA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42347-A277-4FF6-BC9E-BFF2D03B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CA331-BBB0-4CD5-B122-744EAAE0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B45F-E7FF-49BD-B104-950503AB8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7E24-6D08-43D2-8723-F74D9E058A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A0A5-E816-4C3F-B60D-5A3447D163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45E7-FDEB-4CCF-B72F-16254A3075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ADF-3F85-4D28-A9AB-60DDA487A0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B637-B39A-4408-A743-AB8CDE75BD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AA4E-4974-4B8E-8D2F-75F02CD756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5C3F-F520-486C-9094-4DC19860A2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94D5-DED1-4729-BA51-DD9C92CE8A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B4E7-7C4F-4B59-BD0C-5A004B772F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A1FD-623D-48C0-A219-E051EC6A18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EBC-D359-44E3-B07B-67E953B2D3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小猪变形记001"/>
          <p:cNvPicPr/>
          <p:nvPr/>
        </p:nvPicPr>
        <p:blipFill>
          <a:blip r:embed="rId1"/>
          <a:srcRect l="3209" t="0" r="2363" b="2539"/>
          <a:stretch/>
        </p:blipFill>
        <p:spPr>
          <a:xfrm>
            <a:off x="2340000" y="476280"/>
            <a:ext cx="4248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小猪变形记012"/>
          <p:cNvPicPr/>
          <p:nvPr/>
        </p:nvPicPr>
        <p:blipFill>
          <a:blip r:embed="rId1"/>
          <a:srcRect l="6389" t="4297" r="5577" b="4193"/>
          <a:stretch/>
        </p:blipFill>
        <p:spPr>
          <a:xfrm>
            <a:off x="255600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小猪变形记013"/>
          <p:cNvPicPr/>
          <p:nvPr/>
        </p:nvPicPr>
        <p:blipFill>
          <a:blip r:embed="rId1"/>
          <a:srcRect l="4834" t="0" r="0" b="3746"/>
          <a:stretch/>
        </p:blipFill>
        <p:spPr>
          <a:xfrm>
            <a:off x="1843200" y="0"/>
            <a:ext cx="503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6" descr=""/>
          <p:cNvPicPr/>
          <p:nvPr/>
        </p:nvPicPr>
        <p:blipFill>
          <a:blip r:embed="rId1"/>
          <a:srcRect l="0" t="0" r="0" b="3696"/>
          <a:stretch/>
        </p:blipFill>
        <p:spPr>
          <a:xfrm>
            <a:off x="182520" y="549360"/>
            <a:ext cx="878220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小猪变形记016"/>
          <p:cNvPicPr/>
          <p:nvPr/>
        </p:nvPicPr>
        <p:blipFill>
          <a:blip r:embed="rId1"/>
          <a:srcRect l="5116" t="7573" r="8433" b="12076"/>
          <a:stretch/>
        </p:blipFill>
        <p:spPr>
          <a:xfrm>
            <a:off x="2771640" y="1052640"/>
            <a:ext cx="388944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小猪变形记017"/>
          <p:cNvPicPr/>
          <p:nvPr/>
        </p:nvPicPr>
        <p:blipFill>
          <a:blip r:embed="rId1"/>
          <a:srcRect l="3068" t="0" r="883" b="6104"/>
          <a:stretch/>
        </p:blipFill>
        <p:spPr>
          <a:xfrm>
            <a:off x="1619280" y="0"/>
            <a:ext cx="520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6" descr=""/>
          <p:cNvPicPr/>
          <p:nvPr/>
        </p:nvPicPr>
        <p:blipFill>
          <a:blip r:embed="rId1"/>
          <a:srcRect l="1989" t="0" r="0" b="3696"/>
          <a:stretch/>
        </p:blipFill>
        <p:spPr>
          <a:xfrm>
            <a:off x="250920" y="404640"/>
            <a:ext cx="86724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小猪变形记020"/>
          <p:cNvPicPr/>
          <p:nvPr/>
        </p:nvPicPr>
        <p:blipFill>
          <a:blip r:embed="rId1"/>
          <a:srcRect l="6422" t="10245" r="5577" b="5372"/>
          <a:stretch/>
        </p:blipFill>
        <p:spPr>
          <a:xfrm>
            <a:off x="2556000" y="907920"/>
            <a:ext cx="3959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小猪变形记021"/>
          <p:cNvPicPr/>
          <p:nvPr/>
        </p:nvPicPr>
        <p:blipFill>
          <a:blip r:embed="rId1"/>
          <a:srcRect l="1588" t="0" r="7198" b="7308"/>
          <a:stretch/>
        </p:blipFill>
        <p:spPr>
          <a:xfrm>
            <a:off x="2340000" y="404640"/>
            <a:ext cx="4103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109440" y="476280"/>
            <a:ext cx="8925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小猪变形记024"/>
          <p:cNvPicPr/>
          <p:nvPr/>
        </p:nvPicPr>
        <p:blipFill>
          <a:blip r:embed="rId1"/>
          <a:srcRect l="6422" t="4744" r="7165" b="6132"/>
          <a:stretch/>
        </p:blipFill>
        <p:spPr>
          <a:xfrm>
            <a:off x="2340000" y="333360"/>
            <a:ext cx="44895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小猪变形记002"/>
          <p:cNvPicPr/>
          <p:nvPr/>
        </p:nvPicPr>
        <p:blipFill>
          <a:blip r:embed="rId1"/>
          <a:srcRect l="3176" t="14773" r="7198" b="17518"/>
          <a:stretch/>
        </p:blipFill>
        <p:spPr>
          <a:xfrm>
            <a:off x="2700360" y="1052640"/>
            <a:ext cx="474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小猪变形记025"/>
          <p:cNvPicPr/>
          <p:nvPr/>
        </p:nvPicPr>
        <p:blipFill>
          <a:blip r:embed="rId1"/>
          <a:srcRect l="4797" t="7126" r="5577" b="3746"/>
          <a:stretch/>
        </p:blipFill>
        <p:spPr>
          <a:xfrm>
            <a:off x="1971720" y="0"/>
            <a:ext cx="512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7"/>
          <a:srcRect l="2400" t="1206" r="783" b="3696"/>
          <a:stretch/>
        </p:blipFill>
        <p:spPr>
          <a:xfrm>
            <a:off x="250920" y="476280"/>
            <a:ext cx="8640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小猪变形记028"/>
          <p:cNvPicPr/>
          <p:nvPr/>
        </p:nvPicPr>
        <p:blipFill>
          <a:blip r:embed="rId1"/>
          <a:srcRect l="3176" t="2382" r="0" b="4925"/>
          <a:stretch/>
        </p:blipFill>
        <p:spPr>
          <a:xfrm>
            <a:off x="1979640" y="0"/>
            <a:ext cx="531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小猪变形记029"/>
          <p:cNvPicPr/>
          <p:nvPr/>
        </p:nvPicPr>
        <p:blipFill>
          <a:blip r:embed="rId1"/>
          <a:srcRect l="1588" t="2382" r="2363" b="2567"/>
          <a:stretch/>
        </p:blipFill>
        <p:spPr>
          <a:xfrm>
            <a:off x="2124000" y="0"/>
            <a:ext cx="514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"/>
          <p:cNvPicPr/>
          <p:nvPr/>
        </p:nvPicPr>
        <p:blipFill>
          <a:blip r:embed="rId1"/>
          <a:srcRect l="795" t="2632" r="795" b="3916"/>
          <a:stretch/>
        </p:blipFill>
        <p:spPr>
          <a:xfrm>
            <a:off x="250920" y="549360"/>
            <a:ext cx="8642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"/>
          <p:cNvPicPr/>
          <p:nvPr/>
        </p:nvPicPr>
        <p:blipFill>
          <a:blip r:embed="rId1"/>
          <a:srcRect l="0" t="1357" r="0" b="2666"/>
          <a:stretch/>
        </p:blipFill>
        <p:spPr>
          <a:xfrm>
            <a:off x="181080" y="476280"/>
            <a:ext cx="8781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小猪变形记005"/>
          <p:cNvPicPr/>
          <p:nvPr/>
        </p:nvPicPr>
        <p:blipFill>
          <a:blip r:embed="rId1"/>
          <a:srcRect l="4797" t="0" r="3989" b="2539"/>
          <a:stretch/>
        </p:blipFill>
        <p:spPr>
          <a:xfrm>
            <a:off x="2340000" y="189000"/>
            <a:ext cx="4433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4" descr="小猪变形记006"/>
          <p:cNvPicPr/>
          <p:nvPr/>
        </p:nvPicPr>
        <p:blipFill>
          <a:blip r:embed="rId1"/>
          <a:srcRect l="3176" t="4297" r="5577" b="7754"/>
          <a:stretch/>
        </p:blipFill>
        <p:spPr>
          <a:xfrm>
            <a:off x="2050920" y="260280"/>
            <a:ext cx="50817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小猪变形记007"/>
          <p:cNvPicPr/>
          <p:nvPr/>
        </p:nvPicPr>
        <p:blipFill>
          <a:blip r:embed="rId1"/>
          <a:srcRect l="1588" t="1179" r="2363" b="4925"/>
          <a:stretch/>
        </p:blipFill>
        <p:spPr>
          <a:xfrm>
            <a:off x="1763640" y="0"/>
            <a:ext cx="520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4" descr="小猪变形记008"/>
          <p:cNvPicPr/>
          <p:nvPr/>
        </p:nvPicPr>
        <p:blipFill>
          <a:blip r:embed="rId1"/>
          <a:srcRect l="3068" t="3561" r="4092" b="7308"/>
          <a:stretch/>
        </p:blipFill>
        <p:spPr>
          <a:xfrm>
            <a:off x="1692360" y="0"/>
            <a:ext cx="53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小猪变形记009"/>
          <p:cNvPicPr/>
          <p:nvPr/>
        </p:nvPicPr>
        <p:blipFill>
          <a:blip r:embed="rId1"/>
          <a:srcRect l="4797" t="2358" r="0" b="3746"/>
          <a:stretch/>
        </p:blipFill>
        <p:spPr>
          <a:xfrm>
            <a:off x="1979640" y="0"/>
            <a:ext cx="516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"/>
          <p:cNvPicPr/>
          <p:nvPr/>
        </p:nvPicPr>
        <p:blipFill>
          <a:blip r:embed="rId1"/>
          <a:srcRect l="0" t="1813" r="0" b="4273"/>
          <a:stretch/>
        </p:blipFill>
        <p:spPr>
          <a:xfrm>
            <a:off x="219240" y="476280"/>
            <a:ext cx="87055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1:04:08Z</dcterms:created>
  <dc:creator>新教育</dc:creator>
  <dc:description/>
  <dc:language>en-US</dc:language>
  <cp:lastModifiedBy>admin</cp:lastModifiedBy>
  <dcterms:modified xsi:type="dcterms:W3CDTF">2015-01-19T05:52:11Z</dcterms:modified>
  <cp:revision>8</cp:revision>
  <dc:subject/>
  <dc:title>幻灯片 1</dc:title>
</cp:coreProperties>
</file>