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type.wav" ContentType="audio/x-wav"/>
  <Override PartName="/ppt/media/image21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4.png" ContentType="image/png"/>
  <Override PartName="/ppt/media/%E6%B0%B8%E6%B5%B4%E7%88%B1%E6%B2%B3.wav" ContentType="audio/x-wav"/>
  <Override PartName="/ppt/media/image14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70A-F80D-4653-9A1E-466E68DA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F3D-63E3-4125-BE41-8860EADF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024-61F2-4D9A-A0AA-E786D761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7A4-EA3D-4495-BB3F-99A69C32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663-E3C6-43FC-A310-12E638B8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31C-A301-41EC-970D-088FF731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3BF-62FC-4941-B69D-70A4526B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4E9-79E3-468C-ACFC-7EB9A374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EEF-4AB7-4AD0-8A14-FDC5787F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65A-4E9A-4B60-9C3A-C855BAF7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EF7C-C7C2-4568-804A-206FF216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4FD-5868-44C1-8FE3-001D6890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693B-7BA0-4FD0-83D9-76E955654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audio" Target="../media/&#27704;&#28020;&#29233;&#27827;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7775640" y="6778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2479680" y="263700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香港，璀璨的明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Hongqi1"/>
          <p:cNvPicPr/>
          <p:nvPr/>
        </p:nvPicPr>
        <p:blipFill>
          <a:blip r:embed="rId2"/>
          <a:stretch/>
        </p:blipFill>
        <p:spPr>
          <a:xfrm>
            <a:off x="7775640" y="0"/>
            <a:ext cx="1368360" cy="936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0"/>
          <p:cNvSpPr/>
          <p:nvPr/>
        </p:nvSpPr>
        <p:spPr>
          <a:xfrm>
            <a:off x="32400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教新课标 三年级 语文 上册 第六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4"/>
          <p:cNvSpPr/>
          <p:nvPr/>
        </p:nvSpPr>
        <p:spPr>
          <a:xfrm>
            <a:off x="0" y="907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c6aee6dfbfa31f3063279892"/>
          <p:cNvPicPr/>
          <p:nvPr/>
        </p:nvPicPr>
        <p:blipFill>
          <a:blip r:embed="rId2"/>
          <a:stretch/>
        </p:blipFill>
        <p:spPr>
          <a:xfrm>
            <a:off x="1116000" y="765000"/>
            <a:ext cx="68342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79280" y="476280"/>
            <a:ext cx="8763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香港还是一个旅游胜地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朋友们最爱去的就是举世闻名的海洋公园。公园里的海豚和海狮表演最为出色。在清澈的池水里，它们一会儿钻圈，一会儿顶球。有时趁你不注意，会突然跃出水面，向你点头，有时还会喷你一身水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5122440" y="579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旅游胜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5092200" y="1413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举世闻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0920" y="90792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在清澈的池水里，它们一会儿钻圈，一会儿顶球。有时趁你不注意，会突然跃出水面，向你点头，有时还会喷你一身水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1010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当夜幕降临的时候，香港就成了灯的海洋。港湾里闪耀的灯光，像五颜六色的焰火，洒落人间。马路上一串串明亮的车灯，如同闪光的长河，奔流不息。高楼大厦的霓虹灯光彩夺目，热情欢迎来自五洲四海的旅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908000" y="1989000"/>
            <a:ext cx="6048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971640" y="2565360"/>
            <a:ext cx="3024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5076720" y="2492280"/>
            <a:ext cx="2845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1042920" y="3213000"/>
            <a:ext cx="6769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971640" y="3789360"/>
            <a:ext cx="6624720" cy="71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826920" y="4365720"/>
            <a:ext cx="7201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12426164250372372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0060524105617887"/>
          <p:cNvPicPr/>
          <p:nvPr/>
        </p:nvPicPr>
        <p:blipFill>
          <a:blip r:embed="rId2"/>
          <a:stretch/>
        </p:blipFill>
        <p:spPr>
          <a:xfrm>
            <a:off x="1042920" y="915840"/>
            <a:ext cx="68421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0060524105617658"/>
          <p:cNvPicPr/>
          <p:nvPr/>
        </p:nvPicPr>
        <p:blipFill>
          <a:blip r:embed="rId2"/>
          <a:stretch/>
        </p:blipFill>
        <p:spPr>
          <a:xfrm>
            <a:off x="1116000" y="907920"/>
            <a:ext cx="680400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659640" y="141300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食天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68360" y="3933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游胜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700360" y="4797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灯的海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826920" y="1052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航运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771640" y="1557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国市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796000" y="4508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港的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68360" y="25653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贸易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4356000" y="476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融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6086520" y="537372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7"/>
          <p:cNvSpPr txBox="1"/>
          <p:nvPr/>
        </p:nvSpPr>
        <p:spPr>
          <a:xfrm>
            <a:off x="3348000" y="2421000"/>
            <a:ext cx="3816360" cy="18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香港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14200" y="1844640"/>
            <a:ext cx="892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0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香港，真是我国南海之滨一颗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璀璨无比</a:t>
            </a:r>
            <a:r>
              <a:rPr b="0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明珠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2852640"/>
            <a:ext cx="882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香港，真是座（    ）的城市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中国地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Oval 3">
            <a:hlinkClick r:id="rId2"/>
          </p:cNvPr>
          <p:cNvSpPr/>
          <p:nvPr/>
        </p:nvSpPr>
        <p:spPr>
          <a:xfrm>
            <a:off x="5867280" y="5791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96080" y="4800600"/>
            <a:ext cx="99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香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mainbg1"/>
          <p:cNvPicPr/>
          <p:nvPr/>
        </p:nvPicPr>
        <p:blipFill>
          <a:blip r:embed="rId1"/>
          <a:stretch/>
        </p:blipFill>
        <p:spPr>
          <a:xfrm>
            <a:off x="0" y="0"/>
            <a:ext cx="11268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621720" y="484812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累作业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4329360" y="55897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抄写本课中喜欢的好词、好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68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15960" y="692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研究性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93000" y="25131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实践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2589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502440" y="1557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更多香港资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4004280" y="3417840"/>
            <a:ext cx="151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以香港的过去、现在、将来为主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办一张手抄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5724360" y="260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786840" y="5589720"/>
            <a:ext cx="19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一九九七年七月一日香港回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a0dfad7bbd1dbacb2f73b3fd"/>
          <p:cNvPicPr/>
          <p:nvPr/>
        </p:nvPicPr>
        <p:blipFill>
          <a:blip r:embed="rId2"/>
          <a:stretch/>
        </p:blipFill>
        <p:spPr>
          <a:xfrm>
            <a:off x="1042920" y="1125360"/>
            <a:ext cx="69055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00511181444273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810800" y="3097080"/>
            <a:ext cx="502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读读课文，说说课文是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哪几个方面介绍香港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484440" y="1884240"/>
            <a:ext cx="113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读准字音，读顺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39640" y="981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68360" y="1916280"/>
            <a:ext cx="842472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易中心         金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心   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璀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琳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满目         物美价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一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俱全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南海之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　闪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霓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虹灯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佳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海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15240" y="1444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m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103280" y="14842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ró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657840" y="136512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ǐ c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52960" y="2708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lín lá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132880" y="2565360"/>
            <a:ext cx="7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li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7093800" y="263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yì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547160" y="364500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y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7039800" y="3645000"/>
            <a:ext cx="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946800" y="472428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y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588560" y="4653000"/>
            <a:ext cx="8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7631280" y="468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7207200" y="4653000"/>
            <a:ext cx="7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1911240" y="3645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b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44000" y="836640"/>
            <a:ext cx="8999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香港是一个著名的港口，世界各地的商人都乐意来这里做生意。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此，香港的市场是一个“万国市场”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自近两百个国家和地区的商品，琳琅满目，应有尽有，而且物美价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4"/>
          <p:cNvSpPr/>
          <p:nvPr/>
        </p:nvSpPr>
        <p:spPr>
          <a:xfrm>
            <a:off x="1979640" y="4149720"/>
            <a:ext cx="6840360" cy="0"/>
          </a:xfrm>
          <a:prstGeom prst="line">
            <a:avLst/>
          </a:prstGeom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611280" y="4941720"/>
            <a:ext cx="8281800" cy="0"/>
          </a:xfrm>
          <a:prstGeom prst="line">
            <a:avLst/>
          </a:prstGeom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12720" y="5734080"/>
            <a:ext cx="2519280" cy="0"/>
          </a:xfrm>
          <a:prstGeom prst="line">
            <a:avLst/>
          </a:prstGeom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01360" y="41799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琳琅满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5409720" y="41799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应有尽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945720" y="49719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物美价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   在香港，人们能够品尝到世界各地的美食。内地的粤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yu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è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菜、川菜、德菜、法国、意大利等国的佳肴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y</a:t>
            </a:r>
            <a:r>
              <a:rPr b="1" lang="en-US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á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o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东南亚各地的饮食，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应</a:t>
            </a:r>
            <a:r>
              <a:rPr b="1" lang="en-US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(yìng)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俱全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游客们可以大饱口福。所以，人们又把香港称作“美食天堂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26720" y="2492280"/>
            <a:ext cx="27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一应</a:t>
            </a:r>
            <a:r>
              <a:rPr b="1" lang="en-US" sz="3600" spc="-1" strike="noStrike">
                <a:solidFill>
                  <a:srgbClr val="990000"/>
                </a:solidFill>
                <a:latin typeface="华文细黑"/>
                <a:ea typeface="华文细黑"/>
              </a:rPr>
              <a:t>(yìng)</a:t>
            </a: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俱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m11"/>
          <p:cNvPicPr/>
          <p:nvPr/>
        </p:nvPicPr>
        <p:blipFill>
          <a:blip r:embed="rId2"/>
          <a:stretch/>
        </p:blipFill>
        <p:spPr>
          <a:xfrm>
            <a:off x="4643280" y="1125360"/>
            <a:ext cx="3600720" cy="2527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ms8"/>
          <p:cNvPicPr/>
          <p:nvPr/>
        </p:nvPicPr>
        <p:blipFill>
          <a:blip r:embed="rId3"/>
          <a:stretch/>
        </p:blipFill>
        <p:spPr>
          <a:xfrm>
            <a:off x="4643280" y="3716280"/>
            <a:ext cx="3595680" cy="230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dangdanfen(1)"/>
          <p:cNvPicPr/>
          <p:nvPr/>
        </p:nvPicPr>
        <p:blipFill>
          <a:blip r:embed="rId4"/>
          <a:stretch/>
        </p:blipFill>
        <p:spPr>
          <a:xfrm>
            <a:off x="971640" y="1052640"/>
            <a:ext cx="3529080" cy="255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01300000010645118294382910993_s"/>
          <p:cNvPicPr/>
          <p:nvPr/>
        </p:nvPicPr>
        <p:blipFill>
          <a:blip r:embed="rId5"/>
          <a:stretch/>
        </p:blipFill>
        <p:spPr>
          <a:xfrm>
            <a:off x="1042920" y="3716280"/>
            <a:ext cx="3348000" cy="22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4:02:59Z</dcterms:created>
  <dc:creator>第一PPT模板网-WWW.1PPT.COM</dc:creator>
  <dc:description>第一PPT模板网-WWW.1PPT.COM
</dc:description>
  <cp:keywords>第一PPT模板网-WWW.1PPT.COM</cp:keywords>
  <dc:language>en-US</dc:language>
  <cp:lastModifiedBy>mayn</cp:lastModifiedBy>
  <dcterms:modified xsi:type="dcterms:W3CDTF">2018-11-16T02:51:58Z</dcterms:modified>
  <cp:revision>9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68</vt:lpwstr>
  </property>
</Properties>
</file>