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9206-BDB0-47DE-95F9-A5E62BB5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AEAA-C309-4BFF-AA00-4CD21921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918A-8947-4652-9BF9-6E6F7991E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AB59-8E30-427E-BD4D-7D7B047D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7FAC-0BE9-4D33-B9A5-1A40CC44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25A9-5962-4284-A9FD-909E7947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D96E-17E2-44CD-857C-B0AC7542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B168-1A6B-411D-AAF1-4E8891D9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F7B4-FBFB-4398-AA2F-A5ECF522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96B9-3CB7-4666-A9F8-9A62BA01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7206-01AB-4D91-B86E-90853C2F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D1BE-4D1C-4448-93EA-B2DC602A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9EA4-26A3-4D92-BE8E-237ACDA2684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ps.cn/" TargetMode="External"/><Relationship Id="rId2" Type="http://schemas.openxmlformats.org/officeDocument/2006/relationships/hyperlink" Target="http://www.wps.c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990720" y="2147760"/>
            <a:ext cx="10644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文档是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成的安全文档，仅可用支持安全文档的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 Office PC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、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droid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、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iO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客户端打开，当前软件版本无法保证您在安全环境下查看和编辑文档。使用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安全文档可以轻松创建和管理受保护的文件，请到</a:t>
            </a:r>
            <a:r>
              <a:rPr b="0" lang="en-US" sz="24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"/>
              </a:rPr>
              <a:t>WPS</a:t>
            </a:r>
            <a:r>
              <a:rPr b="0" lang="zh-CN" sz="24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"/>
              </a:rPr>
              <a:t>官网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载，或联系您的企业管理员获取最新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本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1T09:46:00Z</dcterms:created>
  <dc:creator/>
  <dc:description/>
  <dc:language>en-US</dc:language>
  <cp:lastModifiedBy>演示人</cp:lastModifiedBy>
  <dcterms:modified xsi:type="dcterms:W3CDTF">2017-03-10T02:15:37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22</vt:lpwstr>
  </property>
  <property fmtid="{D5CDD505-2E9C-101B-9397-08002B2CF9AE}" pid="3" name="_MarkAsFinal">
    <vt:bool>1</vt:bool>
  </property>
</Properties>
</file>