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7287-9D9B-4565-B162-5BD5897A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4657-D7BA-4B92-B323-44461434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9B907-4AA7-4B61-952D-19789EE8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8C393-6971-4D49-8422-D2A97AA3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741A3-6384-4EFC-9DB7-CF609F5C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B423B-9B4F-41A4-BDB9-7B63B6B5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9BAC7-D4A2-4955-A87C-E69D164E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06C60-85A2-4164-BFC8-44AFC1A1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EE0F8-0909-4AE7-AA81-E205EF1A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C7191-935C-40AA-8D11-6DAE25C9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BC36B-517F-4D88-ABE4-4079975B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95583-471D-4E08-BF18-0BE93B9C3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33B3-B219-4454-83DF-3C511CD96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AF60B-DE4C-4641-9896-B5964168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E077E-624F-4066-B454-E4509397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4B134-19F0-4DF6-A31E-E3C90044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4F3C19-00D4-4070-A979-3B6F12D5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8825DA-B34D-4E2A-9C5F-B652AF5A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30DA5-F5A1-4A90-A7A6-5C0FD7C1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F4CAC-16E0-4466-A255-CC040FF1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14557-59B0-425D-BD49-0D3950B6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B20390-FEE5-453A-8F68-2ED3BB68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05561-4C0B-47C0-BC4B-31DD263AB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F673-AD34-4549-9DE9-229DDAF8F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4D72F-4DFC-485E-823E-9E729431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D718F-D782-4701-B0B2-66694ED9B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11426-8450-4453-A7C4-48CA64D7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98721-2C27-4822-8BCB-6F16E9BF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8DB7E-94CB-4890-B4D7-C2C58540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1DEBB-2787-425B-9276-EE948DFE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E8492-882A-43C5-99B9-B407DBC6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A7597-195B-423A-B175-8709A5D4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306A3-4384-4A2C-B685-BD4D7408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5E938-5B63-47E5-8B88-2267977D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2A16-2C3F-4A7F-93C8-5FC02EB12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BFFF6-3C5D-4865-900F-E46FC42C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EF045-8348-4747-B786-72EBB7398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9BD7B-DF04-4BE3-B6FE-A4273CFC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651FB-C395-4281-AC49-4C4B8AED3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400D2-24B4-47E9-AD0D-7D8089F6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F47F9-E875-42F5-8BB5-40ECCBDA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7AFF6-5BF9-434E-B3A3-D98491E4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20534-B426-405C-8B2B-AD0CD0AA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66C86A-61C9-428C-9DB9-1AA55457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21C55-42F8-4B6A-9C66-21962821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23AE-191D-4953-9BBC-FF68514B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5D3155-5A3D-4823-A2B7-4548AB24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CDABE4-0F07-42F3-9B15-285749E1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EDD01B-47D1-4B98-857A-7E8AA582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AC548C-B74B-49BD-A6FD-A496DB32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C8608-FF84-4E30-A69A-116F91C1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E93B-8B14-4850-876F-3454946D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5289-FCD2-4F44-86B4-BFD783D0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F5A2-E65E-4C7D-AC30-E6E80573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7454-85B6-4420-A4E2-525BAAE8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4D83-C386-4FBB-9A16-CEDB1317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AC85-9E3A-400C-AE15-D7DEE968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AE33-4F3F-466E-BC28-A2BA21BD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0ABD-2168-44E1-8093-118C3DA2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1D47-FB5F-4D53-A2F8-DFFB5000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D2D9-C00A-4A4A-890A-BC34E260E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70A0-10C9-4D0F-B491-AFC86A47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9975C-2939-4890-99C3-2EDAC4A10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49A39-B004-44DF-8789-4F7132B2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4C79A-CB8F-45AE-98DD-8F00A292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E0886-B699-4A8D-9447-B5C4DC15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AF6A3-63E1-468A-9D99-0E6E3B60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371B-2196-4117-9316-11ACB213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090A3-E199-4E0B-989D-C50BAE31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25D5F-6490-4D5C-8BF2-B6800CC3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B71DD-D4E4-4F54-9A76-D103AC1E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C2FF6-4692-42BE-B9AC-4F2D78E5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ADB7A-8DCA-4165-9BA1-73C5273B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564AF-3043-4948-B8E5-BF3493B9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B8B26-FE1D-4862-A06E-0026992A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012E9-7E0D-4028-8392-ECD358311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274E1-D16B-4DF5-AF7C-10A0D2DA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1BE95-03A7-4D9B-8107-4DF418D9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A833-F9FF-4853-8D25-4495F1B3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E8EAB-819D-49CF-B021-721948EE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4C3E8-6E28-4DEA-A533-1AF73BB5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52C07-34E3-4049-8478-B33CDA3B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35A49-E5AE-4BC3-8AB1-E7F6BDEC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C8B66-37B1-4CD1-B68E-47818118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623B9-492E-425B-B726-230882CE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28FA7-89DB-4977-B78A-E91224D9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D33A4-6C6B-4ABD-A508-63EC71F6E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F01D0-D338-4004-846D-C757F679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2984E-73B1-4F4D-875B-30EDDD5FB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CB0E-0980-4EB5-97E7-EE198EE4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41E7C-DC78-4C15-8D34-40909DE0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56892-AF18-4408-B617-033BA83A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A2754-9534-4983-A50E-BED7CE19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C1041-543B-4613-9CB5-A4437DA0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A09CA-1B09-474F-AAEE-DA97E6E4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6A1AE-3E3A-48C3-ACF3-30412CB4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0E984-738A-46BC-8E40-E214ADCE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2CB3A-7CDE-408E-A2ED-5955DBCD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FDEE5-1269-4E00-A5D5-A47A23CD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B3C06-DBBF-4FD0-ABC6-58DEB40A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BA0F-82B8-41D4-87D0-441BE12C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7751C-33EC-4239-A797-62A2951B6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16EC4-3531-47EC-9F7E-A36A1F846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57BB7-ADA7-4710-9D4D-C845CBEE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7D28D-2F58-47C8-982F-FEDF7696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14A9B-8632-40C2-AF99-EE8BEEBC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BB0A6-54D7-4BEF-A6C2-031DDFC5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DBE92-EC0A-4CC4-BC0C-49952116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9BD1E-198F-4C93-961A-B36BCA25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DDE89-CC3D-4756-AEAE-78560E16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B6C7A-4ABC-49B9-A257-DB2A8E4A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8544-13A7-4F30-8240-4E985F40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01FE7-E039-4A95-9F3D-DBAA5ABC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CB841-FDA6-4268-A5F0-B92A10E1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42F28-0696-4AC8-9EE0-0C44A8E96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FD645-C750-411C-94B1-E77C591C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3104B-A1D1-4E92-A906-0278104D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6907D-95C7-4D4F-8F6D-586281F7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E67EC-A3BE-488D-B0B0-A829B58C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C897F-9F74-4E4A-AF75-729DA33B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DC9E8-FD3A-4301-9B8F-26118544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4C85A-F338-415E-A763-6B4B9B34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2F10-3D78-48E9-8AEC-AEDE8E78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FB863-9AD0-42CF-B2B8-DBF4399F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AA54C-C0B7-4133-9D40-4419C2BF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DCA81-6E4F-4391-A0D2-A8357BFD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90885-F907-4CCA-AAF4-E0D38B408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8061E-BE36-4ED2-8EA7-4D728EB1B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2D86D-C687-4583-BDDE-567EDF1D1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77A32-48E0-42D3-888A-3C8F1E45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8FE62-4039-4392-B7FF-C0FB211B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0DE6D-4C43-4034-AC07-0B936BB9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EEF94-C1E8-4EA7-908B-C6EED1C0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183C-AE81-4B28-8873-5FB13DFE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E6DAA-37AB-4457-B1BA-8B083F87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9DCE9-1794-4AEC-9648-DB76A758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119B8-0906-47A9-AB80-2031157E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52E68-9686-4E25-9FF2-9DE7E8F6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729E5-55EC-46A8-AEE6-832E45E1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04A78-84C5-4987-B025-741F27FF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4C7C8-7923-49D0-BE99-400EB149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C9B76-5D80-4D03-80A8-CED55EFE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E96EE-F3BB-490A-B709-193E344B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D58CC-3DE2-4732-9683-8A1E9E85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1D9C-34C2-4497-9592-C2879628E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B5AE-E61F-47D5-96BE-1EBB57EC93A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E034-D279-4750-98C4-CAED5F71B00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5079-C305-4DC2-BE3F-C5A59E6C774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9D38-5A64-4E2D-8762-CF5FE59032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0503-1B4B-4443-8EA9-C05AF0C3D38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C412-522A-484F-A02B-08BF874DFE9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06EC-1DCB-45AB-A0FA-1BF19A359AC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CDF4-EDED-46B9-BFF8-F4670F5C3E4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CFB9-0FEB-424D-B5C9-50B00473B68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D6EE-2A1E-4C4A-8355-B14D3324693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103F-F74A-4BD2-BF80-24F3AA6483E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圆圆的月亮056"/>
          <p:cNvPicPr/>
          <p:nvPr/>
        </p:nvPicPr>
        <p:blipFill>
          <a:blip r:embed="rId1"/>
          <a:srcRect l="2891" t="0" r="0" b="0"/>
          <a:stretch/>
        </p:blipFill>
        <p:spPr>
          <a:xfrm>
            <a:off x="1763640" y="0"/>
            <a:ext cx="586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4" descr="圆圆的月亮065"/>
          <p:cNvPicPr/>
          <p:nvPr/>
        </p:nvPicPr>
        <p:blipFill>
          <a:blip r:embed="rId1"/>
          <a:srcRect l="0" t="926" r="0" b="6845"/>
          <a:stretch/>
        </p:blipFill>
        <p:spPr>
          <a:xfrm>
            <a:off x="1258920" y="0"/>
            <a:ext cx="6458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4" descr="圆圆的月亮066"/>
          <p:cNvPicPr/>
          <p:nvPr/>
        </p:nvPicPr>
        <p:blipFill>
          <a:blip r:embed="rId1"/>
          <a:srcRect l="2159" t="3381" r="0" b="2516"/>
          <a:stretch/>
        </p:blipFill>
        <p:spPr>
          <a:xfrm>
            <a:off x="1403280" y="0"/>
            <a:ext cx="61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4" descr="圆圆的月亮067"/>
          <p:cNvPicPr/>
          <p:nvPr/>
        </p:nvPicPr>
        <p:blipFill>
          <a:blip r:embed="rId1"/>
          <a:srcRect l="0" t="3946" r="0" b="0"/>
          <a:stretch/>
        </p:blipFill>
        <p:spPr>
          <a:xfrm>
            <a:off x="1332000" y="115920"/>
            <a:ext cx="606888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4" descr="圆圆的月亮068"/>
          <p:cNvPicPr/>
          <p:nvPr/>
        </p:nvPicPr>
        <p:blipFill>
          <a:blip r:embed="rId1"/>
          <a:srcRect l="3252" t="1875" r="0" b="4947"/>
          <a:stretch/>
        </p:blipFill>
        <p:spPr>
          <a:xfrm>
            <a:off x="1627200" y="0"/>
            <a:ext cx="618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4" descr="圆圆的月亮069"/>
          <p:cNvPicPr/>
          <p:nvPr/>
        </p:nvPicPr>
        <p:blipFill>
          <a:blip r:embed="rId1"/>
          <a:srcRect l="0" t="0" r="0" b="4970"/>
          <a:stretch/>
        </p:blipFill>
        <p:spPr>
          <a:xfrm>
            <a:off x="1403280" y="0"/>
            <a:ext cx="626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4" descr="圆圆的月亮070"/>
          <p:cNvPicPr/>
          <p:nvPr/>
        </p:nvPicPr>
        <p:blipFill>
          <a:blip r:embed="rId1"/>
          <a:srcRect l="3252" t="3381" r="0" b="8762"/>
          <a:stretch/>
        </p:blipFill>
        <p:spPr>
          <a:xfrm>
            <a:off x="1476360" y="93600"/>
            <a:ext cx="6469200" cy="67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4" descr="圆圆的月亮071"/>
          <p:cNvPicPr/>
          <p:nvPr/>
        </p:nvPicPr>
        <p:blipFill>
          <a:blip r:embed="rId1"/>
          <a:srcRect l="2159" t="926" r="2083" b="5896"/>
          <a:stretch/>
        </p:blipFill>
        <p:spPr>
          <a:xfrm>
            <a:off x="1258920" y="0"/>
            <a:ext cx="61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4" descr="圆圆的月亮072"/>
          <p:cNvPicPr/>
          <p:nvPr/>
        </p:nvPicPr>
        <p:blipFill>
          <a:blip r:embed="rId1"/>
          <a:srcRect l="3230" t="2805" r="0" b="8126"/>
          <a:stretch/>
        </p:blipFill>
        <p:spPr>
          <a:xfrm>
            <a:off x="1403280" y="0"/>
            <a:ext cx="647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4" descr="圆圆的月亮073"/>
          <p:cNvPicPr/>
          <p:nvPr/>
        </p:nvPicPr>
        <p:blipFill>
          <a:blip r:embed="rId1"/>
          <a:srcRect l="0" t="0" r="1992" b="2754"/>
          <a:stretch/>
        </p:blipFill>
        <p:spPr>
          <a:xfrm>
            <a:off x="2048040" y="0"/>
            <a:ext cx="6002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矩形 5"/>
          <p:cNvSpPr/>
          <p:nvPr/>
        </p:nvSpPr>
        <p:spPr>
          <a:xfrm>
            <a:off x="3203640" y="3357720"/>
            <a:ext cx="64764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圆圆的月亮074"/>
          <p:cNvPicPr/>
          <p:nvPr/>
        </p:nvPicPr>
        <p:blipFill>
          <a:blip r:embed="rId7"/>
          <a:srcRect l="3230" t="2805" r="0" b="8126"/>
          <a:stretch/>
        </p:blipFill>
        <p:spPr>
          <a:xfrm>
            <a:off x="1403280" y="0"/>
            <a:ext cx="647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4" descr="圆圆的月亮057"/>
          <p:cNvPicPr/>
          <p:nvPr/>
        </p:nvPicPr>
        <p:blipFill>
          <a:blip r:embed="rId1"/>
          <a:srcRect l="2918" t="1262" r="0" b="6794"/>
          <a:stretch/>
        </p:blipFill>
        <p:spPr>
          <a:xfrm>
            <a:off x="1476360" y="0"/>
            <a:ext cx="628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4" descr="圆圆的月亮075"/>
          <p:cNvPicPr/>
          <p:nvPr/>
        </p:nvPicPr>
        <p:blipFill>
          <a:blip r:embed="rId1"/>
          <a:srcRect l="0" t="0" r="1190" b="4970"/>
          <a:stretch/>
        </p:blipFill>
        <p:spPr>
          <a:xfrm>
            <a:off x="133200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4" descr="圆圆的月亮076"/>
          <p:cNvPicPr/>
          <p:nvPr/>
        </p:nvPicPr>
        <p:blipFill>
          <a:blip r:embed="rId1"/>
          <a:srcRect l="4323" t="2805" r="0" b="8126"/>
          <a:stretch/>
        </p:blipFill>
        <p:spPr>
          <a:xfrm>
            <a:off x="1547640" y="27000"/>
            <a:ext cx="639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4" descr="圆圆的月亮077"/>
          <p:cNvPicPr/>
          <p:nvPr/>
        </p:nvPicPr>
        <p:blipFill>
          <a:blip r:embed="rId1"/>
          <a:srcRect l="1093" t="0" r="904" b="10927"/>
          <a:stretch/>
        </p:blipFill>
        <p:spPr>
          <a:xfrm>
            <a:off x="1332000" y="0"/>
            <a:ext cx="655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4" descr="圆圆的月亮078"/>
          <p:cNvPicPr/>
          <p:nvPr/>
        </p:nvPicPr>
        <p:blipFill>
          <a:blip r:embed="rId1"/>
          <a:srcRect l="3230" t="2805" r="926" b="8126"/>
          <a:stretch/>
        </p:blipFill>
        <p:spPr>
          <a:xfrm>
            <a:off x="1476360" y="0"/>
            <a:ext cx="640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4" descr="圆圆的月亮079"/>
          <p:cNvPicPr/>
          <p:nvPr/>
        </p:nvPicPr>
        <p:blipFill>
          <a:blip r:embed="rId1"/>
          <a:srcRect l="0" t="0" r="0" b="10927"/>
          <a:stretch/>
        </p:blipFill>
        <p:spPr>
          <a:xfrm>
            <a:off x="1042920" y="0"/>
            <a:ext cx="668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4" descr="圆圆的月亮058"/>
          <p:cNvPicPr/>
          <p:nvPr/>
        </p:nvPicPr>
        <p:blipFill>
          <a:blip r:embed="rId1"/>
          <a:srcRect l="3252" t="3381" r="1992" b="5896"/>
          <a:stretch/>
        </p:blipFill>
        <p:spPr>
          <a:xfrm>
            <a:off x="1476360" y="0"/>
            <a:ext cx="621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4" descr="圆圆的月亮059"/>
          <p:cNvPicPr/>
          <p:nvPr/>
        </p:nvPicPr>
        <p:blipFill>
          <a:blip r:embed="rId1"/>
          <a:srcRect l="3650" t="2754" r="0" b="5901"/>
          <a:stretch/>
        </p:blipFill>
        <p:spPr>
          <a:xfrm>
            <a:off x="1476360" y="0"/>
            <a:ext cx="628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4" descr="圆圆的月亮060"/>
          <p:cNvPicPr/>
          <p:nvPr/>
        </p:nvPicPr>
        <p:blipFill>
          <a:blip r:embed="rId1"/>
          <a:srcRect l="3252" t="2455" r="0" b="10927"/>
          <a:stretch/>
        </p:blipFill>
        <p:spPr>
          <a:xfrm>
            <a:off x="1476360" y="115920"/>
            <a:ext cx="64692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4" descr="圆圆的月亮061"/>
          <p:cNvPicPr/>
          <p:nvPr/>
        </p:nvPicPr>
        <p:blipFill>
          <a:blip r:embed="rId1"/>
          <a:srcRect l="0" t="0" r="1227" b="5821"/>
          <a:stretch/>
        </p:blipFill>
        <p:spPr>
          <a:xfrm>
            <a:off x="1476360" y="0"/>
            <a:ext cx="624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4" descr="圆圆的月亮062"/>
          <p:cNvPicPr/>
          <p:nvPr/>
        </p:nvPicPr>
        <p:blipFill>
          <a:blip r:embed="rId1"/>
          <a:srcRect l="3230" t="3381" r="926" b="7547"/>
          <a:stretch/>
        </p:blipFill>
        <p:spPr>
          <a:xfrm>
            <a:off x="1619280" y="0"/>
            <a:ext cx="640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4" descr="圆圆的月亮063"/>
          <p:cNvPicPr/>
          <p:nvPr/>
        </p:nvPicPr>
        <p:blipFill>
          <a:blip r:embed="rId1"/>
          <a:srcRect l="0" t="0" r="1394" b="7771"/>
          <a:stretch/>
        </p:blipFill>
        <p:spPr>
          <a:xfrm>
            <a:off x="1403280" y="0"/>
            <a:ext cx="636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4" descr="圆圆的月亮064"/>
          <p:cNvPicPr/>
          <p:nvPr/>
        </p:nvPicPr>
        <p:blipFill>
          <a:blip r:embed="rId1"/>
          <a:srcRect l="3230" t="2805" r="2019" b="8126"/>
          <a:stretch/>
        </p:blipFill>
        <p:spPr>
          <a:xfrm>
            <a:off x="1332000" y="0"/>
            <a:ext cx="633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12:33:28Z</dcterms:created>
  <dc:creator>新教育</dc:creator>
  <dc:description/>
  <dc:language>en-US</dc:language>
  <cp:lastModifiedBy>admin</cp:lastModifiedBy>
  <dcterms:modified xsi:type="dcterms:W3CDTF">2015-01-19T07:03:35Z</dcterms:modified>
  <cp:revision>11</cp:revision>
  <dc:subject/>
  <dc:title>幻灯片 1</dc:title>
</cp:coreProperties>
</file>