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3" descr=""/>
          <p:cNvPicPr/>
          <p:nvPr/>
        </p:nvPicPr>
        <p:blipFill>
          <a:blip r:embed="rId1"/>
          <a:stretch/>
        </p:blipFill>
        <p:spPr>
          <a:xfrm>
            <a:off x="1835280" y="6480"/>
            <a:ext cx="55134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-15840" y="620640"/>
            <a:ext cx="9175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-7920" y="620640"/>
            <a:ext cx="9159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-3240" y="620640"/>
            <a:ext cx="9150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5840" y="692280"/>
            <a:ext cx="91281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9"/>
          <a:stretch/>
        </p:blipFill>
        <p:spPr>
          <a:xfrm>
            <a:off x="0" y="644400"/>
            <a:ext cx="914400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23760" y="549360"/>
            <a:ext cx="90853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-20520" y="620640"/>
            <a:ext cx="9185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1763640" y="15840"/>
            <a:ext cx="562932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1835280" y="44280"/>
            <a:ext cx="554508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"/>
          <p:cNvPicPr/>
          <p:nvPr/>
        </p:nvPicPr>
        <p:blipFill>
          <a:blip r:embed="rId1"/>
          <a:stretch/>
        </p:blipFill>
        <p:spPr>
          <a:xfrm>
            <a:off x="87480" y="744480"/>
            <a:ext cx="8988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" descr=""/>
          <p:cNvPicPr/>
          <p:nvPr/>
        </p:nvPicPr>
        <p:blipFill>
          <a:blip r:embed="rId1"/>
          <a:stretch/>
        </p:blipFill>
        <p:spPr>
          <a:xfrm>
            <a:off x="179280" y="830160"/>
            <a:ext cx="86407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0" y="633240"/>
            <a:ext cx="914400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" descr=""/>
          <p:cNvPicPr/>
          <p:nvPr/>
        </p:nvPicPr>
        <p:blipFill>
          <a:blip r:embed="rId1"/>
          <a:stretch/>
        </p:blipFill>
        <p:spPr>
          <a:xfrm>
            <a:off x="-6480" y="620640"/>
            <a:ext cx="9156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15840" y="620640"/>
            <a:ext cx="915984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7920" y="549360"/>
            <a:ext cx="9110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19T07:51:45Z</dcterms:modified>
  <cp:revision>6</cp:revision>
  <dc:subject/>
  <dc:title>PowerPoint 演示文稿</dc:title>
</cp:coreProperties>
</file>