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52A-6DC8-42C9-95F8-28A29E61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1E9-B8F4-4D29-9749-D85C47C4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1085-968B-4702-B6CE-CC6F315D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163B-53DD-4BE6-8BC7-5B90F5C6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D66-305A-48FA-8196-38E92BBE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204-BBB2-44B2-871F-6324EC3D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383-A3DA-4996-BF87-2E3C2769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99CA-FB55-434E-B45F-54C09415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38C-0705-4FE9-8A6C-F174229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C78D-7A59-40EE-9229-E04DA265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2AB7-FAD5-49F3-BC7C-02045A18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E366-ED5F-442F-B7D5-D097F618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05BE-50E3-4DB2-A775-47CF7EF848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350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哎呀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衣裙变成雨点花样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啦啦啦，啦啦啦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穿上雨点花样的连衣裙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漂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153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草籽的味道好香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哎呀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衣裙变成草籽花样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077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啦啦啦，啦啦啦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穿上草籽花样的连衣裙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漂亮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3059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哎呀，小鸟来吃草籽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哎呀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衣裙变成小鸟花样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9250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啊呀呀，飞起来了，飞起来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7772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虹花样的连衣裙，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真漂亮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8288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8288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衣裙变成晚霞花样了！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有点困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97160" y="336600"/>
            <a:ext cx="634968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07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7467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阳公公，早上好！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哎呀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连衣裙变成星星花样了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7543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啦啦啦，啦啦啦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漂亮的连衣裙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啦啦啦，啦啦啦，啦啦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78487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3152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块雪白的布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飘啊飘啊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天上飘了下来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6960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缝纫机，咔哒咔哒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来做一条连衣裙吧！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缝纫机，咔哒咔哒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缝纫机，咔哒咔哒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3500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6350040" cy="3810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6040" y="510516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做好了，做好了，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啦啦啦，啦啦啦，</a:t>
            </a:r>
            <a:br>
              <a:rPr sz="1800"/>
            </a:br>
            <a:r>
              <a:rPr b="1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我穿上漂亮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041200" y="4570920"/>
            <a:ext cx="244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好了，做好了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啦啦啦，啦啦啦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我穿上漂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喜欢走在花田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7848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哎呀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衣裙变成花朵花样了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76312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啦啦啦，啦啦啦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穿上花朵花样的连衣裙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漂亮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07696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哇，下雨了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45820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0:25:49Z</dcterms:created>
  <dc:creator>zhenghuili</dc:creator>
  <dc:description/>
  <dc:language>en-US</dc:language>
  <cp:lastModifiedBy>admin</cp:lastModifiedBy>
  <dcterms:modified xsi:type="dcterms:W3CDTF">2015-01-19T09:3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