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5.gif" ContentType="image/gif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411-CA9F-4B35-8B27-B40C35E4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62A-B41A-4F2C-859B-A3C6E736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0F9-AC23-4140-8384-15D6088B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772-D2C6-4363-9DCA-3E729C54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034-3ECF-443B-9ABF-58A348D2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CAF-72AE-41A1-9FB6-DE98012E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7C6-B73E-4ABC-A544-3C491C2D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06C-9082-4FE8-9031-13FDB3AC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FAE-FED1-41E7-9239-C039B6D9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8F3-2901-4447-92C2-10B1C1E0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0A6-3621-40F0-979A-997A882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A3B-B462-4974-901E-76032F6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98D-F7D7-4D83-9385-D2A471EC0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4773;&#26223;&#21160;&#30011;.swf" TargetMode="External"/><Relationship Id="rId3" Type="http://schemas.openxmlformats.org/officeDocument/2006/relationships/hyperlink" Target="file:///&#35838;&#25991;&#26391;&#35835;.swf" TargetMode="External"/><Relationship Id="rId4" Type="http://schemas.openxmlformats.org/officeDocument/2006/relationships/hyperlink" Target="file:///&#35748;&#35748;&#20889;&#20889;.swf" TargetMode="External"/><Relationship Id="rId5" Type="http://schemas.openxmlformats.org/officeDocument/2006/relationships/hyperlink" Target="file:///&#26085;&#31215;&#26376;&#32047;.swf" TargetMode="External"/><Relationship Id="rId6" Type="http://schemas.openxmlformats.org/officeDocument/2006/relationships/hyperlink" Target="file:///&#35838;&#25991;&#29702;&#35299;.swf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1377" t="7588" r="11169" b="9288"/>
          <a:stretch/>
        </p:blipFill>
        <p:spPr>
          <a:xfrm>
            <a:off x="325440" y="3500280"/>
            <a:ext cx="295128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280" y="3747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华世纪坛 人如海，歌如潮。人们相互击掌，相互拥抱，任激动的泪水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尽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流淌。江泽民主席等国家领导人来到欢乐的人群中，与大家同欢呼，共歌唱，把庆祝活动推向高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65440" y="3357720"/>
            <a:ext cx="4967280" cy="3322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03280" y="981000"/>
            <a:ext cx="575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5840" y="380880"/>
            <a:ext cx="152280" cy="533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304920" y="6095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5943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造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如（     ）  歌如（     ）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坐如（     ）  站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如（     ）  白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286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124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11377" t="9459" r="13040" b="9251"/>
          <a:stretch/>
        </p:blipFill>
        <p:spPr>
          <a:xfrm>
            <a:off x="6012000" y="3429000"/>
            <a:ext cx="2879640" cy="3097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rcRect l="9421" t="7588" r="11207" b="9288"/>
          <a:stretch/>
        </p:blipFill>
        <p:spPr>
          <a:xfrm>
            <a:off x="395280" y="3357720"/>
            <a:ext cx="3024360" cy="316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53352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，奥林匹克旗帜将在中国北京高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飘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27664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2008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北京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yee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2666880"/>
            <a:ext cx="614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们成功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19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199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019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0199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6019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60199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6019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6019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6019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3049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我会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057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9810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19810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981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19810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962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8862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86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5238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1447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p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44792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44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1447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5053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5053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429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4290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xi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偏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申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申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办    奥林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匹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    一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匹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互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互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    北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京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京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泪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  眼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泪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海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洋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洋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拥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抱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拥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互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飘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扬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685800" y="1752480"/>
            <a:ext cx="1599840" cy="1600200"/>
            <a:chOff x="685800" y="1752480"/>
            <a:chExt cx="1599840" cy="160020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685800" y="1752480"/>
              <a:ext cx="15998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171800" y="2169360"/>
              <a:ext cx="5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762120" y="3049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摘苹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362320" y="1676520"/>
            <a:ext cx="1427040" cy="1657080"/>
            <a:chOff x="2362320" y="1676520"/>
            <a:chExt cx="1427040" cy="165708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2362320" y="1676520"/>
              <a:ext cx="14270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889360" y="2108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886200" y="1676520"/>
            <a:ext cx="1427040" cy="1657080"/>
            <a:chOff x="3886200" y="1676520"/>
            <a:chExt cx="1427040" cy="165708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3886200" y="1676520"/>
              <a:ext cx="14270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413240" y="2108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410080" y="1676520"/>
            <a:ext cx="1427040" cy="1657080"/>
            <a:chOff x="5410080" y="1676520"/>
            <a:chExt cx="1427040" cy="1657080"/>
          </a:xfrm>
        </p:grpSpPr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5410080" y="1676520"/>
              <a:ext cx="14270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937120" y="2108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886200" y="3352680"/>
            <a:ext cx="1427040" cy="1657440"/>
            <a:chOff x="3886200" y="3352680"/>
            <a:chExt cx="1427040" cy="1657440"/>
          </a:xfrm>
        </p:grpSpPr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3886200" y="3352680"/>
              <a:ext cx="14270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13240" y="37846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486400" y="3352680"/>
            <a:ext cx="1427040" cy="1657440"/>
            <a:chOff x="5486400" y="3352680"/>
            <a:chExt cx="1427040" cy="1657440"/>
          </a:xfrm>
        </p:grpSpPr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5486400" y="3352680"/>
              <a:ext cx="14270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013440" y="37846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934320" y="3429000"/>
            <a:ext cx="1427040" cy="1657440"/>
            <a:chOff x="6934320" y="3429000"/>
            <a:chExt cx="1427040" cy="1657440"/>
          </a:xfrm>
        </p:grpSpPr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6934320" y="3429000"/>
              <a:ext cx="14270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61360" y="3861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34320" y="1676520"/>
            <a:ext cx="1427040" cy="1657080"/>
            <a:chOff x="6934320" y="1676520"/>
            <a:chExt cx="1427040" cy="1657080"/>
          </a:xfrm>
        </p:grpSpPr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6934320" y="1676520"/>
              <a:ext cx="14270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1360" y="2108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62120" y="3352680"/>
            <a:ext cx="1427040" cy="1657440"/>
            <a:chOff x="762120" y="3352680"/>
            <a:chExt cx="1427040" cy="1657440"/>
          </a:xfrm>
        </p:grpSpPr>
        <p:pic>
          <p:nvPicPr>
            <p:cNvPr id="112" name="" descr=""/>
            <p:cNvPicPr/>
            <p:nvPr/>
          </p:nvPicPr>
          <p:blipFill>
            <a:blip r:embed="rId10"/>
            <a:stretch/>
          </p:blipFill>
          <p:spPr>
            <a:xfrm>
              <a:off x="762120" y="3352680"/>
              <a:ext cx="14270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289160" y="37846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86000" y="3352680"/>
            <a:ext cx="1427040" cy="1657440"/>
            <a:chOff x="2286000" y="3352680"/>
            <a:chExt cx="1427040" cy="1657440"/>
          </a:xfrm>
        </p:grpSpPr>
        <p:pic>
          <p:nvPicPr>
            <p:cNvPr id="115" name="" descr=""/>
            <p:cNvPicPr/>
            <p:nvPr/>
          </p:nvPicPr>
          <p:blipFill>
            <a:blip r:embed="rId11"/>
            <a:stretch/>
          </p:blipFill>
          <p:spPr>
            <a:xfrm>
              <a:off x="2286000" y="3352680"/>
              <a:ext cx="14270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813040" y="37846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1430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37160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h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u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j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13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hu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124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l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04812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3124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124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z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3124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k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1447920"/>
            <a:ext cx="6782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同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    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舞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  敲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欢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雀跃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  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沼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奥林匹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496000" cy="4216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304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1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我们成功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13210" t="7588" r="11169" b="9251"/>
          <a:stretch/>
        </p:blipFill>
        <p:spPr>
          <a:xfrm>
            <a:off x="6012000" y="3355920"/>
            <a:ext cx="2881080" cy="3168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9640" y="4190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的夜晚，北京申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奥运会成功了。喜讯传来，人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不约而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涌上街头，北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立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变成了欢乐的海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2133720"/>
            <a:ext cx="27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708280"/>
            <a:ext cx="28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5327640" cy="374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010280" y="25146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马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3398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天安门广场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聚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了几十万群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10214" t="6170" r="10385" b="8759"/>
          <a:stretch/>
        </p:blipFill>
        <p:spPr>
          <a:xfrm>
            <a:off x="5869080" y="3357720"/>
            <a:ext cx="3024000" cy="3240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76360" y="981000"/>
            <a:ext cx="619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149076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98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挥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着国旗，在欢庆的锣鼓声中一遍遍高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15447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成功了！” “我们爱北京！” “祖国万岁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547640" y="3659040"/>
            <a:ext cx="3168720" cy="2217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16000" y="3429000"/>
            <a:ext cx="3889440" cy="2722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39640" y="2852640"/>
            <a:ext cx="5327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H</cp:lastModifiedBy>
  <dcterms:modified xsi:type="dcterms:W3CDTF">2009-10-29T18:31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