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C46-5124-4CA3-BB50-6FC6E475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594-E1AA-4E29-8A88-9DF66D81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BC7-C0DD-4368-8A23-065C0F2B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92C-2271-4196-A833-69BB33EB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BBB-AD74-4213-A9CA-BCE82517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F88-DB80-41D4-B996-6061F722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D03-E9C0-47F3-9F06-D115D6B0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C1F-CD31-4C3F-8C0A-147C5BC2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01D-3D6C-4CA5-9262-4B8F453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7B2-93DF-41C3-8728-6782DDE8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15E-D4C6-483A-AB94-CE0E075E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583-73F7-4B63-A7D4-6FC6ABE3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373F-7BF4-4D44-91A8-4178D6668F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2057400"/>
            <a:ext cx="691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黑体"/>
              </a:rPr>
              <a:t>玩具柜台前的孩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83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06600" y="2276640"/>
            <a:ext cx="471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的妈妈叹了口气，说：“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常年病着，家里生活并不富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心疼我，什么也不让我给他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27781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常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73080" y="2708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83664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兵的同学每学期都买一个新书包，妈妈看见小兵的书包已经用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了，想给他买个新的，他却说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5671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次期末考试，小兵语数都考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，妈妈想他买一套新衣服作为奖励，他却说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076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兵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生日到了，妈妈准备给他买一个生日蛋糕来庆祝，他却说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16000" y="2276640"/>
            <a:ext cx="726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的妈妈叹了口气，说：“他爸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常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着，家里生活不富裕。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疼我，什么也不让我给他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83808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了一会儿，男孩的妈妈来了，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兵，咱们回家吧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阿姨忍不住对他妈妈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孩子在这儿站半天了，您就给他买辆小汽车吧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，我只看看，不要妈妈买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男孩抢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孩子的妈妈叹了口气，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爸爸常年病着，家里生活不富裕。孩子心疼我，什么也不让我给他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17880" y="3357720"/>
            <a:ext cx="230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，谢谢，我不要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男孩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妈妈的手，走出了商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98100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着听着，售货员阿姨的眼圈红了，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懂事的孩子呀！这样吧，我买辆小汽车，送给他作节日礼物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597160" y="6491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80840" y="260280"/>
            <a:ext cx="456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合作学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阿姨和她的女儿给你留下什么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1828800"/>
            <a:ext cx="69105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黑体"/>
              </a:rPr>
              <a:t>谢  谢</a:t>
            </a:r>
            <a:r>
              <a:rPr b="0" lang="en-US" sz="6600" spc="-1" strike="noStrike">
                <a:solidFill>
                  <a:srgbClr val="ffff00"/>
                </a:solidFill>
                <a:latin typeface="Arial"/>
                <a:ea typeface="黑体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  <a:ea typeface="黑体"/>
              </a:rPr>
              <a:t>     </a:t>
            </a: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黑体"/>
              </a:rPr>
              <a:t>再  见</a:t>
            </a:r>
            <a:r>
              <a:rPr b="0" lang="en-US" sz="6600" spc="-1" strike="noStrike">
                <a:solidFill>
                  <a:srgbClr val="ffff00"/>
                </a:solidFill>
                <a:latin typeface="Arial"/>
                <a:ea typeface="黑体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32000" y="1268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12682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兴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1268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玩具柜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2781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药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79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咱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871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售  货 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4005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抢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4005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富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022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不转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1268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765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836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á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82224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ù  g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4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24782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4782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òu  h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371628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i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3708360"/>
            <a:ext cx="93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92320" y="1268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5280" y="24382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14479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ī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3526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ì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1523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兴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3352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32000" y="1268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12682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兴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1268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玩具柜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781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药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279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咱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871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售  货 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4005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抢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4005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富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022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不转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1268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765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46814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2286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柜台前有个小男孩，只要看到谁买小汽车，他就马上跟过去，目不转睛地盯着柜台上跑动的汽车，眼里闪着兴奋的光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27734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目不转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4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柜台前有个小男孩，只要看到谁买小汽车，他就马上跟过去，目不转睛地盯着柜台上跑动的汽车，眼里闪着兴奋的光芒。他是多么喜欢小汽车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19640" y="1197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目不转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342900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350028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孩点点头，又专心地看起小汽车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75120" y="35002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专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1173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1676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兴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67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163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11732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29440" y="2708280"/>
            <a:ext cx="168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，我只看看，不要妈妈买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孩抢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2:22:08Z</dcterms:created>
  <dc:creator>FROM_HW</dc:creator>
  <dc:description/>
  <cp:keywords/>
  <dc:language>en-US</dc:language>
  <cp:lastModifiedBy>User</cp:lastModifiedBy>
  <dcterms:modified xsi:type="dcterms:W3CDTF">2015-05-07T14:02:45Z</dcterms:modified>
  <cp:revision>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602</vt:lpwstr>
  </property>
</Properties>
</file>