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9.wmf" ContentType="image/x-wmf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7A2-47E2-4023-A35D-047D6C76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269-64CB-4626-90E1-B219DE27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47B-9CD2-491B-B131-343C5937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CE58-F2D8-4477-A352-69E78761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D5E4-BFA2-45BF-937E-AA6AD9F3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5C7D-BFC5-4907-A8A6-A3D8DAFC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BA0D-CDB9-40E6-8C8A-C7D7AF94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9824-E060-42E7-8C7A-3A2C448C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6A6B-094C-46C3-AE7B-FF61C1B7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C43F-E8B1-40F0-8727-52C0B6D4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081C-D4DD-4E21-A589-9A1C0CE3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7BB2-1774-4C96-B08F-E5987005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AA6C-D92F-4D44-BD24-4380CA12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97E0-96E6-4304-BC64-06A258F1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9259-C2FC-490F-9E6A-3343842B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46A8-A2A1-48B8-8E9A-23B553BA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37A2-072D-4627-A0AB-A7A2AF58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4D0A-E5EE-494B-874B-A09CAED8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390-CDE6-4E35-8BE4-EC8F81F8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297-C351-44EB-AF62-4C27DC5B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B152-F922-4357-85B4-BB906FA2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98F-240E-427D-84DB-83455D93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D93-52B0-4368-8428-A6E40649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3EA-7584-4734-ADCC-EC9A5D3D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2E76-655B-40A2-B771-87FCE6D12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A2D2-8B2F-443E-9081-DF79D4F72AB7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qr.cn/Html/wlmr/162521375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10378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99"/>
                </a:solidFill>
                <a:latin typeface="Arial"/>
              </a:rPr>
              <a:t>闻官军收河南河北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280" y="2637000"/>
            <a:ext cx="2087640" cy="44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杜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4" name="Picture 8" descr="《杜工部集》"/>
          <p:cNvPicPr/>
          <p:nvPr/>
        </p:nvPicPr>
        <p:blipFill>
          <a:blip r:embed="rId1"/>
          <a:stretch/>
        </p:blipFill>
        <p:spPr>
          <a:xfrm>
            <a:off x="3019320" y="2276640"/>
            <a:ext cx="5513400" cy="40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169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剑外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忽传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收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蓟北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初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涕泪满衣裳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7760" y="2060280"/>
            <a:ext cx="7908480" cy="388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1547640" y="3068640"/>
            <a:ext cx="1944720" cy="720720"/>
          </a:xfrm>
          <a:prstGeom prst="borderCallout1">
            <a:avLst>
              <a:gd name="adj1" fmla="val 18750"/>
              <a:gd name="adj2" fmla="val -8333"/>
              <a:gd name="adj3" fmla="val -74009"/>
              <a:gd name="adj4" fmla="val -2244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两个地名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明相隔数千里之远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1979640" y="836640"/>
            <a:ext cx="1512720" cy="936720"/>
          </a:xfrm>
          <a:prstGeom prst="wedgeRoundRectCallout">
            <a:avLst>
              <a:gd name="adj1" fmla="val -46745"/>
              <a:gd name="adj2" fmla="val 70000"/>
              <a:gd name="adj3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明消息来得突然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又极为迅速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6016680" y="3027240"/>
            <a:ext cx="1147680" cy="609840"/>
          </a:xfrm>
          <a:prstGeom prst="borderCallout1">
            <a:avLst>
              <a:gd name="adj1" fmla="val 18750"/>
              <a:gd name="adj2" fmla="val -8333"/>
              <a:gd name="adj3" fmla="val -64064"/>
              <a:gd name="adj4" fmla="val -6943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是刚一听到之意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6372360" y="981000"/>
            <a:ext cx="1800000" cy="865440"/>
          </a:xfrm>
          <a:prstGeom prst="wedgeRectCallout">
            <a:avLst>
              <a:gd name="adj1" fmla="val -75574"/>
              <a:gd name="adj2" fmla="val 7642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尽写悲喜交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酸甜共涌之态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3348000" y="2565000"/>
            <a:ext cx="503280" cy="6476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971640" y="4437000"/>
            <a:ext cx="5529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首联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写听到消息惊喜的情形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却看妻子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愁何在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漫卷诗书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喜欲狂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.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白日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放歌须纵酒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青春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做伴好还乡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1116000" y="692280"/>
            <a:ext cx="3095640" cy="1008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多年流亡的艰辛满布于妻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儿女们脸上的愁云一扫而去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219640" y="692280"/>
            <a:ext cx="3167280" cy="936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他们高兴得好像有些癫狂了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生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得表现了诗人一家在突然到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来的喜讯面前情感的巨大变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 flipH="1" flipV="1">
            <a:off x="3780000" y="1699920"/>
            <a:ext cx="142560" cy="57636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H="1" flipV="1">
            <a:off x="3492360" y="1699920"/>
            <a:ext cx="432000" cy="57636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 flipV="1">
            <a:off x="7308720" y="1628640"/>
            <a:ext cx="71640" cy="5032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 flipH="1" flipV="1">
            <a:off x="7092720" y="1628280"/>
            <a:ext cx="215640" cy="5749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1692360" y="3645000"/>
            <a:ext cx="1147680" cy="431640"/>
          </a:xfrm>
          <a:prstGeom prst="borderCallout1">
            <a:avLst>
              <a:gd name="adj1" fmla="val 18750"/>
              <a:gd name="adj2" fmla="val -8333"/>
              <a:gd name="adj3" fmla="val -123898"/>
              <a:gd name="adj4" fmla="val -3803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阳光灿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AutoShape 20"/>
          <p:cNvSpPr/>
          <p:nvPr/>
        </p:nvSpPr>
        <p:spPr>
          <a:xfrm>
            <a:off x="5651640" y="3573360"/>
            <a:ext cx="1363680" cy="495360"/>
          </a:xfrm>
          <a:prstGeom prst="borderCallout1">
            <a:avLst>
              <a:gd name="adj1" fmla="val 18750"/>
              <a:gd name="adj2" fmla="val -8333"/>
              <a:gd name="adj3" fmla="val -130768"/>
              <a:gd name="adj4" fmla="val -3725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美好的春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755640" y="46530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颔联  颈联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写全家人欣喜若狂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准备还乡的情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59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1" name="Picture 5" descr="闻官军收河南河北 插图01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即从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巴峡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穿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巫峡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便下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襄阳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向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洛阳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2916360" y="2349360"/>
            <a:ext cx="4464000" cy="609840"/>
          </a:xfrm>
          <a:prstGeom prst="borderCallout1">
            <a:avLst>
              <a:gd name="adj1" fmla="val 18750"/>
              <a:gd name="adj2" fmla="val -8333"/>
              <a:gd name="adj3" fmla="val -59115"/>
              <a:gd name="adj4" fmla="val -1290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四个地名间漫长的距离瞬间即至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瞬间即过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达了诗人迫不及待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归心似箭的心境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3924360" y="1915920"/>
            <a:ext cx="0" cy="4330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 flipV="1">
            <a:off x="6300720" y="1915920"/>
            <a:ext cx="0" cy="4330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 flipV="1">
            <a:off x="7451640" y="1915920"/>
            <a:ext cx="649440" cy="6490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823400" y="3860640"/>
            <a:ext cx="519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尾联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写诗人扇动想像的翅膀迅捷如飞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回到了自己的故乡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8" name="Ink 11" descr=""/>
          <p:cNvPicPr/>
          <p:nvPr/>
        </p:nvPicPr>
        <p:blipFill>
          <a:blip r:embed="rId1"/>
          <a:stretch/>
        </p:blipFill>
        <p:spPr>
          <a:xfrm>
            <a:off x="4299120" y="2540160"/>
            <a:ext cx="2801880" cy="5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46080" y="1557360"/>
            <a:ext cx="103356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闻官军收河南河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1042920" y="907920"/>
            <a:ext cx="432000" cy="4176720"/>
          </a:xfrm>
          <a:custGeom>
            <a:avLst/>
            <a:gdLst>
              <a:gd name="textAreaLeft" fmla="*/ 276120 w 432000"/>
              <a:gd name="textAreaRight" fmla="*/ 432360 w 432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547640" y="105264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首联    捷报传来喜泪沾裳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盼望已久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547640" y="234936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颔联     妻子一扫往日愁云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欣喜若狂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1547640" y="357336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颈联     纵酒欢唱作伴还乡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多年愿望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1547640" y="472428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尾联     想象中飞驰到洛阳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归心似箭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451640" y="981000"/>
            <a:ext cx="649440" cy="4103640"/>
          </a:xfrm>
          <a:custGeom>
            <a:avLst/>
            <a:gdLst>
              <a:gd name="textAreaLeft" fmla="*/ 0 w 649440"/>
              <a:gd name="textAreaRight" fmla="*/ 234360 w 649440"/>
              <a:gd name="textAreaTop" fmla="*/ 82800 h 4103640"/>
              <a:gd name="textAreaBottom" fmla="*/ 402084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16200" y="10800"/>
                  <a:pt x="21600" y="10800"/>
                </a:cubicBezTo>
                <a:cubicBezTo>
                  <a:pt x="162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7678800" y="1628640"/>
            <a:ext cx="10335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欢庆胜利急待还乡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Text Box 2"/>
          <p:cNvGrpSpPr/>
          <p:nvPr/>
        </p:nvGrpSpPr>
        <p:grpSpPr>
          <a:xfrm>
            <a:off x="536400" y="1749600"/>
            <a:ext cx="7967880" cy="3560760"/>
            <a:chOff x="536400" y="1749600"/>
            <a:chExt cx="7967880" cy="3560760"/>
          </a:xfrm>
        </p:grpSpPr>
        <p:pic>
          <p:nvPicPr>
            <p:cNvPr id="168" name="Text Box 2" descr=""/>
            <p:cNvPicPr/>
            <p:nvPr/>
          </p:nvPicPr>
          <p:blipFill>
            <a:blip r:embed="rId1"/>
            <a:stretch/>
          </p:blipFill>
          <p:spPr>
            <a:xfrm>
              <a:off x="536400" y="1749600"/>
              <a:ext cx="796788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42880" y="1755720"/>
              <a:ext cx="7953480" cy="35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  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70" name="Text Box 3"/>
          <p:cNvSpPr/>
          <p:nvPr/>
        </p:nvSpPr>
        <p:spPr>
          <a:xfrm>
            <a:off x="647640" y="979560"/>
            <a:ext cx="2592360" cy="5205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5400000"/>
          </a:gradFill>
          <a:ln cap="rnd" w="21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诗歌中心思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84360" y="1773360"/>
            <a:ext cx="7667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抒发了对官军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胜利的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之情，表达了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_________________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、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宋体"/>
              </a:rPr>
              <a:t>         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的心理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4362480" y="19526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喜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187280" y="2492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欣喜若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708360" y="2565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渴望归乡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杜甫02"/>
          <p:cNvPicPr/>
          <p:nvPr/>
        </p:nvPicPr>
        <p:blipFill>
          <a:blip r:embed="rId1"/>
          <a:stretch/>
        </p:blipFill>
        <p:spPr>
          <a:xfrm>
            <a:off x="468360" y="4762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533520" y="1042920"/>
            <a:ext cx="8076960" cy="53024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684360" y="1123920"/>
            <a:ext cx="2133360" cy="5205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5400000"/>
          </a:gradFill>
          <a:ln cap="rnd" w="21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名句赏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84360" y="1903320"/>
            <a:ext cx="7596000" cy="6426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cap="rnd" w="21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白日放歌须纵酒，青春作伴好还乡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85800" y="2824200"/>
            <a:ext cx="7594560" cy="17398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cap="rnd" w="21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大晴天里放声高歌，还要畅饮美酒，趁着这春光的陪伴，我正好回到我的故乡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两句诗描写在战乱中流离失所的作者一家，听到政府军队打仗胜利，收复失地时的欢欣喜悦和迫不及待要返回家乡的心情。意象极为明快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练一练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解释下列词语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涕泪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却看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妻子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漫卷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纵酒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青春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476360" y="371628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妻子儿女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547640" y="486900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纵情饮酒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539640" y="4869000"/>
            <a:ext cx="82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619280" y="2492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眼泪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1547640" y="306864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再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1476360" y="42210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随意卷起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1547640" y="544500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美好的春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8541000" cy="13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诗中哪个词揭示了全诗的主题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这诗表达了诗人怎样的思想感情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?</a:t>
            </a:r>
            <a:br>
              <a:rPr sz="4000"/>
            </a:b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540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诗人听到收复失地后的欣喜和迫切回乡之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3717e8d7728acc56a044df01"/>
          <p:cNvPicPr/>
          <p:nvPr/>
        </p:nvPicPr>
        <p:blipFill>
          <a:blip r:embed="rId1"/>
          <a:stretch/>
        </p:blipFill>
        <p:spPr>
          <a:xfrm>
            <a:off x="250920" y="260280"/>
            <a:ext cx="8712000" cy="64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540640" cy="52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对这首诗的赏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不正确的一项是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        )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这首诗集中地表现了诗人忽闻喜报后一瞬间的感情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突出地书写了一个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喜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]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字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个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满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]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字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表露了诗人高兴得泪如泉涌的状貌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逼真地展示了一个饱经沧桑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在战乱中苦苦挣扎的人此时此刻喜不自禁的感情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.[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青春作伴好还乡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]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句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诗人用拟人手法写出了即将启程还乡时内心的无比喜悦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D.[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便下襄阳向洛阳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]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个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下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]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字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个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向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]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字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生动地表现了战乱平息后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诗人终于得以还乡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路游山玩水的闲适情调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94360" y="82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7610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杜甫诞辰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300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周年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--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858920" y="1773000"/>
            <a:ext cx="40546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5" name="Picture 4" descr="9de0f50d580aa2e13812bbf8"/>
          <p:cNvPicPr/>
          <p:nvPr/>
        </p:nvPicPr>
        <p:blipFill>
          <a:blip r:embed="rId1"/>
          <a:stretch/>
        </p:blipFill>
        <p:spPr>
          <a:xfrm>
            <a:off x="0" y="1052640"/>
            <a:ext cx="4356000" cy="5805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2_watermark"/>
          <p:cNvPicPr/>
          <p:nvPr/>
        </p:nvPicPr>
        <p:blipFill>
          <a:blip r:embed="rId2"/>
          <a:stretch/>
        </p:blipFill>
        <p:spPr>
          <a:xfrm>
            <a:off x="4572000" y="1052640"/>
            <a:ext cx="4572000" cy="5805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5508720" y="54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3300"/>
                </a:solidFill>
                <a:latin typeface="Arial"/>
              </a:rPr>
              <a:t>但是杜甫很忙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3453j413-19"/>
          <p:cNvPicPr/>
          <p:nvPr/>
        </p:nvPicPr>
        <p:blipFill>
          <a:blip r:embed="rId1"/>
          <a:stretch/>
        </p:blipFill>
        <p:spPr>
          <a:xfrm>
            <a:off x="250920" y="115920"/>
            <a:ext cx="4673520" cy="6742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e10ad9ba7e6a25e58ad4b2f8"/>
          <p:cNvPicPr/>
          <p:nvPr/>
        </p:nvPicPr>
        <p:blipFill>
          <a:blip r:embed="rId2"/>
          <a:stretch/>
        </p:blipFill>
        <p:spPr>
          <a:xfrm>
            <a:off x="5176800" y="0"/>
            <a:ext cx="3967200" cy="665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577a1ad66eb8baa332fa1cff"/>
          <p:cNvPicPr/>
          <p:nvPr/>
        </p:nvPicPr>
        <p:blipFill>
          <a:blip r:embed="rId1"/>
          <a:stretch/>
        </p:blipFill>
        <p:spPr>
          <a:xfrm>
            <a:off x="179280" y="3860640"/>
            <a:ext cx="4608720" cy="2784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066370fe15cbd221a50f52b2"/>
          <p:cNvPicPr/>
          <p:nvPr/>
        </p:nvPicPr>
        <p:blipFill>
          <a:blip r:embed="rId2"/>
          <a:stretch/>
        </p:blipFill>
        <p:spPr>
          <a:xfrm>
            <a:off x="5076720" y="260280"/>
            <a:ext cx="3936960" cy="6435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dcc249225684adcfad34de98"/>
          <p:cNvPicPr/>
          <p:nvPr/>
        </p:nvPicPr>
        <p:blipFill>
          <a:blip r:embed="rId3"/>
          <a:stretch/>
        </p:blipFill>
        <p:spPr>
          <a:xfrm>
            <a:off x="179280" y="260280"/>
            <a:ext cx="4680000" cy="353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9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3717e8d7728acc56a044df01"/>
          <p:cNvPicPr/>
          <p:nvPr/>
        </p:nvPicPr>
        <p:blipFill>
          <a:blip r:embed="rId1"/>
          <a:stretch/>
        </p:blipFill>
        <p:spPr>
          <a:xfrm>
            <a:off x="250920" y="260280"/>
            <a:ext cx="8712000" cy="6454800"/>
          </a:xfrm>
          <a:prstGeom prst="rect">
            <a:avLst/>
          </a:prstGeom>
          <a:ln w="0">
            <a:noFill/>
          </a:ln>
        </p:spPr>
      </p:pic>
      <p:pic>
        <p:nvPicPr>
          <p:cNvPr id="204" name="国家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中国人.mp3" descr=""/>
          <p:cNvPicPr/>
          <p:nvPr/>
        </p:nvPicPr>
        <p:blipFill>
          <a:blip r:embed="rId3"/>
          <a:stretch/>
        </p:blipFill>
        <p:spPr>
          <a:xfrm>
            <a:off x="8675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0" dur="indefinite" restart="never" nodeType="tmRoot">
          <p:childTnLst>
            <p:seq>
              <p:cTn id="471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72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267292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77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0" dur="233895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755640" y="1844640"/>
            <a:ext cx="3352680" cy="44830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0"/>
          </a:gradFill>
          <a:ln cap="rnd" w="21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剑外忽传收蓟北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初闻涕泪满衣裳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却看妻子愁何在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漫卷诗书喜欲狂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白日放歌须纵酒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青春作伴好还乡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即从巴峡穿巫峡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便下襄阳向洛阳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971640" y="692280"/>
            <a:ext cx="3200400" cy="5205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5400000"/>
          </a:gradFill>
          <a:ln w="2160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闻官军收河南河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419640" y="1341360"/>
            <a:ext cx="6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杜甫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9" name="Picture 5" descr="6374f77cce00864c95e909eb42880808"/>
          <p:cNvPicPr/>
          <p:nvPr/>
        </p:nvPicPr>
        <p:blipFill>
          <a:blip r:embed="rId1"/>
          <a:stretch/>
        </p:blipFill>
        <p:spPr>
          <a:xfrm>
            <a:off x="5240160" y="692280"/>
            <a:ext cx="3903840" cy="568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27144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当易网 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http://www.downyi.com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552600" y="1801800"/>
            <a:ext cx="7956360" cy="3679920"/>
          </a:xfrm>
          <a:prstGeom prst="horizontalScroll">
            <a:avLst>
              <a:gd name="adj" fmla="val 7712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84360" y="1268280"/>
            <a:ext cx="1871640" cy="5205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5400000"/>
          </a:gradFill>
          <a:ln cap="rnd" w="21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学习目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838080" y="38736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感受古代诗词的艺术魅力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838080" y="28558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了解所学唐诗的诗意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838080" y="336384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体会作者的思想感情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50623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杜甫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71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77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字子美，生于河南巩县（今河南省巩县）。世称杜少陵、杜工部、杜拾遗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生活在唐朝由盛转衰的历史时期，其诗多涉社会动荡、政治黑暗、人民疾苦，被誉为“诗史”。其人忧国忧民，人格高尚，诗艺精湛，被奉为“诗圣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代表作有“三吏”“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三别”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3" name="Picture 10" descr="6374f77cce00864c95e909eb42880808"/>
          <p:cNvPicPr/>
          <p:nvPr/>
        </p:nvPicPr>
        <p:blipFill>
          <a:blip r:embed="rId2"/>
          <a:stretch/>
        </p:blipFill>
        <p:spPr>
          <a:xfrm>
            <a:off x="5435640" y="1557360"/>
            <a:ext cx="340992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838080" y="838080"/>
            <a:ext cx="784872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背景探秘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公元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76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，唐代安史之乱的叛军头目史朝义（史思明的儿子）兵败自杀，河南河北相继收复。当时诗人在梓州（现在的四川省三台县），听到胜利的消息后，写了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闻官军收河南河北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这首诗，是杜甫“生平第一首快诗”，也就是最兴奋的时候写下的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读一读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请同学们有感情的自由朗读全诗，揣摩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顿、语气、语调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并试着理解全诗的内容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" name="闻官军.mp3" descr=""/>
          <p:cNvPicPr/>
          <p:nvPr/>
        </p:nvPicPr>
        <p:blipFill>
          <a:blip r:embed="rId1"/>
          <a:stretch/>
        </p:blipFill>
        <p:spPr>
          <a:xfrm>
            <a:off x="395280" y="515772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56007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09680" y="609480"/>
            <a:ext cx="35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828800" y="53352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闻官军收河南河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981080" y="1752480"/>
            <a:ext cx="5562720" cy="47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剑外忽传收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蓟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( </a:t>
            </a: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jì )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北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初闻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涕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tì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泪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满衣裳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hɑng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却看妻子愁何在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漫卷诗书喜欲狂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白日放歌须纵酒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青春作伴好还乡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即从巴峡穿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巫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wū)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峡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便下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襄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xiān</a:t>
            </a:r>
            <a:r>
              <a:rPr b="1" lang="en-US" sz="3600" spc="-1" strike="noStrike">
                <a:solidFill>
                  <a:srgbClr val="cc0066"/>
                </a:solidFill>
                <a:latin typeface="宋体"/>
              </a:rPr>
              <a:t>ɡ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阳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向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洛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luò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阳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838080" y="0"/>
            <a:ext cx="7921800" cy="70866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219320" y="11430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剑外忽然间传扬着收复蓟北的消息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143000" y="1600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刚刚听到这个喜讯，泪水就洒满了衣裳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600200" y="21337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再看看老伴和孩子，哪里还有一丝的忧愁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447920" y="2743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胡乱地卷起诗书，高兴得简直要发狂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914400" y="3352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在大晴天里放声高歌，还要畅饮美酒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295280" y="3962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趁着这春光的陪伴，我正好回到我的故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752480" y="44956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放舟从巴峡东下，穿越巫峡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752480" y="51055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顺流而下一过襄阳，便一直奔向故乡洛阳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62120" y="2286000"/>
            <a:ext cx="99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Oval 3"/>
          <p:cNvSpPr/>
          <p:nvPr/>
        </p:nvSpPr>
        <p:spPr>
          <a:xfrm>
            <a:off x="1523880" y="48769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6172200" y="1219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5562720" y="36576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5181480" y="4724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143000" y="5257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剑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505320" y="3809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巫峡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133720" y="3505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巴峡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54864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襄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5867280" y="3429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洛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6095880" y="6094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蓟北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09480" y="4343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四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4572000" y="297180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河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5334120" y="60948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河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Freeform 17"/>
          <p:cNvSpPr/>
          <p:nvPr/>
        </p:nvSpPr>
        <p:spPr>
          <a:xfrm>
            <a:off x="0" y="3968640"/>
            <a:ext cx="8305920" cy="2889360"/>
          </a:xfrm>
          <a:prstGeom prst="pie">
            <a:avLst/>
          </a:pr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Oval 18"/>
          <p:cNvSpPr/>
          <p:nvPr/>
        </p:nvSpPr>
        <p:spPr>
          <a:xfrm>
            <a:off x="38862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Freeform 19"/>
          <p:cNvSpPr/>
          <p:nvPr/>
        </p:nvSpPr>
        <p:spPr>
          <a:xfrm>
            <a:off x="2819520" y="4191120"/>
            <a:ext cx="1143000" cy="380880"/>
          </a:xfrm>
          <a:prstGeom prst="pie">
            <a:avLst/>
          </a:pr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Oval 20"/>
          <p:cNvSpPr/>
          <p:nvPr/>
        </p:nvSpPr>
        <p:spPr>
          <a:xfrm>
            <a:off x="274320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0" y="5943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长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7620120" y="4724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8534520" y="3733920"/>
            <a:ext cx="609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海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9:20:57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6-07-03T13:40:04Z</dcterms:modified>
  <cp:revision>45</cp:revision>
  <dc:subject>第一PPT模板网-WWW.1PPT.COM</dc:subject>
  <dc:title>第一PPT模板网-WWW.1PPT.COM</dc:title>
</cp:coreProperties>
</file>