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B32B-543A-4E54-8014-132EB516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CA2D-BE5A-4E08-AD3A-E925CEC8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EE24-DBC2-41D4-8BB7-F5EA68A1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3970-8BE2-4964-894B-CA7A0AE5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A9C4-C708-40FC-A57F-05D26418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39A7-C56E-4B73-A600-5F40A8AB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B21B-EAE0-40B1-B760-2395D57B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E66-FA93-4D8C-BBFA-073A65F3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D10A-97C3-43EC-B7BF-989E6F5C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F89E-7F39-4F8F-9C30-CFAAD0EB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F4F2-4A81-4DD7-B7DA-5B5BD09E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B92B-5FF7-4650-B74D-F45D052F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9466-8BA2-4647-9F02-378928ECC1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85080" cy="5913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981000"/>
            <a:ext cx="871380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走街串巷　天津　海棠  把儿   损伤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晾晒   闷煮  竹签　 削东西</a:t>
            </a:r>
            <a:r>
              <a:rPr b="1" lang="zh-CN" sz="4000" spc="-1" strike="noStrike">
                <a:solidFill>
                  <a:srgbClr val="0099ff"/>
                </a:solidFill>
                <a:latin typeface="黑体"/>
                <a:ea typeface="黑体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耽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甩出   蘸糖　 赚钱　 嫌弃　掺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44704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浏览课文，找出课文中出现的三处“万年牢”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49"/>
          <a:stretch/>
        </p:blipFill>
        <p:spPr>
          <a:xfrm>
            <a:off x="3780000" y="3716280"/>
            <a:ext cx="500364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40464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我的糖葫芦蘸得均匀，越薄越见功夫，吃一口让人叫好，蘸出的糖葫芦不怕冷不怕热不怕潮，这叫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万年牢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0" r="0" b="49"/>
          <a:stretch/>
        </p:blipFill>
        <p:spPr>
          <a:xfrm>
            <a:off x="4427640" y="4329000"/>
            <a:ext cx="471636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公平买卖走正道，顾客点头说声好，回头再来这是宝，做生意讲实在是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万年牢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49"/>
          <a:stretch/>
        </p:blipFill>
        <p:spPr>
          <a:xfrm>
            <a:off x="4427640" y="4329000"/>
            <a:ext cx="4716360" cy="2529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19280" y="4076640"/>
            <a:ext cx="2592360" cy="609840"/>
          </a:xfrm>
          <a:prstGeom prst="cloudCallout">
            <a:avLst>
              <a:gd name="adj1" fmla="val -47796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0" b="49"/>
          <a:stretch/>
        </p:blipFill>
        <p:spPr>
          <a:xfrm>
            <a:off x="4427640" y="4329000"/>
            <a:ext cx="4716360" cy="25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69228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父亲教导我做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万年牢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，就是要做个可靠的人，实实在在的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549360"/>
            <a:ext cx="828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的糖葫芦蘸得均匀，越薄越见功夫，吃一口让人叫好，蘸出的糖葫芦不怕冷不怕热不怕潮，这叫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万年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公平买卖走正道，顾客点头说声好，回头再来这是宝，做生意讲实在是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万年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父亲教导我做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万年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就是要做个可靠的人，实实在在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54936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我的糖葫芦蘸得均匀，越薄越见功夫，吃一口让人叫好，蘸出的糖葫芦不怕冷不怕热不怕潮，这叫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万年牢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0" b="49"/>
          <a:stretch/>
        </p:blipFill>
        <p:spPr>
          <a:xfrm>
            <a:off x="4427640" y="4329000"/>
            <a:ext cx="471636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万年牢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——糖葫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父亲做糖葫芦有哪几个步骤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292720" y="4221000"/>
            <a:ext cx="3133800" cy="2349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4000" y="314172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从哪些句子可以体会到父亲做事认真、实在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公平买卖走正道，顾客点头说声好，回头再来这是宝，做生意讲实在是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万年牢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0" r="0" b="49"/>
          <a:stretch/>
        </p:blipFill>
        <p:spPr>
          <a:xfrm>
            <a:off x="4427640" y="4329000"/>
            <a:ext cx="471636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0" r="0" b="49"/>
          <a:stretch/>
        </p:blipFill>
        <p:spPr>
          <a:xfrm>
            <a:off x="4427640" y="4329000"/>
            <a:ext cx="4716360" cy="2529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69228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父亲教导我做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万年牢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，就是要做个可靠的人，实实在在的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920000" cy="57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万年牢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——做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209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　　　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怎样的人可以称得上是万年牢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35880" cy="52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父亲教导“我”做万年牢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就是要“我”对待父母（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就是要“我”对待朋友（      ）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就是要“我”对待学习（      ）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就是要“我”对待工作（      ）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700360" y="5661000"/>
            <a:ext cx="6087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动动小笔头吧！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979280" y="620280"/>
            <a:ext cx="6767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在生活和学习中，我们怎样才能成为万年牢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0" b="49"/>
          <a:stretch/>
        </p:blipFill>
        <p:spPr>
          <a:xfrm>
            <a:off x="0" y="3213000"/>
            <a:ext cx="9144000" cy="3843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987640" y="404640"/>
            <a:ext cx="36860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万年牢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85080" cy="60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28000" cy="602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843280" y="549360"/>
            <a:ext cx="36860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万年牢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读读课文，想想课文主要讲了一个怎样的故事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692280"/>
            <a:ext cx="864216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xiàng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g    bà       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走街串巷　天津　海棠  把儿  损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g   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       q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   x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o          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晾晒  闷煮  竹签　 削东西</a:t>
            </a:r>
            <a:r>
              <a:rPr b="1" lang="zh-CN" sz="4000" spc="-1" strike="noStrike">
                <a:solidFill>
                  <a:srgbClr val="0099ff"/>
                </a:solidFill>
                <a:latin typeface="黑体"/>
                <a:ea typeface="黑体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耽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   z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   zh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     x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    c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甩出  蘸糖　赚钱　 嫌弃　掺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981000"/>
            <a:ext cx="871380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走街串巷　天津　海棠  把儿   损伤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晾晒   闷煮  竹签　 削东西</a:t>
            </a:r>
            <a:r>
              <a:rPr b="1" lang="zh-CN" sz="4000" spc="-1" strike="noStrike">
                <a:solidFill>
                  <a:srgbClr val="0099ff"/>
                </a:solidFill>
                <a:latin typeface="黑体"/>
                <a:ea typeface="黑体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耽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甩出   蘸糖　 赚钱　 嫌弃　掺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836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红果、海棠去了把儿和尾，有一点儿掉皮损伤的都要挑出来，选出上好的在阳光下晾晒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2924280"/>
            <a:ext cx="806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给父亲当帮手，把炉火闷好，再把一块大理石板洗擦干净，擦上油备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4581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串糖葫芦的竹签，由我一根根削好、洗净、晾干，然后一捆捆放在父亲手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7:51:17Z</dcterms:created>
  <dc:creator>user</dc:creator>
  <dc:description/>
  <dc:language>en-US</dc:language>
  <cp:lastModifiedBy>微软用户</cp:lastModifiedBy>
  <dcterms:modified xsi:type="dcterms:W3CDTF">2011-05-09T07:51:52Z</dcterms:modified>
  <cp:revision>47</cp:revision>
  <dc:subject/>
  <dc:title>幻灯片 1</dc:title>
</cp:coreProperties>
</file>