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27.jpeg" ContentType="image/jpeg"/>
  <Override PartName="/ppt/media/image25.gif" ContentType="image/gif"/>
  <Override PartName="/ppt/media/image6.jpeg" ContentType="image/jpeg"/>
  <Override PartName="/ppt/media/image16.png" ContentType="image/png"/>
  <Override PartName="/ppt/media/image21.jpeg" ContentType="image/jpeg"/>
  <Override PartName="/ppt/media/chimes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83B-4FB2-45CC-B818-01742211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0C9-F27D-4A0A-9BE5-7FACA926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325-99AF-4164-B10B-1C1FEF05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2D7-D492-4F1F-AEDC-16683464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E04-9B3D-4183-A10A-1974ACA0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03D-9F6B-4DC4-A5E7-01214FB4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91B-A1A8-4947-8BA1-428D6F91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4CF-98BF-45E4-8D1D-3DD3CA07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E78-DC23-434E-BADD-2B230F3A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93E-DADB-487C-8F6D-38DB3E39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1D8-D7BC-4B5D-8853-244C39CF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905-7218-48EF-92F9-0D9E9A26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E915-49FC-4DFC-B388-17CB3DF310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5.xm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5.xml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3203640" y="64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 Box 3" descr=""/>
          <p:cNvPicPr/>
          <p:nvPr/>
        </p:nvPicPr>
        <p:blipFill>
          <a:blip r:embed="rId2"/>
          <a:stretch/>
        </p:blipFill>
        <p:spPr>
          <a:xfrm>
            <a:off x="865080" y="1279440"/>
            <a:ext cx="7182000" cy="1878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304920" y="53341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907920"/>
            <a:ext cx="85694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危楼高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百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手可摘星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敢高声语，恐惊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天上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桃花潭水深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千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白发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三千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缘愁似个长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山鸟飞绝，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径人踪灭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1-1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5181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324480" y="1600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257800" y="2492280"/>
            <a:ext cx="3886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照香炉生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562720" y="5715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壮丽景色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庐山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1-06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8" name="Picture 5" descr="大天池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6"/>
            <p:cNvSpPr/>
            <p:nvPr/>
          </p:nvSpPr>
          <p:spPr>
            <a:xfrm>
              <a:off x="877320" y="55627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大天池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Picture 8" descr="东林寺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9"/>
            <p:cNvSpPr/>
            <p:nvPr/>
          </p:nvSpPr>
          <p:spPr>
            <a:xfrm>
              <a:off x="1105920" y="563868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东林寺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"/>
          <p:cNvGrpSpPr/>
          <p:nvPr/>
        </p:nvGrpSpPr>
        <p:grpSpPr>
          <a:xfrm>
            <a:off x="0" y="-152280"/>
            <a:ext cx="9144000" cy="7010280"/>
            <a:chOff x="0" y="-152280"/>
            <a:chExt cx="9144000" cy="7010280"/>
          </a:xfrm>
        </p:grpSpPr>
        <p:pic>
          <p:nvPicPr>
            <p:cNvPr id="84" name="Picture 11" descr="花径"/>
            <p:cNvPicPr/>
            <p:nvPr/>
          </p:nvPicPr>
          <p:blipFill>
            <a:blip r:embed="rId5"/>
            <a:stretch/>
          </p:blipFill>
          <p:spPr>
            <a:xfrm>
              <a:off x="0" y="-15228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2"/>
            <p:cNvSpPr/>
            <p:nvPr/>
          </p:nvSpPr>
          <p:spPr>
            <a:xfrm>
              <a:off x="6289200" y="537696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花  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13"/>
          <p:cNvGrpSpPr/>
          <p:nvPr/>
        </p:nvGrpSpPr>
        <p:grpSpPr>
          <a:xfrm>
            <a:off x="0" y="0"/>
            <a:ext cx="9144000" cy="7086240"/>
            <a:chOff x="0" y="0"/>
            <a:chExt cx="9144000" cy="7086240"/>
          </a:xfrm>
        </p:grpSpPr>
        <p:pic>
          <p:nvPicPr>
            <p:cNvPr id="87" name="Picture 14" descr="龙首崖"/>
            <p:cNvPicPr/>
            <p:nvPr/>
          </p:nvPicPr>
          <p:blipFill>
            <a:blip r:embed="rId6"/>
            <a:srcRect l="0" t="15276" r="0" b="34724"/>
            <a:stretch/>
          </p:blipFill>
          <p:spPr>
            <a:xfrm>
              <a:off x="0" y="0"/>
              <a:ext cx="9144000" cy="70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5"/>
            <p:cNvSpPr/>
            <p:nvPr/>
          </p:nvSpPr>
          <p:spPr>
            <a:xfrm>
              <a:off x="6744960" y="5721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龙首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6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pic>
          <p:nvPicPr>
            <p:cNvPr id="90" name="Picture 17" descr="桃花园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8"/>
            <p:cNvSpPr/>
            <p:nvPr/>
          </p:nvSpPr>
          <p:spPr>
            <a:xfrm>
              <a:off x="6652800" y="511488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桃花园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19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pic>
          <p:nvPicPr>
            <p:cNvPr id="93" name="Picture 20" descr="五老峰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144000" cy="71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1"/>
            <p:cNvSpPr/>
            <p:nvPr/>
          </p:nvSpPr>
          <p:spPr>
            <a:xfrm>
              <a:off x="6820920" y="54864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五老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22"/>
          <p:cNvGrpSpPr/>
          <p:nvPr/>
        </p:nvGrpSpPr>
        <p:grpSpPr>
          <a:xfrm>
            <a:off x="0" y="0"/>
            <a:ext cx="9144000" cy="7238880"/>
            <a:chOff x="0" y="0"/>
            <a:chExt cx="9144000" cy="7238880"/>
          </a:xfrm>
        </p:grpSpPr>
        <p:pic>
          <p:nvPicPr>
            <p:cNvPr id="96" name="Picture 23" descr="三叠泉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72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24"/>
            <p:cNvSpPr/>
            <p:nvPr/>
          </p:nvSpPr>
          <p:spPr>
            <a:xfrm>
              <a:off x="6744960" y="5334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三叠泉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pic>
          <p:nvPicPr>
            <p:cNvPr id="99" name="Picture 3" descr="三叠泉水"/>
            <p:cNvPicPr/>
            <p:nvPr/>
          </p:nvPicPr>
          <p:blipFill>
            <a:blip r:embed="rId1"/>
            <a:srcRect l="0" t="4441" r="0" b="10002"/>
            <a:stretch/>
          </p:blipFill>
          <p:spPr>
            <a:xfrm>
              <a:off x="0" y="0"/>
              <a:ext cx="9144000" cy="71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"/>
            <p:cNvSpPr/>
            <p:nvPr/>
          </p:nvSpPr>
          <p:spPr>
            <a:xfrm>
              <a:off x="6744960" y="5334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三叠泉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596"/>
          <p:cNvPicPr/>
          <p:nvPr/>
        </p:nvPicPr>
        <p:blipFill>
          <a:blip r:embed="rId1"/>
          <a:srcRect l="0" t="1663" r="4000" b="4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1588"/>
          <p:cNvPicPr/>
          <p:nvPr/>
        </p:nvPicPr>
        <p:blipFill>
          <a:blip r:embed="rId2"/>
          <a:srcRect l="3336" t="4193" r="3336" b="90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676"/>
          <p:cNvPicPr/>
          <p:nvPr/>
        </p:nvPicPr>
        <p:blipFill>
          <a:blip r:embed="rId3"/>
          <a:srcRect l="0" t="6558" r="0" b="82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585"/>
          <p:cNvPicPr/>
          <p:nvPr/>
        </p:nvPicPr>
        <p:blipFill>
          <a:blip r:embed="rId1"/>
          <a:srcRect l="0" t="4999" r="1412" b="8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ANI_04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0199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595(1)"/>
          <p:cNvPicPr/>
          <p:nvPr/>
        </p:nvPicPr>
        <p:blipFill>
          <a:blip r:embed="rId1"/>
          <a:srcRect l="0" t="1663" r="4000" b="4999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ALL01567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EUR0688"/>
          <p:cNvPicPr/>
          <p:nvPr/>
        </p:nvPicPr>
        <p:blipFill>
          <a:blip r:embed="rId3"/>
          <a:srcRect l="0" t="0" r="0" b="889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1584(1)"/>
          <p:cNvPicPr/>
          <p:nvPr/>
        </p:nvPicPr>
        <p:blipFill>
          <a:blip r:embed="rId4"/>
          <a:srcRect l="3294" t="1663" r="3294" b="667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677"/>
          <p:cNvPicPr/>
          <p:nvPr/>
        </p:nvPicPr>
        <p:blipFill>
          <a:blip r:embed="rId5"/>
          <a:srcRect l="5875" t="0" r="23531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7"/>
          <p:cNvGrpSpPr/>
          <p:nvPr/>
        </p:nvGrpSpPr>
        <p:grpSpPr>
          <a:xfrm>
            <a:off x="4572000" y="0"/>
            <a:ext cx="4572000" cy="6858000"/>
            <a:chOff x="4572000" y="0"/>
            <a:chExt cx="4572000" cy="6858000"/>
          </a:xfrm>
        </p:grpSpPr>
        <p:pic>
          <p:nvPicPr>
            <p:cNvPr id="112" name="Picture 8" descr="3285(1)"/>
            <p:cNvPicPr/>
            <p:nvPr/>
          </p:nvPicPr>
          <p:blipFill>
            <a:blip r:embed="rId6"/>
            <a:srcRect l="2588" t="1663" r="1412" b="4999"/>
            <a:stretch/>
          </p:blipFill>
          <p:spPr>
            <a:xfrm>
              <a:off x="457200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9" descr="ANI_048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305920" y="60199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b3"/>
          <p:cNvPicPr/>
          <p:nvPr/>
        </p:nvPicPr>
        <p:blipFill>
          <a:blip r:embed="rId1"/>
          <a:stretch/>
        </p:blipFill>
        <p:spPr>
          <a:xfrm>
            <a:off x="0" y="-233280"/>
            <a:ext cx="9144000" cy="7091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0" y="0"/>
            <a:ext cx="5580000" cy="338580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还没看见瀑布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先听见瀑布的声音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好像叠叠的浪涌上岸滩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又像阵阵的风吹过松林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山路忽然一转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啊！望见了瀑布的全身！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916360" y="3429000"/>
            <a:ext cx="6227640" cy="338580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这般景象没法比喻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千丈青山衬着一道白银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站在瀑布脚下仰望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好伟大呀，一座珍珠的屏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时时来一阵风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把它吹得如烟，如雾，如尘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5508720" y="404640"/>
            <a:ext cx="34336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08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瀑布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68360" y="5734080"/>
            <a:ext cx="647640" cy="576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2143080" y="34290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易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downy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-1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5029200" y="5335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334120" y="18288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257800" y="2349360"/>
            <a:ext cx="3886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日照香炉生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6240"/>
            <a:ext cx="9144000" cy="67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李白简介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李白（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70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幼圆"/>
              </a:rPr>
              <a:t>—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762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）   字太白，号青莲居士。祖籍陇西成纪（今甘肃天水县附近），少年时博览群书，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20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岁起在四川漫游，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25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岁出川东游。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42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岁做了翰林院学士，但不受重视，抱负不能实现，离开长安，安史之乱后，因受牵连被流放夜郎，《望庐山瀑布》就是在这次流放途中经过庐山时写的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    李白是我国历史上最伟大的诗人之一。他的诗表现了对封建秩序和权贵的不满，反映了人民的疾苦和愿望，描绘了祖国壮丽的山河。他的诗风格雄奇豪放，想像丰富，是屈原之后我国又一位伟大的浪漫主义诗人，被称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诗仙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。现存李白的诗有九百多首，有《李太白集》存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80880" y="685800"/>
            <a:ext cx="845820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读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读准字音，读通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2860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幼圆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想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这首诗大致讲的是什么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28600" y="3429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找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找出相关词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0" y="46483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幼圆"/>
                <a:ea typeface="幼圆"/>
              </a:rPr>
              <a:t>品：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品味词句的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3" descr=""/>
          <p:cNvPicPr/>
          <p:nvPr/>
        </p:nvPicPr>
        <p:blipFill>
          <a:blip r:embed="rId2"/>
          <a:stretch/>
        </p:blipFill>
        <p:spPr>
          <a:xfrm>
            <a:off x="1060560" y="1384200"/>
            <a:ext cx="7132680" cy="4095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pb1"/>
          <p:cNvPicPr/>
          <p:nvPr/>
        </p:nvPicPr>
        <p:blipFill>
          <a:blip r:embed="rId3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b2"/>
          <p:cNvPicPr/>
          <p:nvPr/>
        </p:nvPicPr>
        <p:blipFill>
          <a:blip r:embed="rId4"/>
          <a:stretch/>
        </p:blipFill>
        <p:spPr>
          <a:xfrm>
            <a:off x="0" y="0"/>
            <a:ext cx="8763120" cy="695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pb3"/>
          <p:cNvPicPr/>
          <p:nvPr/>
        </p:nvPicPr>
        <p:blipFill>
          <a:blip r:embed="rId5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望庐山瀑布朗读.wav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1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62120" y="2286000"/>
            <a:ext cx="79246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庐瀑炉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43000" y="609480"/>
            <a:ext cx="8001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ú    pù   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ú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23880" y="22860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日照香炉生紫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ls16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300960" y="549360"/>
            <a:ext cx="20091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遥看瀑布挂前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4241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ls7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5514120" y="260280"/>
            <a:ext cx="339984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1:47:48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6-17T13:56:43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