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<Relationship Id="rId33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20T14:10:26.674000000" idx="1">
    <p:pos x="8442" y="79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742F-6FF2-4EFC-AD41-1BFF7A4A32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F925-03C9-40B2-8C1F-EADC6554E9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BD6-11EE-43B5-811F-02C180FF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28A-F472-48C7-91A3-5F047D08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FBB-5054-4011-BD37-BBD3EB59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02A-157E-497F-8D22-7684BA5A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5D1-6DAC-4778-99DF-44C8FD40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834-DFC4-4091-9A90-3A89D2AC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67B-B5B8-4E43-8AAD-32B2FEC6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976-8FA9-47CF-89FA-191BDBD4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7C1-F58C-4179-ACD2-762C3285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DF0-CF9E-4695-9DDC-3C243855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CAE-25B3-4B16-89BC-35E90937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849-CFCD-4BF2-903C-52E2576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859F-5A58-4A25-84D2-0DFE084717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hiphotos.baidu.com/junrr/pic/item/c3b79cee50c672d0b2fb959c.jpg"/>
          <p:cNvPicPr/>
          <p:nvPr/>
        </p:nvPicPr>
        <p:blipFill>
          <a:blip r:embed="rId1"/>
          <a:srcRect l="0" t="0" r="0" b="59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1424160" y="115920"/>
            <a:ext cx="6119640" cy="51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115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题西林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5cea6916abd9302bc83d6d1c"/>
          <p:cNvPicPr/>
          <p:nvPr/>
        </p:nvPicPr>
        <p:blipFill>
          <a:blip r:embed="rId1"/>
          <a:stretch/>
        </p:blipFill>
        <p:spPr>
          <a:xfrm>
            <a:off x="0" y="-3240"/>
            <a:ext cx="5716440" cy="4289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56f20da97847df1b7fd4840"/>
          <p:cNvPicPr/>
          <p:nvPr/>
        </p:nvPicPr>
        <p:blipFill>
          <a:blip r:embed="rId2"/>
          <a:stretch/>
        </p:blipFill>
        <p:spPr>
          <a:xfrm>
            <a:off x="4857840" y="1785960"/>
            <a:ext cx="4286160" cy="5072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500040" y="45720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山岭：连绵起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500040" y="55720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山峰：高耸入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000080" y="1643040"/>
            <a:ext cx="75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横看成</a:t>
            </a:r>
            <a:r>
              <a:rPr b="1" lang="zh-CN" sz="7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岭</a:t>
            </a: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侧成</a:t>
            </a:r>
            <a:r>
              <a:rPr b="1" lang="zh-CN" sz="7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峰</a:t>
            </a: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远近高低各不同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hunt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7656480" y="671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Arial"/>
                <a:ea typeface="华文彩云"/>
              </a:rPr>
              <a:t>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18c6e7bd5f710c62f73b3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7730280" y="260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cc"/>
                </a:solidFill>
                <a:latin typeface="Arial"/>
              </a:rPr>
              <a:t>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imgdujia.kuxun.cn/newpic/735/825735/1867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7533720" y="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幼圆"/>
              </a:rPr>
              <a:t>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000080" y="1643040"/>
            <a:ext cx="75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横看成岭侧成峰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远近高低各不同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143000" y="1500120"/>
            <a:ext cx="738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不识庐山真面目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只缘身在此山中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755640" y="1052640"/>
            <a:ext cx="738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不识庐山真面目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只</a:t>
            </a:r>
            <a:r>
              <a:rPr b="1" lang="zh-CN" sz="6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缘</a:t>
            </a:r>
            <a:r>
              <a:rPr b="1" lang="zh-CN" sz="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身在此山中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84360" y="378936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Calibri"/>
              </a:rPr>
              <a:t>因为</a:t>
            </a: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……</a:t>
            </a:r>
            <a:r>
              <a:rPr b="0" lang="zh-CN" sz="4400" spc="-1" strike="noStrike">
                <a:solidFill>
                  <a:srgbClr val="009900"/>
                </a:solidFill>
                <a:latin typeface="Calibri"/>
              </a:rPr>
              <a:t>所以</a:t>
            </a: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Calibri"/>
              </a:rPr>
              <a:t>之所以</a:t>
            </a: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……</a:t>
            </a:r>
            <a:r>
              <a:rPr b="0" lang="zh-CN" sz="4400" spc="-1" strike="noStrike">
                <a:solidFill>
                  <a:srgbClr val="009900"/>
                </a:solidFill>
                <a:latin typeface="Calibri"/>
              </a:rPr>
              <a:t>是因为</a:t>
            </a: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143000" y="1500120"/>
            <a:ext cx="738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不识庐山真面目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只缘身在此山中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u=170878553,1826809277&amp;fm=52&amp;gp=0"/>
          <p:cNvPicPr/>
          <p:nvPr/>
        </p:nvPicPr>
        <p:blipFill>
          <a:blip r:embed="rId1"/>
          <a:stretch/>
        </p:blipFill>
        <p:spPr>
          <a:xfrm>
            <a:off x="900000" y="836640"/>
            <a:ext cx="727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2"/>
          <p:cNvSpPr/>
          <p:nvPr/>
        </p:nvSpPr>
        <p:spPr>
          <a:xfrm>
            <a:off x="2843280" y="785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8759287a560927b82f73b330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214280" y="642960"/>
            <a:ext cx="67867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008000"/>
                </a:solidFill>
                <a:latin typeface="黑体"/>
                <a:ea typeface="黑体"/>
              </a:rPr>
              <a:t>题西林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宋）苏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横看成岭侧成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远近高低各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识庐山真面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只缘身在此山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登庐山五老峰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庐山东南五老峰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青天削出金芙蓉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  九江秀色可揽结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吾将此地巢云松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庐山独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76720" y="177336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寒空五老雪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斜月九江云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钟声知何处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苍苍树里闻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068360" y="1569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为李进同志题所摄庐山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仙人洞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照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暮色苍茫看劲松，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乱云飞渡仍从容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天生一个仙人洞，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无限风光在险峰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476360" y="148428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毛泽东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九六一年九月九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6673963447988099"/>
          <p:cNvPicPr/>
          <p:nvPr/>
        </p:nvPicPr>
        <p:blipFill>
          <a:blip r:embed="rId1"/>
          <a:stretch/>
        </p:blipFill>
        <p:spPr>
          <a:xfrm>
            <a:off x="0" y="476280"/>
            <a:ext cx="399564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200912304338197582105508"/>
          <p:cNvPicPr/>
          <p:nvPr/>
        </p:nvPicPr>
        <p:blipFill>
          <a:blip r:embed="rId2"/>
          <a:stretch/>
        </p:blipFill>
        <p:spPr>
          <a:xfrm>
            <a:off x="4211640" y="476280"/>
            <a:ext cx="4932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hiphotos.baidu.com/junrr/pic/item/c3b79cee50c672d0b2fb959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571840" y="0"/>
            <a:ext cx="58579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9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题西林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古诗二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368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9900"/>
                </a:solidFill>
                <a:latin typeface="Calibri"/>
              </a:rPr>
              <a:t>登飞来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9900"/>
                </a:solidFill>
                <a:latin typeface="Calibri"/>
              </a:rPr>
              <a:t>宋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)</a:t>
            </a:r>
            <a:r>
              <a:rPr b="0" lang="zh-CN" sz="3200" spc="-1" strike="noStrike">
                <a:solidFill>
                  <a:srgbClr val="009900"/>
                </a:solidFill>
                <a:latin typeface="Calibri"/>
              </a:rPr>
              <a:t>王安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alibri"/>
              </a:rPr>
              <a:t>飞来峰上千寻塔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alibri"/>
              </a:rPr>
              <a:t>闻说鸡鸣见日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alibri"/>
              </a:rPr>
              <a:t>不畏浮云遮望眼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alibri"/>
              </a:rPr>
              <a:t>只缘身在最高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64200" y="15127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140360" y="17733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题西林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（宋）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横看成岭侧成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远近高低各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不识庐山真面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9900"/>
                </a:solidFill>
                <a:latin typeface="Calibri"/>
              </a:rPr>
              <a:t>只缘身在此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753520" y="5400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寓理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757080" y="40428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8000"/>
                </a:solidFill>
                <a:latin typeface="Calibri"/>
              </a:rPr>
              <a:t>、背诵并默写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008000"/>
                </a:solidFill>
                <a:latin typeface="Calibri"/>
              </a:rPr>
              <a:t>题西林壁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008000"/>
                </a:solidFill>
                <a:latin typeface="Calibr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8000"/>
                </a:solidFill>
                <a:latin typeface="Calibri"/>
              </a:rPr>
              <a:t>、继续搜集苏轼的诗、词，在阅读课上汇报展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2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当易网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www.downyi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076720" y="549360"/>
            <a:ext cx="3792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子瞻，号东坡居士，北宋著名文学家、书画家，是“唐宋八大家”之一，与其父苏洵、其弟苏辙被合称为“三苏”。他的诗词，挥洒自如，明快豪放，善于运用新鲜的比喻描写山水景物，善于从常见的事物中提示深刻的哲理，代表了北宋文学的最高成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up.qingnet.cn/img/4/200831717344914077802.jpg"/>
          <p:cNvPicPr/>
          <p:nvPr/>
        </p:nvPicPr>
        <p:blipFill>
          <a:blip r:embed="rId1"/>
          <a:stretch/>
        </p:blipFill>
        <p:spPr>
          <a:xfrm>
            <a:off x="285840" y="692280"/>
            <a:ext cx="4646520" cy="559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214280" y="642960"/>
            <a:ext cx="67867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008000"/>
                </a:solidFill>
                <a:latin typeface="黑体"/>
                <a:ea typeface="黑体"/>
              </a:rPr>
              <a:t>题西林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宋）苏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横看成岭侧成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远近高低各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识庐山真面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只缘身在此山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诗人站在哪能几个地方看庐山的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000080" y="1643040"/>
            <a:ext cx="75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横看成岭侧成峰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远近高低各不同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000080" y="1643040"/>
            <a:ext cx="75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横看成</a:t>
            </a:r>
            <a:r>
              <a:rPr b="1" lang="zh-CN" sz="7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岭</a:t>
            </a: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侧成</a:t>
            </a:r>
            <a:r>
              <a:rPr b="1" lang="zh-CN" sz="7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峰</a:t>
            </a: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远近高低各不同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5cea6916abd9302bc83d6d1c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85840" y="285840"/>
            <a:ext cx="114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</a:rPr>
              <a:t>山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56f20da97847df1b7fd48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85840" y="428760"/>
            <a:ext cx="857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</a:rPr>
              <a:t>山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5:43:45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6-13T13:21:45Z</dcterms:modified>
  <cp:revision>40</cp:revision>
  <dc:subject>第一PPT模板网-WWW.1PPT.COM</dc:subject>
  <dc:title>第一PPT模板网-WWW.1PPT.COM</dc:title>
</cp:coreProperties>
</file>