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66CF-CA8C-497A-92DE-8603ED36E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A051-0488-4D4C-A948-BD6D4D80C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96BB-BAF2-48D6-9355-8E21C2E43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B09B-A69B-440B-A0F7-BF1F8B69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CB04-8AF7-4BEB-A9B4-63FC857C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D5BC-49BE-4EC3-9A2C-48EDBD7E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DDFC-ED79-44D3-88B1-F27A5018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B35C-05E7-4C6A-9C54-D4C602CE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711-3D19-42B5-BC08-6C1D5BC2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8C38-0DC7-47AB-8FC7-AF119242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CFFF-B376-40BE-B6B9-85632D13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3422-A70D-410D-989A-CA49D5D9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A8A7-127A-4B02-BBD5-40E29949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936D-17EE-49C1-AA52-08A38743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206B-DE9A-4FD0-BD87-6651C483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C333-BBF7-4319-A3DB-6190CCAEB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009730201469362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990000"/>
                </a:solidFill>
                <a:latin typeface="Arial"/>
              </a:rPr>
              <a:t>田忌赛马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2409840" y="5943600"/>
            <a:ext cx="43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-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26" descr="40ff88ca46ecfdd952664fe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田忌    孙膑     齐威王    反唇相讥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讥讽    轻蔑     忌讳        讳疾忌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讥笑    猜忌   垂头丧气   得意洋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输赢    失败   胸有成竹   目瞪口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26" descr="40ff88ca46ecfdd952664fe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我会扩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Arial"/>
              </a:rPr>
              <a:t>忌   败   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Arial"/>
              </a:rPr>
              <a:t>蔑   赢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26" descr="40ff88ca46ecfdd952664fe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我会给多音字注音并组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29"/>
          <p:cNvSpPr/>
          <p:nvPr/>
        </p:nvSpPr>
        <p:spPr>
          <a:xfrm>
            <a:off x="228600" y="25146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丧         调       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40ff88ca46ecfdd952664fe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有感情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学习按一定顺序写的表达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0090423175254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900000" y="476280"/>
            <a:ext cx="79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自学填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分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默读课文，根据课文内容，完成表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403280" y="2205000"/>
          <a:ext cx="6624720" cy="2073240"/>
        </p:xfrm>
        <a:graphic>
          <a:graphicData uri="http://schemas.openxmlformats.org/drawingml/2006/table">
            <a:tbl>
              <a:tblPr/>
              <a:tblGrid>
                <a:gridCol w="1657440"/>
                <a:gridCol w="1655640"/>
                <a:gridCol w="1654200"/>
                <a:gridCol w="165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三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齐威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等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等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等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田   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场胜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403280" y="4437000"/>
          <a:ext cx="6696000" cy="2073240"/>
        </p:xfrm>
        <a:graphic>
          <a:graphicData uri="http://schemas.openxmlformats.org/drawingml/2006/table">
            <a:tbl>
              <a:tblPr/>
              <a:tblGrid>
                <a:gridCol w="1673280"/>
                <a:gridCol w="1676520"/>
                <a:gridCol w="1673280"/>
                <a:gridCol w="167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三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齐威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等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等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等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田   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场胜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 Box 58"/>
          <p:cNvSpPr/>
          <p:nvPr/>
        </p:nvSpPr>
        <p:spPr>
          <a:xfrm>
            <a:off x="758880" y="4797360"/>
            <a:ext cx="5461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9"/>
          <p:cNvSpPr/>
          <p:nvPr/>
        </p:nvSpPr>
        <p:spPr>
          <a:xfrm>
            <a:off x="804960" y="2781360"/>
            <a:ext cx="5461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40ff88ca46ecfdd952664fe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独立思考简单作答案，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分钟后在小组内讨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第一次田忌失败的原因是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第二次比赛田忌取胜的关键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为什么孙膑能想出这样的好主意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相关资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齐威王每个等级的马都比田忌的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还是原来的马，只调换了一下出场顺序，就可以转败为胜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　①齐威王每个等级的马都比田忌的强。　　　（善于观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②“齐威王的马比你的快不了多少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（善于思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③齐威王正在得意洋洋地夸耀自己的马。　　（知己知彼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800000"/>
                </a:solidFill>
                <a:latin typeface="宋体"/>
              </a:rPr>
              <a:t>田忌赛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齐威王每个等级的马都比田忌的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齐威王的马比田忌的快不了多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还是原来的马，只调换了一下出场顺序，就可以转败为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3齐"/>
          <p:cNvPicPr/>
          <p:nvPr/>
        </p:nvPicPr>
        <p:blipFill>
          <a:blip r:embed="rId1"/>
          <a:stretch/>
        </p:blipFill>
        <p:spPr>
          <a:xfrm>
            <a:off x="1143000" y="4498920"/>
            <a:ext cx="2438280" cy="1233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3田"/>
          <p:cNvPicPr/>
          <p:nvPr/>
        </p:nvPicPr>
        <p:blipFill>
          <a:blip r:embed="rId2"/>
          <a:stretch/>
        </p:blipFill>
        <p:spPr>
          <a:xfrm>
            <a:off x="4572000" y="4572000"/>
            <a:ext cx="2057400" cy="1028880"/>
          </a:xfrm>
          <a:prstGeom prst="rect">
            <a:avLst/>
          </a:prstGeom>
          <a:ln w="0">
            <a:noFill/>
          </a:ln>
        </p:spPr>
      </p:pic>
      <p:sp>
        <p:nvSpPr>
          <p:cNvPr id="103" name="Line 6"/>
          <p:cNvSpPr/>
          <p:nvPr/>
        </p:nvSpPr>
        <p:spPr>
          <a:xfrm>
            <a:off x="5257800" y="3657600"/>
            <a:ext cx="3124080" cy="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990720" y="4114800"/>
            <a:ext cx="838080" cy="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40ff88ca46ecfdd952664fe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一读，联系上下文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蓝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词语，体会人物的心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田忌觉得很扫兴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垂头丧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准备离开赛马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齐威王正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得意洋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夸耀自己的马，看见田忌和孙膑过来了，便讥讽田忌：“怎么，难道你还不服气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齐威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轻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说：“那就来吧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40ff88ca46ecfdd952664fe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板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田忌赛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调换顺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初赛失败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——————→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再赛胜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孙膑献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（善于观察、善于思考）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40ff88ca46ecfdd952664fe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WordArt 2"/>
          <p:cNvSpPr txBox="1"/>
          <p:nvPr/>
        </p:nvSpPr>
        <p:spPr>
          <a:xfrm>
            <a:off x="324000" y="0"/>
            <a:ext cx="1866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背景介绍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84360" y="765000"/>
            <a:ext cx="8208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战国时期在“春秋时期”之后。因这一历史时期内各个诸侯国之间连年战争不断而得名。时间大约是在周元王元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元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7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至秦始皇二十六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元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间。当时经过长期战争，过去周王室分封的十几个小国发展成为秦、楚、齐、燕、韩、赵、魏七国，后又经过一段时间的争霸战争，秦国最终于公元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扫灭其他六国而统一天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孙膑早年曾与庞涓共拜当时有名的军事家鬼谷子学习兵法，庞涓做了魏国将军后，害怕孙膑超过自己，出于妒嫉而将其骗至魏国施以膑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砍掉膝盖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并幽禁。后孙膑受齐国使臣帮助回到齐国，先做田忌的座上宾，后因帮田忌赛马赢了齐威王而被其赏识，并提拔为齐国军师。他曾用“围魏救赵”之计援救了被魏国大军包围了都城而危在旦夕的赵国，又助田忌以智谋多次战胜魏军，使魏军全军覆没。出众的谋略与才华，使孙膑成为战国时最有名的军事家，他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孙膑兵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成为我国古代最有名的军事著作之一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40ff88ca46ecfdd952664fe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复述比赛的过程，注意重要的细节和人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028" descr="40ff88ca46ecfdd952664fe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认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生字，会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生字。能正确读写课后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有感情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学习按一定顺序写的表达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学习认真观察分析的态度和科学的思想方法；体会孙膑的足智多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7"/>
          <p:cNvSpPr/>
          <p:nvPr/>
        </p:nvSpPr>
        <p:spPr>
          <a:xfrm>
            <a:off x="523800" y="259092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《田忌赛马》插图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533520" y="579132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华文中宋"/>
                <a:ea typeface="华文中宋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26" descr="40ff88ca46ecfdd952664fe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谈话导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同学们，在我国古代战国时期，有一个国家叫齐国，当时齐国的贵族很喜欢赛马，有一名大将叫田忌，他特别喜欢赛马。今天，我们就来学习这个历史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26" descr="40ff88ca46ecfdd952664fe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认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生字，会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生字。能正确读写课后词语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重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正确、流利地朗读课文，了解课文主要内容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难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026" descr="40ff88ca46ecfdd952664fe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初读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轻声读课文，想想课文写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分钟后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80"/>
                </a:solidFill>
                <a:latin typeface="Arial"/>
              </a:rPr>
              <a:t>田忌赛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70160"/>
            <a:ext cx="8229600" cy="26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课文主要讲述了战国时期，齐国的大将田忌和齐威王赛马，在孙膑的帮助下，转败为胜的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DD01009_"/>
          <p:cNvPicPr/>
          <p:nvPr/>
        </p:nvPicPr>
        <p:blipFill>
          <a:blip r:embed="rId1"/>
          <a:stretch/>
        </p:blipFill>
        <p:spPr>
          <a:xfrm>
            <a:off x="1219320" y="4343400"/>
            <a:ext cx="7086600" cy="106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" dur="1" fill="hold"/>
                                  <p:tgtEl>
                                    <p:spTgt spid="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26" descr="40ff88ca46ecfdd952664fe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检测自学字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同桌检测预习字词情况，互帮互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分钟后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6-05-28T15:01:48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