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13.jpeg" ContentType="image/jpeg"/>
  <Override PartName="/ppt/media/image18.gif" ContentType="image/gif"/>
  <Override PartName="/ppt/media/image3.png" ContentType="image/png"/>
  <Override PartName="/ppt/media/image26.png" ContentType="image/png"/>
  <Override PartName="/ppt/media/image27.jpeg" ContentType="image/jpeg"/>
  <Override PartName="/ppt/media/image25.png" ContentType="image/png"/>
  <Override PartName="/ppt/media/image22.jpeg" ContentType="image/jpeg"/>
  <Override PartName="/ppt/media/image20.jpeg" ContentType="image/jpeg"/>
  <Override PartName="/ppt/media/image15.jpeg" ContentType="image/jpeg"/>
  <Override PartName="/ppt/media/image21.jpeg" ContentType="image/jpeg"/>
  <Override PartName="/ppt/media/image17.gif" ContentType="image/gif"/>
  <Override PartName="/ppt/media/image16.gif" ContentType="image/gif"/>
  <Override PartName="/ppt/media/image14.jpeg" ContentType="image/jpeg"/>
  <Override PartName="/ppt/media/image2.jpeg" ContentType="image/jpeg"/>
  <Override PartName="/ppt/media/image23.jpeg" ContentType="image/jpeg"/>
  <Override PartName="/ppt/media/image24.png" ContentType="image/png"/>
  <Override PartName="/ppt/media/image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859-9CB1-494D-8CD5-31873C48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6A4-533E-4BB3-BD85-ABE4492D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672E3-ABD9-409E-A7D9-EAD2A837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0DBB8-7663-4A68-B1F8-0A8B2605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8C195-9D57-48FA-A248-DB080412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1501A-950F-4C94-A0EB-2D047344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8EA6A-AEE8-4DF2-8607-20148659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49159-10EF-4584-AC1D-49D6069E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848EF-7B55-4986-B573-18D90D9F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3D3F0-CB31-4D61-BECC-61ECD8D9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E2310-2FB6-433B-B1B1-FDF69EB6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69CA6-FE11-4413-8109-20ECABBB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E74-A5C1-4933-9AC5-4143F63E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9FEE9-EA45-4843-AF5F-1AC26CF9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2EB03-B93B-46AD-9B70-D94D5B79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CC16C-C61E-4F6E-BDDE-BCD13120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3FB0B-E887-434B-A276-2DE48321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A02D1-8C6B-4632-8622-D41C17FB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6022B-EE92-4777-B2E7-3AE5CFC6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5B9E3-8BF4-4999-A805-7DF1810F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80E60-2912-4DBF-AA07-8B85FC18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A04DC-643B-49AE-8309-14C6A8BC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882C9-8A96-4C06-A4CA-C4EC1A13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9F25-6D8D-4576-9FE2-D3E03E36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20114-B22D-477A-9574-B143AC02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D4563-24C2-473B-BA67-2B382D1E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C18A4-20AD-40A5-A2CA-15311408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CED76-8617-4A51-8DD9-DB6A09F7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9F01A-0E49-494F-9F2E-620FD336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0D032-A7D7-4058-80C8-684EBD8B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03FAA-EB0C-44E6-B4CA-61AAE5AB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C7188-2B37-445F-8859-5EA79F04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4CD15-DD23-4225-933C-D93C837A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1CDA3-392A-4C15-9CEB-A48C8A75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4198-C5C3-4312-887C-46E33AF6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155AA-A658-45E5-B127-0FC01B52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8A331-58EF-4484-A05B-6928C4F6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849EE-80E3-441C-99FE-CFA83E59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37E5B-E8DB-4208-8424-E9E3258A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75950-978F-4B56-B479-5193E7EF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A1B7C-7069-4476-9442-2F27E99F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B0753-AFD5-43F8-A0AA-09C1A426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688D0-7895-4F7E-AC2A-3578A0ED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9DA1C-6402-424C-A290-D43721F6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12751-D6E6-4660-9A0A-D30B9423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0047-7048-4D3E-9380-C15AE0D7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E8163-1C3A-422D-AF7D-094B86DC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248B1-E925-4F9E-8E8D-10AEEB30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F6A05-894C-4173-A77F-AD4736E9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E9D21-1904-4FBC-86E5-73B3FA67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D4294-C94B-4DC0-B2F4-ADD73ADD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4058C-37B2-45DD-A5F9-2227FCE9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1201B-E3D7-44FF-9AB0-615693D9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7BC85-9E16-4867-A2BD-D3C35448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4017E-D9E7-4BA3-AE2E-D2F4827A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9B252-3109-459D-B2B1-E99DDED0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19FB-920F-4366-84F4-9860EFD8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AE3E3-0A68-4870-96EE-FF789E80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1C10F-7A25-48A0-A5C4-61506BBE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A17F7-2D03-48DA-9C81-8BC219FC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252B6-FDBE-4666-AD64-24CCE773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06BA7-754C-4C29-8391-3EA8749B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67F0C-A2A3-4528-8C56-D5728B74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A211A-614C-4359-8946-5F924535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A7C4C-F5A1-41DD-A5BB-2C0C179A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9FE52-3196-49C6-AE1F-56B78E58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75785-B8C8-4272-80B7-82ECA922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4764-BCA9-405E-9360-D9721D14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AE1CF5-C546-4F45-9601-BA2EBA2F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07D53-5D12-4573-9398-AAC56084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47903-2CDF-40D7-91FF-47E5D295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9FAD4-DB2B-4DEB-9D60-689215C4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356DD-7D5F-469C-9DAE-2EEB9CB6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677FF-D22D-4536-A94F-DE0B6F05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CC5CA-ED8C-4BD8-AC28-741CFA1B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60C67-DFA5-4724-9A7F-67724808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ED6C27-4EF5-4448-83A0-97CB6D19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CEA5-6407-4C58-95DB-397218EA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6839-008D-42FE-9817-67824764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30FD-9341-4353-9F6A-6AFE5D86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8132-8192-44C7-BC18-DE47B905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392D-A31A-4FB3-BD72-EDAD4309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6C3D-0ACD-4A5D-8DB1-C8228818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FB26-AF92-4846-9EDA-D28D72B4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2F76-E3BE-4523-8707-1E8C2EEC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9C6B-E100-4A7A-A682-DD7C5F35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496BA-20E5-4268-9AED-61619329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E7D3D-D8C0-4956-B365-57E16F74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EBA18-E770-4585-9B6D-B59030C9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F4F64-071F-4A53-ABB8-70B78EA7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CBC0F-04BA-4E35-8F84-0CB0FF44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C9B-866F-4595-A385-292F1F2A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173BB-A31F-4ACF-91BB-2741503C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D4934-99D0-4898-A770-D562D5E0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028C7-77A6-46F2-8A94-DEB815C4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59E0-0177-4929-9E8A-0E9D2FF6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E4070-B066-438B-8A2D-0E43D605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8338E-8CBC-4C84-8972-EDBF1965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528F3-1525-4D7C-8E4C-55253589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71DB1-E14F-4471-AFA9-E4EB5757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4F463-4DD8-472E-BE8A-E759A012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B1955-9C4D-49FB-BFD4-3E8BCF58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17A1-10D8-4A33-8EDA-2998ACBE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3F6AA-0118-41B8-8A9E-B7042BDF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0B11E-1FD7-4DF6-A23D-1609BDF1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5E047-9BFE-4A11-A76E-51AE09F5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1FB79-A6D4-4C73-9A08-E998AEED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0E702-480A-4ADB-96C8-D969F506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A6527-6ADA-4A99-8084-BB16FF5D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4A79A-EB8A-4A70-AFC9-5D168A90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A84C3-B776-4CE3-B258-0F95494E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BDDD9-D38A-4321-9F05-29AC8454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28A7F-E535-4D40-B7C1-A6C8EEBD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133-9347-4C84-BF86-B277B1E9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7D2F5-D51B-4A8E-BA19-A6C04F67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5F5FE-EDC7-4385-BA38-6C32EDE4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AF351-F3B1-49E8-81D9-C016FEA3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75499-69CD-4E10-92DD-ABC6CD30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4CD43-CEF7-4F93-B7C4-EEB7D8EF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0845A-6B4D-4E9C-A6C5-0BA3707D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867DB-EBD5-4BFE-8E3D-AC684300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0C29B-A374-4452-9F8F-A9FE232F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65653-81EF-43CC-B6F6-195C58E7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DF23C-41E4-4AF8-A679-754EA1ED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135-486F-4C5B-83C9-BCEA41C0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0D032-B3B2-4108-B6EA-8F78EBA0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94E68-CD7F-4B13-9E5B-8DDCB4E2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63257-A295-478A-8F2F-3F001FE4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28E8B-B638-4FB8-9142-1F877FCB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796E1-A4EE-4DA3-8D20-771A3FFC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4E580-B671-4844-A0E3-FE838424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B97F0-62BD-4E2F-BB15-447CAD83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F718E-8E23-4CD5-AB94-2A3B5DC5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04E55-27CE-4AFB-BB62-5DB6720B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D172D-F143-4CF9-BB9F-A0921CED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4D8-428E-4F16-B7B8-AA27874D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9D836-92BD-4A1D-AA0B-E4E88694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C74E6-E63C-453B-B35E-6FE85455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C9711-7743-421C-848C-D7234E6F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59D03-DA70-4421-AAE9-E61F5EE7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6981B-51F1-42D3-81AE-B3FE21E3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32000-EEC9-4C0F-89D8-2BE37983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E10E3-782E-47F5-B615-9B5E0BE8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0278C-477B-4E97-8E3A-AABAA604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DF673-6DC1-4A3E-BC17-29EAEFE5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419C6-3F1C-4AF3-B1EA-AF53DB3C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716-6C7A-4370-A6B7-B3152F91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B09EF-512C-49AD-934C-FBDD23E7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5D1A3-2921-4AF9-8F44-30447568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20ED3-6403-40BA-A85C-CC8F5800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5CDEF-EAED-47BD-A3BA-AADE5478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60E61-1763-477C-9EF2-5CAE8737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42239-5D66-4175-8A87-2AC91585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FD710-001E-4D6B-A953-E8C0FC2A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52939-4640-4D5F-9E75-377DFC98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EB852-53CB-4237-904E-0FAA92D5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99027-0790-4899-A29D-8C74618B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3C7-1AC7-4A11-A195-9DBF37FC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942BA-A2BC-42CA-9300-202D37E9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1E42C-E084-4740-BC02-EA86A39D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22F59-A41F-49C8-B35B-FD2DF521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A8D86-84B6-4997-9FB6-1569EB0F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FEA81-2457-4ADD-9A38-B11DD713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D0418-DF74-45D9-81B8-26FD9DBC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65537-762A-4EEE-8197-AF16FBBA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D7A02-6710-43B8-B4DE-D872103D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95CFB-5623-497A-8A4D-7A79F715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4674E-9886-408F-A08E-8FA5B948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F6F0-2602-4047-9E21-A8E74E4E9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B298-AD50-4E41-B78C-2B5D8C216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A681-0FF9-43EF-8E40-83735E8A8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1BBC-562A-4747-8A1F-310B2A32E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54D6-4409-455F-BAFC-B9ED4FD98449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2238-78DC-4676-9C7A-1F844B2A0921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1BD1-78F0-44C9-BBDC-46DD646A8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BA4F-22ED-4223-8571-0CC02E9E8E21}" type="slidenum">
              <a:rPr b="0" lang="zh-CN" sz="18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DD1E-33A6-4CBC-91F4-154AA57ACBDD}" type="slidenum">
              <a:rPr b="0" lang="zh-CN" sz="14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3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14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5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5A89-9EEA-4C5A-BA4B-7DE5F8F30B48}" type="slidenum">
              <a:rPr b="0" lang="zh-CN" sz="18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BFCA-2B37-4A33-8455-F3E7A7F56EFA}" type="slidenum">
              <a:rPr b="0" lang="zh-CN" sz="14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08AC-CD3A-4177-AFC0-5D80D9266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6C15-E4F8-443E-88DD-0ACDD2EDC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EE85-3044-4559-8F83-E6790CAED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ushuwang.net/b/243857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2340000" y="765000"/>
            <a:ext cx="4824360" cy="338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 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桃花心木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0" y="260280"/>
            <a:ext cx="5219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宋体"/>
              </a:rPr>
              <a:t>人教新课标小学语文六年级下册第一组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2379240" y="335772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他有时早上来，有时下午来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时间也不一定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39640" y="422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a77"/>
                </a:solidFill>
                <a:uFillTx/>
                <a:latin typeface="Arial"/>
              </a:rPr>
              <a:t> 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</a:rPr>
              <a:t>更奇怪的是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桃花心木苗有时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Arial"/>
              </a:rPr>
              <a:t>莫名其妙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地枯萎了。所以，他来的时候总会带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几株树苗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来补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2712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18320" y="404640"/>
            <a:ext cx="2923920" cy="7034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100000">
                <a:srgbClr val="ccffff">
                  <a:alpha val="1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种树人奇怪的地方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24000" y="1773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</a:rPr>
              <a:t>奇怪的是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他来得并没有规律，有时隔三天，有时隔五天，有时十几天才来一次；浇水的量也不一定，有时浇得多，有时浇得少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lastslide"/>
          </p:cNvPr>
          <p:cNvSpPr/>
          <p:nvPr/>
        </p:nvSpPr>
        <p:spPr>
          <a:xfrm>
            <a:off x="8101080" y="5805360"/>
            <a:ext cx="790560" cy="754200"/>
          </a:xfrm>
          <a:custGeom>
            <a:avLst/>
            <a:gdLst>
              <a:gd name="textAreaLeft" fmla="*/ 47160 w 790560"/>
              <a:gd name="textAreaRight" fmla="*/ 743760 w 790560"/>
              <a:gd name="textAreaTop" fmla="*/ 47160 h 754200"/>
              <a:gd name="textAreaBottom" fmla="*/ 707400 h 754200"/>
            </a:gdLst>
            <a:ahLst/>
            <a:rect l="textAreaLeft" t="textAreaTop" r="textAreaRight" b="textAreaBottom"/>
            <a:pathLst>
              <a:path w="22641" h="21600">
                <a:moveTo>
                  <a:pt x="0" y="0"/>
                </a:moveTo>
                <a:lnTo>
                  <a:pt x="22641" y="0"/>
                </a:lnTo>
                <a:lnTo>
                  <a:pt x="22641" y="21600"/>
                </a:lnTo>
                <a:lnTo>
                  <a:pt x="0" y="21600"/>
                </a:lnTo>
                <a:close/>
              </a:path>
              <a:path fill="lightenLess" w="22641" h="21600">
                <a:moveTo>
                  <a:pt x="0" y="0"/>
                </a:moveTo>
                <a:lnTo>
                  <a:pt x="22641" y="0"/>
                </a:lnTo>
                <a:lnTo>
                  <a:pt x="21291" y="1350"/>
                </a:lnTo>
                <a:lnTo>
                  <a:pt x="1350" y="1350"/>
                </a:lnTo>
                <a:close/>
              </a:path>
              <a:path fill="darken" w="22641" h="21600">
                <a:moveTo>
                  <a:pt x="22641" y="0"/>
                </a:moveTo>
                <a:lnTo>
                  <a:pt x="22641" y="21600"/>
                </a:lnTo>
                <a:lnTo>
                  <a:pt x="21291" y="20250"/>
                </a:lnTo>
                <a:lnTo>
                  <a:pt x="21291" y="1350"/>
                </a:lnTo>
                <a:close/>
              </a:path>
              <a:path fill="darkenLess" w="22641" h="21600">
                <a:moveTo>
                  <a:pt x="2264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291" y="20250"/>
                </a:lnTo>
                <a:close/>
              </a:path>
              <a:path fill="lighten" w="2264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641" h="21600">
                <a:moveTo>
                  <a:pt x="4277" y="3756"/>
                </a:moveTo>
                <a:lnTo>
                  <a:pt x="18364" y="10800"/>
                </a:lnTo>
                <a:lnTo>
                  <a:pt x="4277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1"/>
                            </p:stCondLst>
                            <p:childTnLst>
                              <p:par>
                                <p:cTn id="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163520" y="16207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  <a:ea typeface="楷体_GB2312"/>
              </a:rPr>
              <a:t>莫名其妙：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059280" y="263700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99ff"/>
                </a:solidFill>
                <a:uFillTx/>
                <a:latin typeface="Arial"/>
              </a:rPr>
              <a:t>没有人能说明其中的道理</a:t>
            </a:r>
            <a:r>
              <a:rPr b="1" lang="zh-CN" sz="4400" spc="-1" strike="noStrike">
                <a:solidFill>
                  <a:srgbClr val="0099ff"/>
                </a:solidFill>
                <a:latin typeface="Arial"/>
              </a:rPr>
              <a:t>；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本文指桃花心木的枯萎使人不明白原因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914400" y="208080"/>
            <a:ext cx="2503080" cy="1349280"/>
            <a:chOff x="914400" y="208080"/>
            <a:chExt cx="2503080" cy="1349280"/>
          </a:xfrm>
        </p:grpSpPr>
        <p:sp>
          <p:nvSpPr>
            <p:cNvPr id="619" name=""/>
            <p:cNvSpPr/>
            <p:nvPr/>
          </p:nvSpPr>
          <p:spPr>
            <a:xfrm>
              <a:off x="1237320" y="2080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Arial"/>
                </a:rPr>
                <a:t>词语解释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14400" y="260640"/>
              <a:ext cx="2503080" cy="1296720"/>
            </a:xfrm>
            <a:prstGeom prst="downArrowCallout">
              <a:avLst>
                <a:gd name="adj1" fmla="val 50354"/>
                <a:gd name="adj2" fmla="val 44844"/>
                <a:gd name="adj3" fmla="val 18606"/>
                <a:gd name="adj4" fmla="val 54833"/>
              </a:avLst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7667640" y="5516640"/>
            <a:ext cx="971640" cy="792000"/>
          </a:xfrm>
          <a:custGeom>
            <a:avLst/>
            <a:gdLst>
              <a:gd name="textAreaLeft" fmla="*/ 49320 w 971640"/>
              <a:gd name="textAreaRight" fmla="*/ 922320 w 971640"/>
              <a:gd name="textAreaTop" fmla="*/ 49320 h 792000"/>
              <a:gd name="textAreaBottom" fmla="*/ 7426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147" y="1350"/>
                </a:lnTo>
                <a:lnTo>
                  <a:pt x="1350" y="135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147" y="20250"/>
                </a:lnTo>
                <a:lnTo>
                  <a:pt x="25147" y="135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147" y="2025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100000">
                <a:srgbClr val="ffff99">
                  <a:alpha val="7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c0000"/>
                </a:solidFill>
                <a:latin typeface="Arial"/>
              </a:rPr>
              <a:t>❀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autoRev="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0809 L 0.40782 0.00809 E">
                                      <p:cBhvr>
                                        <p:cTn id="63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1191600" y="2160360"/>
            <a:ext cx="60696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四 点 奇 怪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187720" y="2349360"/>
            <a:ext cx="296640" cy="2016360"/>
          </a:xfrm>
          <a:custGeom>
            <a:avLst/>
            <a:gdLst>
              <a:gd name="textAreaLeft" fmla="*/ 189720 w 296640"/>
              <a:gd name="textAreaRight" fmla="*/ 297000 w 29664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64840" y="275436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时间不确定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256920" y="342756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水量不确定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10800000">
            <a:off x="5498640" y="2349000"/>
            <a:ext cx="297000" cy="2016360"/>
          </a:xfrm>
          <a:custGeom>
            <a:avLst/>
            <a:gdLst>
              <a:gd name="textAreaLeft" fmla="*/ 189720 w 297000"/>
              <a:gd name="textAreaRight" fmla="*/ 297360 w 29700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305040" y="2015640"/>
            <a:ext cx="6069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树 木 枯 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256920" y="210672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数不确定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256920" y="407664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苗数不确定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318320" y="404640"/>
            <a:ext cx="2923920" cy="7034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100000">
                <a:srgbClr val="ccffff">
                  <a:alpha val="1137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种树人奇怪的地方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autoRev="1" nodeType="afterEffect" fill="remove" presetClass="emph" presetID="7" presetSubtype="1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9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1000" fill="hold"/>
                                        <p:tgtEl>
                                          <p:spTgt spid="6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91640" cy="68580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2916360" y="549360"/>
            <a:ext cx="622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但是，懒人怎么知道有几棵树会枯萎呢</a:t>
            </a:r>
            <a:r>
              <a:rPr b="0" lang="zh-CN" sz="4000" spc="-1" strike="noStrike">
                <a:solidFill>
                  <a:srgbClr val="bc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　　后来我以为他太忙，才会做什么事都不按规律。但是，忙人怎么可能做事那么从从容容</a:t>
            </a:r>
            <a:r>
              <a:rPr b="0" lang="zh-CN" sz="4000" spc="-1" strike="noStrike">
                <a:solidFill>
                  <a:srgbClr val="bc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5967360" y="4210200"/>
            <a:ext cx="692280" cy="1018800"/>
            <a:chOff x="5967360" y="4210200"/>
            <a:chExt cx="692280" cy="1018800"/>
          </a:xfrm>
        </p:grpSpPr>
        <p:sp>
          <p:nvSpPr>
            <p:cNvPr id="634" name=""/>
            <p:cNvSpPr/>
            <p:nvPr/>
          </p:nvSpPr>
          <p:spPr>
            <a:xfrm rot="5400000">
              <a:off x="5711760" y="4484880"/>
              <a:ext cx="1002600" cy="485640"/>
            </a:xfrm>
            <a:custGeom>
              <a:avLst/>
              <a:gdLst>
                <a:gd name="textAreaLeft" fmla="*/ 156600 w 1002600"/>
                <a:gd name="textAreaRight" fmla="*/ 766440 w 1002600"/>
                <a:gd name="textAreaTop" fmla="*/ 12060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364"/>
                  </a:moveTo>
                  <a:lnTo>
                    <a:pt x="11484" y="5364"/>
                  </a:lnTo>
                  <a:lnTo>
                    <a:pt x="11484" y="0"/>
                  </a:lnTo>
                  <a:lnTo>
                    <a:pt x="21600" y="10800"/>
                  </a:lnTo>
                  <a:lnTo>
                    <a:pt x="11484" y="21600"/>
                  </a:lnTo>
                  <a:lnTo>
                    <a:pt x="11484" y="16236"/>
                  </a:lnTo>
                  <a:lnTo>
                    <a:pt x="3375" y="16236"/>
                  </a:lnTo>
                  <a:close/>
                </a:path>
                <a:path w="21600" h="21600">
                  <a:moveTo>
                    <a:pt x="0" y="5364"/>
                  </a:moveTo>
                  <a:lnTo>
                    <a:pt x="675" y="5364"/>
                  </a:lnTo>
                  <a:lnTo>
                    <a:pt x="675" y="16236"/>
                  </a:lnTo>
                  <a:lnTo>
                    <a:pt x="0" y="16236"/>
                  </a:lnTo>
                  <a:close/>
                </a:path>
                <a:path w="21600" h="21600">
                  <a:moveTo>
                    <a:pt x="1350" y="5364"/>
                  </a:moveTo>
                  <a:lnTo>
                    <a:pt x="2700" y="5364"/>
                  </a:lnTo>
                  <a:lnTo>
                    <a:pt x="2700" y="16236"/>
                  </a:lnTo>
                  <a:lnTo>
                    <a:pt x="1350" y="16236"/>
                  </a:lnTo>
                  <a:close/>
                </a:path>
              </a:pathLst>
            </a:cu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67360" y="4210200"/>
              <a:ext cx="69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Arial"/>
                </a:rPr>
                <a:t>？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5508720" y="5373720"/>
            <a:ext cx="1584360" cy="581400"/>
          </a:xfrm>
          <a:prstGeom prst="rect">
            <a:avLst/>
          </a:prstGeom>
          <a:gradFill rotWithShape="0">
            <a:gsLst>
              <a:gs pos="0">
                <a:srgbClr val="ebf7ff"/>
              </a:gs>
              <a:gs pos="100000">
                <a:srgbClr val="b9c2c9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反问句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-15408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1388520" y="333360"/>
            <a:ext cx="157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Bookshelf Symbol 7"/>
                <a:ea typeface="Bookshelf Symbol 7"/>
              </a:rPr>
              <a:t>解释词语：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309680" y="1916280"/>
            <a:ext cx="21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楷体_GB2312"/>
              </a:rPr>
              <a:t>从从容容：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916360" y="2997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非常镇定，不慌不忙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样子；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文中用来形容种树人对树苗的生长了解非常清楚，对树苗的枯萎一点儿也不惊讶和慌张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autoRev="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78 -0.00717 L 0.26996 -0.00717 E">
                                      <p:cBhvr>
                                        <p:cTn id="161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　     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我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Arial"/>
              </a:rPr>
              <a:t>忍不住问他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:“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到底应该什么时间来？多久浇一次水？桃花心木为什么无缘无故会枯萎？如果你每天来浇水，桃花心木苗该不会枯萎吧？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3"/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0" y="4370400"/>
            <a:ext cx="896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1284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autoRev="1" nodeType="withEffect" fill="remove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15356E-006 L -0.86424 0.00139 E">
                                      <p:cBhvr>
                                        <p:cTn id="172" dur="30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500"/>
                            </p:stCondLst>
                            <p:childTnLst>
                              <p:par>
                                <p:cTn id="183" nodeType="after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0" y="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8317080" y="603108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0" y="43704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　  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种树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语重心长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地说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：“如果我每天都来浇水，每天定时浇一定的量，树苗就会养成依赖的心，根就会浮在地表上，无法深入地下，一旦我停止浇水，树苗会枯萎得更多。幸而存活的树苗，遇到狂风暴雨，也会一吹就倒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1284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　   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种树的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笑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Arial"/>
              </a:rPr>
              <a:t>了，他说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：“种树不是种菜或种稻子，种树是百年的基业，不像青菜几个星期就可以收成。所以，树木自己要学会在土里找水源。我浇水只是模仿老天下雨，老天下雨是算不准的，它几天下一次？上午或下午？一次下多少？如果无法在这种不确定中汲水生长，树苗自然就枯萎了。但是，在不确定中找到水源、拼命扎根，长成百年的大树就不成问题了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0" y="3500280"/>
            <a:ext cx="8964720" cy="792000"/>
            <a:chOff x="0" y="3500280"/>
            <a:chExt cx="8964720" cy="792000"/>
          </a:xfrm>
        </p:grpSpPr>
        <p:sp>
          <p:nvSpPr>
            <p:cNvPr id="652" name=""/>
            <p:cNvSpPr/>
            <p:nvPr/>
          </p:nvSpPr>
          <p:spPr>
            <a:xfrm>
              <a:off x="1476360" y="3500280"/>
              <a:ext cx="7488360" cy="0"/>
            </a:xfrm>
            <a:prstGeom prst="line">
              <a:avLst/>
            </a:prstGeom>
            <a:ln w="284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0" y="3933720"/>
              <a:ext cx="8964720" cy="0"/>
            </a:xfrm>
            <a:prstGeom prst="line">
              <a:avLst/>
            </a:prstGeom>
            <a:ln w="284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0" y="4292280"/>
              <a:ext cx="3924360" cy="0"/>
            </a:xfrm>
            <a:prstGeom prst="line">
              <a:avLst/>
            </a:prstGeom>
            <a:ln w="284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autoRev="1" nodeType="withEffect" fill="remove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15356E-006 L -0.86424 0.00139 E">
                                      <p:cBhvr>
                                        <p:cTn id="194" dur="3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500"/>
                            </p:stCondLst>
                            <p:childTnLst>
                              <p:par>
                                <p:cTn id="205" nodeType="after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 flipH="1">
            <a:off x="539640" y="404640"/>
            <a:ext cx="1511280" cy="13449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2771640" y="2276640"/>
            <a:ext cx="489600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言辞诚恳，情意深长。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文中用来形容种树人的说话，表现出对人的真诚恳切和情意深长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>
            <a:off x="7451640" y="4508640"/>
            <a:ext cx="1200240" cy="194292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1912680" y="1341360"/>
            <a:ext cx="17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语重心长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304920" y="152280"/>
            <a:ext cx="8534160" cy="3408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如果我每天都来浇水，而且水量（ ），那么树苗就会养成（       ），根就会（       ）。一旦我停止浇水，树苗会（         ），幸而存活的树苗，遇到（      ），也会（         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因此，我浇水只是模仿（       ），让树苗在（     ）汲水生长，这样，树木就学会了（    ）。这种在不确定中存活的树木，要（      ）是不成问题的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948360" cy="690228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6539040" y="907920"/>
            <a:ext cx="213012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假如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你是一颗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桃花心木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9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你会对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种树人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说些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003640" y="189000"/>
            <a:ext cx="2233800" cy="1052280"/>
          </a:xfrm>
          <a:prstGeom prst="cloudCallout">
            <a:avLst>
              <a:gd name="adj1" fmla="val -51064"/>
              <a:gd name="adj2" fmla="val 54976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你们会说什么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mph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5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 rot="5400000">
            <a:off x="5066640" y="278100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行楷"/>
              </a:rPr>
              <a:t>桃花心木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ffff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5" name=""/>
          <p:cNvGrpSpPr/>
          <p:nvPr/>
        </p:nvGrpSpPr>
        <p:grpSpPr>
          <a:xfrm>
            <a:off x="611280" y="4221000"/>
            <a:ext cx="7488000" cy="936720"/>
            <a:chOff x="611280" y="4221000"/>
            <a:chExt cx="7488000" cy="936720"/>
          </a:xfrm>
        </p:grpSpPr>
        <p:sp>
          <p:nvSpPr>
            <p:cNvPr id="666" name=""/>
            <p:cNvSpPr/>
            <p:nvPr/>
          </p:nvSpPr>
          <p:spPr>
            <a:xfrm>
              <a:off x="611280" y="4221000"/>
              <a:ext cx="748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7a77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如果我是一颗</a:t>
              </a:r>
              <a:r>
                <a:rPr b="1" lang="zh-CN" sz="3200" spc="-1" strike="noStrike">
                  <a:solidFill>
                    <a:srgbClr val="007a77"/>
                  </a:solidFill>
                  <a:latin typeface="Arial"/>
                </a:rPr>
                <a:t>经历风雨、茁壮成长桃花心木，</a:t>
              </a: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我会对种树人说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</a:rPr>
                <a:t>： 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03640" y="5157720"/>
              <a:ext cx="28080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611280" y="2349360"/>
            <a:ext cx="7916760" cy="1058760"/>
            <a:chOff x="611280" y="2349360"/>
            <a:chExt cx="7916760" cy="1058760"/>
          </a:xfrm>
        </p:grpSpPr>
        <p:sp>
          <p:nvSpPr>
            <p:cNvPr id="669" name=""/>
            <p:cNvSpPr/>
            <p:nvPr/>
          </p:nvSpPr>
          <p:spPr>
            <a:xfrm>
              <a:off x="611280" y="2349360"/>
              <a:ext cx="756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7a77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如果我是一颗在</a:t>
              </a:r>
              <a:r>
                <a:rPr b="1" lang="zh-CN" sz="3200" spc="-1" strike="noStrike">
                  <a:solidFill>
                    <a:srgbClr val="007a77"/>
                  </a:solidFill>
                  <a:latin typeface="Arial"/>
                </a:rPr>
                <a:t>成长中饱受痛苦的桃花心木</a:t>
              </a: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，我会对桃花树人说：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59280" y="3344760"/>
              <a:ext cx="324036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172720" y="3041640"/>
              <a:ext cx="355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7a77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2408040" y="692280"/>
            <a:ext cx="4971600" cy="1068840"/>
            <a:chOff x="2408040" y="692280"/>
            <a:chExt cx="4971600" cy="1068840"/>
          </a:xfrm>
        </p:grpSpPr>
        <p:sp>
          <p:nvSpPr>
            <p:cNvPr id="673" name=""/>
            <p:cNvSpPr/>
            <p:nvPr/>
          </p:nvSpPr>
          <p:spPr>
            <a:xfrm>
              <a:off x="2408040" y="692280"/>
              <a:ext cx="3432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7a77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如果我是一颗</a:t>
              </a:r>
              <a:r>
                <a:rPr b="1" lang="zh-CN" sz="3200" spc="-1" strike="noStrike">
                  <a:solidFill>
                    <a:srgbClr val="007a77"/>
                  </a:solidFill>
                  <a:latin typeface="Arial"/>
                </a:rPr>
                <a:t>即将枯萎的桃花心木</a:t>
              </a: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，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</a:rPr>
                <a:t>我会对种树人说：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635280" y="1629000"/>
              <a:ext cx="33127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48360" y="1341720"/>
              <a:ext cx="431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7a77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作者从种树人的话中得到的启示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不只是树，人也是一样，在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不确定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中生活，能比较经得起生活的考验，会锻炼出一颗独立自主的心。在不确定中，深化了对环境的感受与情感的感知，就能学会把很少的养分转化为巨大的能量，努力生长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、种树不是种菜或种稻子，种树是百年基业，不像青菜几个星期就可以收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这句话是说种树和种菜或种稻子不一样，种菜或种稻子时间很短就可以收成，而种树则需要很多年才能长成参天大树，需要很长时间才能收成。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75120" y="3366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句段赏析</a:t>
            </a:r>
            <a:br>
              <a:rPr sz="4000"/>
            </a:b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54064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、不只是树，人也是一样，在不确定中生活的人，能比较经得起生活的考验，会锻炼出一颗独立自主的心。在不确定中，就能学会把很少的养分转化为巨大的能量，努力生长。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203640" y="404640"/>
            <a:ext cx="5364000" cy="936720"/>
            <a:chOff x="3203640" y="404640"/>
            <a:chExt cx="5364000" cy="936720"/>
          </a:xfrm>
        </p:grpSpPr>
        <p:sp>
          <p:nvSpPr>
            <p:cNvPr id="682" name=""/>
            <p:cNvSpPr/>
            <p:nvPr/>
          </p:nvSpPr>
          <p:spPr>
            <a:xfrm>
              <a:off x="3203640" y="404640"/>
              <a:ext cx="5364000" cy="936720"/>
            </a:xfrm>
            <a:prstGeom prst="wedgeRoundRectCallout">
              <a:avLst>
                <a:gd name="adj1" fmla="val -43106"/>
                <a:gd name="adj2" fmla="val 85930"/>
                <a:gd name="adj3" fmla="val 16667"/>
              </a:avLst>
            </a:prstGeom>
            <a:solidFill>
              <a:srgbClr val="dbeef4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3" name="Rectangle 4"/>
            <p:cNvSpPr/>
            <p:nvPr/>
          </p:nvSpPr>
          <p:spPr>
            <a:xfrm>
              <a:off x="5587560" y="483480"/>
              <a:ext cx="95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十年树木，百年树人 。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684360" y="3789360"/>
            <a:ext cx="785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句子中的“不确定”指生活的变化无常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会经受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困难或遭遇不幸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句子的意思是说，育树和育人的道理是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一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，只有经得起生活的磨难和考验，才能学会生存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发展的本领，成为生活中的强者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句段赏析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、如果我每天都来浇水，每天定时浇一定的量，树苗养成依赖的心，根就浮在地表上，无法深入下去，一旦停止浇水，树苗会枯萎得更多。幸而存活的树苗，遇到狂风暴雨，也会一吹就倒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这两句是讲种植桃花心木的诀窍。每天定时定量给树苗浇水，对树苗有害无益，它不能独立地生长，老依靠人，它的根也不能扎入土层深处。即使存活了，遇到了大风大雨，也会一吹就倒。“树苗就会养成依赖的心”这句运用了拟人的修辞手法，把树苗当作人来写，写得生动形象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、种树的人不再来了，桃花心木也不会枯萎了。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　  种树人不用来了，因为这些树的根扎得很深，能不断地从土壤中吸取水份，不用别人的浇灌，经得起干旱、风暴，茁壮地生长起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我悟出的道理是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育人如育树，只有在艰苦环境中经受考验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克服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依赖性，才能生存发展，成为强着。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4356000" y="189000"/>
            <a:ext cx="4572000" cy="825120"/>
          </a:xfrm>
          <a:prstGeom prst="rect">
            <a:avLst/>
          </a:prstGeom>
          <a:blipFill rotWithShape="0">
            <a:blip r:embed="rId3">
              <a:alphaModFix amt="14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9e9f9"/>
                </a:solidFill>
                <a:latin typeface="Arial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d9e9f9"/>
                </a:solidFill>
                <a:latin typeface="Arial"/>
                <a:ea typeface="楷体_GB2312"/>
              </a:rPr>
              <a:t>在日常生活中我们身边也有很多类似的事例，同学们思考一下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500720" y="3716280"/>
            <a:ext cx="4493880" cy="916920"/>
          </a:xfrm>
          <a:prstGeom prst="rect">
            <a:avLst/>
          </a:prstGeom>
          <a:solidFill>
            <a:srgbClr val="33cc33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c0000"/>
                </a:solidFill>
                <a:latin typeface="Arial"/>
                <a:ea typeface="楷体_GB2312"/>
              </a:rPr>
              <a:t>试着举例说明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4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1348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1188360" y="4827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总结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771640" y="404640"/>
            <a:ext cx="55641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者通过和种树人的对话，深受感动，明白了</a:t>
            </a:r>
            <a:r>
              <a:rPr b="1" lang="en-US" sz="3200" spc="-1" strike="noStrike">
                <a:solidFill>
                  <a:srgbClr val="dc5900"/>
                </a:solidFill>
                <a:latin typeface="Arial"/>
              </a:rPr>
              <a:t> “十年树木百年树人”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的哲理。作者在描写和叙述中转承自然流畅，运用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</a:rPr>
              <a:t>借物喻人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的写作手法，生动地点明了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文章的主旨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今天学完这篇课文后老师也很受启发，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</a:rPr>
              <a:t>希望我们都能够做一个经受得起考验、独立自主、具有自我生存能力的人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609480" y="2819520"/>
            <a:ext cx="61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同学们，学完本课你有什么感想呀？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905120" y="0"/>
            <a:ext cx="5715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33cc33"/>
                </a:solidFill>
                <a:latin typeface="Arial"/>
              </a:rPr>
              <a:t>论感想</a:t>
            </a:r>
            <a:endParaRPr b="0" lang="en-US" sz="117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324000" y="692280"/>
            <a:ext cx="853416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★★★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不经风雨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难成大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★★★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不受百炼，难以成钢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★★★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阳光总在风雨后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★★★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自古英雄多磨难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★★★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不经历风雨怎能见彩虹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★★★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万物竞天，适者生存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★★★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宝剑锋自磨砺出，梅花香自苦寒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20066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2987640" y="33336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   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　林清玄，笔名秦情、林漓、林大悲等。台湾高雄人，一九五三年生。毕业于台湾世界新闻专科学校，曾任台湾《中国时报》海外版记者、《工商时报》经济记者、《时报杂志》主编等职。一九七三年开始散文创作。一九七九年起连续七次获台湾《中国时报》文学奖、散文优秀奖和报导文学优等奖、台湾报纸副刊专栏金鼎奖等。他的散文文笔流畅清新，表现了醇厚、浪漫的情感，在平易中有着感人的力量。作品有散文集《莲花开落》、《冷月钟笛》、《温一壶月光下的酒》、《鸳鸯香炉》、《金色印象》、《白雪少年》等。他的散文集一年中重印超过二十次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2349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黄背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685800" y="304920"/>
            <a:ext cx="7848720" cy="4900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妈妈，请放开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春天一样温暖的手，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让我独个儿在坎坷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( kě)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的路上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磕磕碰碰向前走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别担心我会跌跤，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即使摔破细嫩的皮肉，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我也不会拉着你的衣角哭泣，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在风雨里浑身发抖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妈妈，请你相信，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我不是一只胆小的狗。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在一次次摔跤之后，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我才能肩挑泰山走过九十九条沟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妈妈，亲爱的妈妈，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请松开你慈爱的手，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让我踩着坚实的土地，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跟困难和胜利交朋友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627280" y="620280"/>
            <a:ext cx="266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感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在不确定中生活的人，更能经得起生活的考验，更能锻炼出一颗独立自主的心，这正如俗话说得那样：“不经风雨，难成大树。”“自古雄才多磨难，从来纨绔少为男。”人和树是一样的，生活在艰苦环境中的人更经得起生活的考验，从而学会生存和发展的本领。希望同学们都能像课文中的桃花心木一样，能够经得起生活的磨练，最后长成参天大树，长成栋梁之材。</a:t>
            </a:r>
            <a:br>
              <a:rPr sz="2800"/>
            </a:b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3419640" y="1484280"/>
            <a:ext cx="2376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再见</a:t>
            </a:r>
            <a:endParaRPr b="0" lang="en-US" sz="66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文章结构：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</a:rPr>
              <a:t>全文可分三段。</a:t>
            </a:r>
            <a:br>
              <a:rPr sz="3200"/>
            </a:br>
            <a:r>
              <a:rPr b="0" lang="zh-CN" sz="3200" spc="-1" strike="noStrike">
                <a:solidFill>
                  <a:srgbClr val="dc5900"/>
                </a:solidFill>
                <a:latin typeface="Arial"/>
              </a:rPr>
              <a:t>　　第一段（第</a:t>
            </a:r>
            <a:r>
              <a:rPr b="0" lang="en-US" sz="3200" spc="-1" strike="noStrike">
                <a:solidFill>
                  <a:srgbClr val="dc59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dc59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</a:rPr>
              <a:t>自然段）：介绍桃花心木这种树木。</a:t>
            </a:r>
            <a:br>
              <a:rPr sz="3200"/>
            </a:br>
            <a:r>
              <a:rPr b="0" lang="zh-CN" sz="3200" spc="-1" strike="noStrike">
                <a:solidFill>
                  <a:srgbClr val="dc5900"/>
                </a:solidFill>
                <a:latin typeface="Arial"/>
              </a:rPr>
              <a:t>　　第二段（第</a:t>
            </a:r>
            <a:r>
              <a:rPr b="0" lang="en-US" sz="3200" spc="-1" strike="noStrike">
                <a:solidFill>
                  <a:srgbClr val="dc59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</a:rPr>
              <a:t>至</a:t>
            </a:r>
            <a:r>
              <a:rPr b="0" lang="en-US" sz="3200" spc="-1" strike="noStrike">
                <a:solidFill>
                  <a:srgbClr val="dc5900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</a:rPr>
              <a:t>自然段）：“我”从种树人那里得知做人的道理。</a:t>
            </a:r>
            <a:br>
              <a:rPr sz="3200"/>
            </a:br>
            <a:r>
              <a:rPr b="0" lang="zh-CN" sz="3200" spc="-1" strike="noStrike">
                <a:solidFill>
                  <a:srgbClr val="dc5900"/>
                </a:solidFill>
                <a:latin typeface="Arial"/>
              </a:rPr>
              <a:t>　　第三段（第</a:t>
            </a:r>
            <a:r>
              <a:rPr b="0" lang="en-US" sz="3200" spc="-1" strike="noStrike">
                <a:solidFill>
                  <a:srgbClr val="dc59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</a:rPr>
              <a:t>．</a:t>
            </a:r>
            <a:r>
              <a:rPr b="0" lang="en-US" sz="3200" spc="-1" strike="noStrike">
                <a:solidFill>
                  <a:srgbClr val="dc5900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</a:rPr>
              <a:t>自然段）：桃花心木茁壮成长。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755640" y="1557360"/>
            <a:ext cx="590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1280" y="1557360"/>
            <a:ext cx="75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隶书"/>
              </a:rPr>
              <a:t>克服了困难就是胜利的机会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356000" y="270828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隶书"/>
                <a:ea typeface="隶书"/>
              </a:rPr>
              <a:t>----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邱吉尔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971640" y="2276640"/>
            <a:ext cx="585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想想课文是怎么介绍桃花心木的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301680" y="477360"/>
            <a:ext cx="85406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　   桃花心木是一种特别的树，树形优美，高大而笔直，从前老家林场种了许多，已长成几丈高的一片树林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所以当我看到桃花心木仅及膝盖的树苗，有点难以相信自己的眼睛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　   现在，窗前的桃花心木苗已经长得与屋顶一般高，是那么优雅自在，显示出勃勃生机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75640" y="2987640"/>
            <a:ext cx="112680" cy="21600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6473880" y="5113440"/>
            <a:ext cx="114120" cy="21564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295280"/>
            <a:ext cx="251460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1447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华文行楷"/>
              </a:rPr>
              <a:t>学习生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836720" y="4292640"/>
            <a:ext cx="5943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番</a:t>
            </a:r>
            <a:r>
              <a:rPr b="1" lang="zh-CN" sz="48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fān  </a:t>
            </a:r>
            <a:r>
              <a:rPr b="1" lang="zh-CN" sz="48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锻</a:t>
            </a:r>
            <a:r>
              <a:rPr b="1" lang="zh-CN" sz="48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duàn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雅</a:t>
            </a:r>
            <a:r>
              <a:rPr b="1" lang="zh-CN" sz="48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yǎ     </a:t>
            </a:r>
            <a:r>
              <a:rPr b="1" lang="zh-CN" sz="48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勃</a:t>
            </a:r>
            <a:r>
              <a:rPr b="1" lang="zh-CN" sz="48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bó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908000" y="292572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秧</a:t>
            </a:r>
            <a:r>
              <a:rPr b="1" lang="zh-CN" sz="48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yāng   </a:t>
            </a:r>
            <a:r>
              <a:rPr b="1" lang="zh-CN" sz="48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萎 </a:t>
            </a:r>
            <a:r>
              <a:rPr b="1" lang="zh-CN" sz="48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wěi </a:t>
            </a:r>
            <a:r>
              <a:rPr b="1" lang="zh-CN" sz="4800" spc="-1" strike="noStrike">
                <a:solidFill>
                  <a:srgbClr val="666699"/>
                </a:solidFill>
                <a:latin typeface="Wingdings"/>
                <a:ea typeface="Wingdings"/>
              </a:rPr>
              <a:t>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301680" y="477360"/>
            <a:ext cx="85406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　   桃花心木是一种特别的树，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树形优美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高大而笔直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，从前老家林场种了许多，已长成几丈高的一片树林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所以当我看到桃花心木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仅及膝盖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的树苗，有点难以相信自己的眼睛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　   现在，窗前的桃花心木苗已经长得与屋顶一般高，是那么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优雅自在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，显示出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勃勃生机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画出有关描述种树人种树的语句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　   树苗种下以后，他常来浇水，奇怪的是，他来的并没有规律，有时隔三天，有时隔五天，有时十几天才来一次；浇水的量也不一定，有时浇得多，有时浇得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他有时早上来，有时下午来，时间也不一定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更奇怪的是，桃花心木苗有时莫名其妙地枯萎了。所以，他来的时候总会带几株树苗来补种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07:56:55Z</dcterms:created>
  <dc:creator>Administrator</dc:creator>
  <dc:description/>
  <dc:language>en-US</dc:language>
  <cp:lastModifiedBy>USER</cp:lastModifiedBy>
  <cp:lastPrinted>1899-12-30T00:00:00Z</cp:lastPrinted>
  <dcterms:modified xsi:type="dcterms:W3CDTF">2012-02-12T11:20:55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