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D7DD7-D7E8-4506-B7ED-72D54C7D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29931-8DCC-44B5-972F-44DB11FB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9198D-25C3-4739-A6A0-EF58D699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3B690-83A8-469E-91CC-5A4C2F40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B2B83-940F-4AF2-99F3-95F236DB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E1763-9F58-43A1-A98B-CC218120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71C59-4F89-49ED-8C25-33BB5DE3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D55E9-3774-4B82-9A55-F48296B4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70C33-127C-41C5-A450-37A5489A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327-4A19-4D04-AB26-FC2D4274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926-D4E8-4781-A66A-59FE093F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0AD-309C-4F16-81EC-44846124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D65A-37D0-4DAD-A499-38604FE2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A1E-2763-499A-9E4D-81E8B3C8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AF6-9D3F-49F6-9A5A-4ECBFC54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D55-F999-402C-A551-62551862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0311-5A86-4A70-A1A2-A3006F34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2CDB-0046-49CF-9197-591605BA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D42-ACC9-4FE3-BA1F-23000319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0E0-42B3-4FCF-ABF9-6B3A0AE7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B77-13A2-4EF9-A43E-1A735455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7C23-B589-4311-8B7E-CC1C6BF6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0BF3-AC05-4F0B-A0B6-DEFC54AC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1046-2A84-43B8-977B-179F7753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3209-B764-4859-A331-CB854502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D068-7E01-4365-A384-DACC7062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FAAF-3A70-4B39-AFDA-37285432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93CA-48A5-4EF6-BBC1-AAD84031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3CD3-B8DC-4C1E-9941-46776385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AB73-82D6-465D-9296-8922CBB3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D1F8-9E84-441B-B5F1-557B1C57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2AEB-13A4-4EFF-8E66-29609EFD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04D0-888E-4F78-BD14-CD75A516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6EE2C-94AF-44FE-AC58-F5DDE290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9577C-2EF7-4F77-8E3D-48BAF68F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AB43B-45F3-40E1-ADEA-45793D5A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8ACC5-8004-4F8F-9C3C-4217B5E6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05AB9-0F4C-4B13-AA16-B0EC7C18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C9254-A68C-4EFE-B776-A388219C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143EE-8691-4F55-A9E5-51109CCB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4F8A8-36A7-4A33-8429-BED51B37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F0BF2-E326-4340-8B79-B86CBAD0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7F182-2DAA-4448-9199-0817C8C7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6FD4E-3E09-4D58-949F-8F161FC1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455F4-84CA-4F8E-AF1E-81E70637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FEB65-194A-41AC-9A4C-7B1278D1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5F050-98CC-4B6D-A477-7E2005A8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C7E8B-B56A-4ACE-AD72-FA3E01FF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D1C0A-DF67-4BA7-8635-EBF0E674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05A53-39D2-44AB-BCEA-38F6DA1C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C2A33-A6D7-4A36-A0BC-AB7E5844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36138-9C0A-49D5-8F99-144C5489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926EA-85D0-460E-BB0B-3CA98A22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0F08C-C1E8-4DC1-B237-F30866B7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C9BE9-922D-45CF-A09A-2193A148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C9870-4B92-435D-9F66-012E9CBB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206B7-83C1-44B0-ACB4-899D4186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060B0-76D6-4247-960A-CBCC98CB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7B80B-B52C-47E3-B3CF-49622587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4E265-61CA-4AD4-9A7C-7FBC500C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C7BE4-4833-4832-90E5-F6177B41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3B67B-FA5C-4A80-9CBE-A48885D2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DA797-E979-441C-907E-0FA3268F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E6210-D5B5-47BA-BBDD-7DA577DF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7ED59-CC5A-453E-8443-07969DE2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CCC43-D847-46FA-819A-DDA31379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17CE7-05D6-4A4E-AC4C-BC95DF11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44CA4-93D6-4584-B8F5-2F50935D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C6FBC-886B-4666-AB20-8258014D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2D91F-D482-4598-A962-DF2658C9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20C7D-7DC7-40D2-9E92-8F294321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B9285-5829-4B6E-B939-F9FC6165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74800-D37F-42A8-B1D8-4B283A5B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89FE1-56AE-47D2-A674-48948600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96C8A-F736-4CB8-B9EB-78DD78CC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68346-C49B-4B5C-BE80-7A012B12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67619-83B0-4B5F-A4ED-0DCB8685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1255E-F4DF-4F44-AF5E-10206202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B21BA-A1A0-4232-8032-C01DA3F1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69CB8-58FA-4A41-B1DD-E20D1786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82F05-D04A-4A11-BDD5-63EEF308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5A3C7-C9B2-43A1-BAB2-E8A307B6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872A5-3961-40EC-90ED-EF50C9DA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0C8A9-61C4-4B60-B4E7-C5C2D074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9F181-D0E8-416C-85E4-E225B957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DC31E-5613-402D-AB62-0F38F6D8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D20D1-7AA1-44D3-9C1B-A21D02D9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BCC33-3A0E-40D4-800E-B4CC3A4A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E82B6-FF1D-4A16-BD66-AFCC5C17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4B262-97A3-42B6-BE74-F21720D9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3937B-3ADE-44FE-AB2A-A9DEF1BE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D8261-7B43-4366-946F-01CA497C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7AC21-A4C2-4F00-8C13-8486956B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97D39-BD1E-408B-9C04-83850B1E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BEB65-EF8B-4A96-BBAC-BE9309D0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89090-0FFA-4836-BDD1-70C6257D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EBAF-8D3F-4E18-93A7-DFE12C74282A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3FA5-6C30-469A-A1B8-FA4C6CC745AE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0686-CE2D-4480-8D42-3D626F09D3B0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9F00-4A7D-4A94-A18B-02026155BEF3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C340-4B0E-44F0-A374-1691151C17DF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7A5D-1B4F-4848-B7D4-1CEF56C3B6C9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0131-0145-43CE-BA21-99895464667A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43A2-F414-43CB-88B9-6A61AD496E28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图片 3" descr=""/>
          <p:cNvPicPr/>
          <p:nvPr/>
        </p:nvPicPr>
        <p:blipFill>
          <a:blip r:embed="rId1"/>
          <a:stretch/>
        </p:blipFill>
        <p:spPr>
          <a:xfrm>
            <a:off x="611280" y="0"/>
            <a:ext cx="789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图片 1" descr=""/>
          <p:cNvPicPr/>
          <p:nvPr/>
        </p:nvPicPr>
        <p:blipFill>
          <a:blip r:embed="rId1"/>
          <a:stretch/>
        </p:blipFill>
        <p:spPr>
          <a:xfrm>
            <a:off x="0" y="1427040"/>
            <a:ext cx="914400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"/>
          <p:cNvPicPr/>
          <p:nvPr/>
        </p:nvPicPr>
        <p:blipFill>
          <a:blip r:embed="rId1"/>
          <a:stretch/>
        </p:blipFill>
        <p:spPr>
          <a:xfrm>
            <a:off x="557280" y="0"/>
            <a:ext cx="802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1" descr=""/>
          <p:cNvPicPr/>
          <p:nvPr/>
        </p:nvPicPr>
        <p:blipFill>
          <a:blip r:embed="rId1"/>
          <a:stretch/>
        </p:blipFill>
        <p:spPr>
          <a:xfrm>
            <a:off x="657360" y="0"/>
            <a:ext cx="782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图片 2" descr=""/>
          <p:cNvPicPr/>
          <p:nvPr/>
        </p:nvPicPr>
        <p:blipFill>
          <a:blip r:embed="rId1"/>
          <a:stretch/>
        </p:blipFill>
        <p:spPr>
          <a:xfrm>
            <a:off x="0" y="1454040"/>
            <a:ext cx="914400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图片 1" descr=""/>
          <p:cNvPicPr/>
          <p:nvPr/>
        </p:nvPicPr>
        <p:blipFill>
          <a:blip r:embed="rId1"/>
          <a:stretch/>
        </p:blipFill>
        <p:spPr>
          <a:xfrm>
            <a:off x="566640" y="0"/>
            <a:ext cx="801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图片 1" descr=""/>
          <p:cNvPicPr/>
          <p:nvPr/>
        </p:nvPicPr>
        <p:blipFill>
          <a:blip r:embed="rId1"/>
          <a:stretch/>
        </p:blipFill>
        <p:spPr>
          <a:xfrm>
            <a:off x="608040" y="0"/>
            <a:ext cx="792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图片 1" descr=""/>
          <p:cNvPicPr/>
          <p:nvPr/>
        </p:nvPicPr>
        <p:blipFill>
          <a:blip r:embed="rId1"/>
          <a:stretch/>
        </p:blipFill>
        <p:spPr>
          <a:xfrm>
            <a:off x="0" y="1427040"/>
            <a:ext cx="914400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1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图片 2" descr=""/>
          <p:cNvPicPr/>
          <p:nvPr/>
        </p:nvPicPr>
        <p:blipFill>
          <a:blip r:embed="rId1"/>
          <a:stretch/>
        </p:blipFill>
        <p:spPr>
          <a:xfrm>
            <a:off x="644400" y="0"/>
            <a:ext cx="785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图片 1" descr=""/>
          <p:cNvPicPr/>
          <p:nvPr/>
        </p:nvPicPr>
        <p:blipFill>
          <a:blip r:embed="rId1"/>
          <a:stretch/>
        </p:blipFill>
        <p:spPr>
          <a:xfrm>
            <a:off x="0" y="1417680"/>
            <a:ext cx="91440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图片 1" descr=""/>
          <p:cNvPicPr/>
          <p:nvPr/>
        </p:nvPicPr>
        <p:blipFill>
          <a:blip r:embed="rId1"/>
          <a:stretch/>
        </p:blipFill>
        <p:spPr>
          <a:xfrm>
            <a:off x="598320" y="0"/>
            <a:ext cx="794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图片 1" descr=""/>
          <p:cNvPicPr/>
          <p:nvPr/>
        </p:nvPicPr>
        <p:blipFill>
          <a:blip r:embed="rId1"/>
          <a:stretch/>
        </p:blipFill>
        <p:spPr>
          <a:xfrm>
            <a:off x="649440" y="0"/>
            <a:ext cx="78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图片 1" descr=""/>
          <p:cNvPicPr/>
          <p:nvPr/>
        </p:nvPicPr>
        <p:blipFill>
          <a:blip r:embed="rId1"/>
          <a:stretch/>
        </p:blipFill>
        <p:spPr>
          <a:xfrm>
            <a:off x="644400" y="0"/>
            <a:ext cx="785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图片 1" descr=""/>
          <p:cNvPicPr/>
          <p:nvPr/>
        </p:nvPicPr>
        <p:blipFill>
          <a:blip r:embed="rId1"/>
          <a:stretch/>
        </p:blipFill>
        <p:spPr>
          <a:xfrm>
            <a:off x="0" y="1467000"/>
            <a:ext cx="91440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图片 1" descr=""/>
          <p:cNvPicPr/>
          <p:nvPr/>
        </p:nvPicPr>
        <p:blipFill>
          <a:blip r:embed="rId1"/>
          <a:stretch/>
        </p:blipFill>
        <p:spPr>
          <a:xfrm>
            <a:off x="598320" y="0"/>
            <a:ext cx="794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图片 1" descr=""/>
          <p:cNvPicPr/>
          <p:nvPr/>
        </p:nvPicPr>
        <p:blipFill>
          <a:blip r:embed="rId1"/>
          <a:stretch/>
        </p:blipFill>
        <p:spPr>
          <a:xfrm>
            <a:off x="644400" y="0"/>
            <a:ext cx="785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1" descr=""/>
          <p:cNvPicPr/>
          <p:nvPr/>
        </p:nvPicPr>
        <p:blipFill>
          <a:blip r:embed="rId1"/>
          <a:stretch/>
        </p:blipFill>
        <p:spPr>
          <a:xfrm>
            <a:off x="0" y="1471680"/>
            <a:ext cx="91440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图片 1" descr=""/>
          <p:cNvPicPr/>
          <p:nvPr/>
        </p:nvPicPr>
        <p:blipFill>
          <a:blip r:embed="rId1"/>
          <a:stretch/>
        </p:blipFill>
        <p:spPr>
          <a:xfrm>
            <a:off x="598320" y="0"/>
            <a:ext cx="794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1" descr=""/>
          <p:cNvPicPr/>
          <p:nvPr/>
        </p:nvPicPr>
        <p:blipFill>
          <a:blip r:embed="rId1"/>
          <a:stretch/>
        </p:blipFill>
        <p:spPr>
          <a:xfrm>
            <a:off x="671400" y="0"/>
            <a:ext cx="78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图片 1" descr=""/>
          <p:cNvPicPr/>
          <p:nvPr/>
        </p:nvPicPr>
        <p:blipFill>
          <a:blip r:embed="rId1"/>
          <a:stretch/>
        </p:blipFill>
        <p:spPr>
          <a:xfrm>
            <a:off x="0" y="1417680"/>
            <a:ext cx="91440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图片 1" descr=""/>
          <p:cNvPicPr/>
          <p:nvPr/>
        </p:nvPicPr>
        <p:blipFill>
          <a:blip r:embed="rId1"/>
          <a:stretch/>
        </p:blipFill>
        <p:spPr>
          <a:xfrm>
            <a:off x="662040" y="0"/>
            <a:ext cx="78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2"/>
          <p:cNvSpPr/>
          <p:nvPr/>
        </p:nvSpPr>
        <p:spPr>
          <a:xfrm>
            <a:off x="3924360" y="422100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1" descr=""/>
          <p:cNvPicPr/>
          <p:nvPr/>
        </p:nvPicPr>
        <p:blipFill>
          <a:blip r:embed="rId7"/>
          <a:stretch/>
        </p:blipFill>
        <p:spPr>
          <a:xfrm>
            <a:off x="766800" y="0"/>
            <a:ext cx="761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图片 2" descr=""/>
          <p:cNvPicPr/>
          <p:nvPr/>
        </p:nvPicPr>
        <p:blipFill>
          <a:blip r:embed="rId1"/>
          <a:stretch/>
        </p:blipFill>
        <p:spPr>
          <a:xfrm>
            <a:off x="635040" y="0"/>
            <a:ext cx="787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图片 1" descr=""/>
          <p:cNvPicPr/>
          <p:nvPr/>
        </p:nvPicPr>
        <p:blipFill>
          <a:blip r:embed="rId1"/>
          <a:stretch/>
        </p:blipFill>
        <p:spPr>
          <a:xfrm>
            <a:off x="662040" y="0"/>
            <a:ext cx="78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图片 1" descr=""/>
          <p:cNvPicPr/>
          <p:nvPr/>
        </p:nvPicPr>
        <p:blipFill>
          <a:blip r:embed="rId1"/>
          <a:stretch/>
        </p:blipFill>
        <p:spPr>
          <a:xfrm>
            <a:off x="0" y="1463760"/>
            <a:ext cx="91440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1" descr=""/>
          <p:cNvPicPr/>
          <p:nvPr/>
        </p:nvPicPr>
        <p:blipFill>
          <a:blip r:embed="rId1"/>
          <a:stretch/>
        </p:blipFill>
        <p:spPr>
          <a:xfrm>
            <a:off x="547560" y="0"/>
            <a:ext cx="804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图片 1" descr=""/>
          <p:cNvPicPr/>
          <p:nvPr/>
        </p:nvPicPr>
        <p:blipFill>
          <a:blip r:embed="rId1"/>
          <a:stretch/>
        </p:blipFill>
        <p:spPr>
          <a:xfrm>
            <a:off x="608040" y="0"/>
            <a:ext cx="792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1-30T01:18:37Z</dcterms:modified>
  <cp:revision>5</cp:revision>
  <dc:subject/>
  <dc:title>PowerPoint 演示文稿</dc:title>
</cp:coreProperties>
</file>