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13D-F550-47F0-BC01-69C525AE19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F6E-989B-406D-B6C7-E74327FD81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DD8-23F0-4096-BB80-A09F014D3D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4B7-C63B-4447-865F-CACDDA0C41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406-AF9C-4C2C-BA61-2FD56C70E5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C0A8-F30F-43FE-9DE1-1F3DD18485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F563-AE9E-4E4F-800C-E892F5A4F2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8F6-B294-4737-BC8A-7F29D38852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0D5-BFAD-43D6-B773-86FB3FCA4B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F47-7A05-44C2-8006-F7BB0CBDF9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F2E-FA46-4FFD-9B31-89E3E3471B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F2C9-2FB7-4872-95CF-57F2926B5D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34E-1FBF-4E7C-BF04-E124205493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02F-FD8F-45BC-97F0-E6B747EF64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8880-E556-45D4-8E2B-0E50F7A71E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3F7-8A68-42AA-9FD2-C625D0E369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77A-3FA1-4924-BC6D-CDFB50D886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A97-DB3B-45BE-B9E1-12DD541A8B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63C-062C-4019-A12D-CE1085B4A7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FF06-3785-4996-A37E-145549289A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460-6DF8-4763-9630-DE2D50A432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4CF-3731-4D8C-8DEB-11B5088507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B76-F8FA-448C-A56A-2E023E51AC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963-07F5-424B-A144-4AD18C3CD5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BF9-EE89-462C-AC01-AE5931E208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415-1095-402B-A1DE-7495196519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CDF6-E42B-411E-8730-4ACE63A119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3A9-1B9D-42D4-A5B9-05911485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66A-8F95-4012-A83B-E22BAAF6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95B-5366-461E-98FE-1F4941D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B4F-FDD8-42BB-A0BB-EDCE1ED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759-9E7E-456D-BDE9-7F97756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2C2-49BC-421B-894A-B5CD9A8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09E-0B26-469F-AE8D-373660F9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9F4-DE77-41EE-9459-990286C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0C8-51E8-40FB-ACEC-F2145390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32-3CB7-435B-A828-3DFE43E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73E-E5E1-4A64-B107-43AD8D7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329-9979-42B2-B3A3-13F4CA7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A410-3BFD-424C-B1CB-512413E12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:\教学\普教室\生于忧患死于安乐\1.jpg"/>
          <p:cNvPicPr/>
          <p:nvPr/>
        </p:nvPicPr>
        <p:blipFill>
          <a:blip r:embed="rId2"/>
          <a:stretch/>
        </p:blipFill>
        <p:spPr>
          <a:xfrm>
            <a:off x="22860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118120" y="1066680"/>
            <a:ext cx="288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336600"/>
                </a:solidFill>
                <a:latin typeface="Times New Roman"/>
                <a:ea typeface="隶书"/>
              </a:rPr>
              <a:t>生于忧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336600"/>
                </a:solidFill>
                <a:latin typeface="Times New Roman"/>
                <a:ea typeface="隶书"/>
              </a:rPr>
              <a:t>死于安乐</a:t>
            </a:r>
            <a:r>
              <a:rPr b="0" lang="zh-CN" sz="80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孟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管夷吾举于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86400" y="2689200"/>
            <a:ext cx="274320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管夷吾从狱官手里释放后被举用为相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E:\教学\普教室\生于忧患死于安乐\管仲2.jpg"/>
          <p:cNvPicPr/>
          <p:nvPr/>
        </p:nvPicPr>
        <p:blipFill>
          <a:blip r:embed="rId2"/>
          <a:stretch/>
        </p:blipFill>
        <p:spPr>
          <a:xfrm>
            <a:off x="380880" y="45720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孙叔敖举于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孙叔敖除掉两头蛇"/>
          <p:cNvPicPr/>
          <p:nvPr/>
        </p:nvPicPr>
        <p:blipFill>
          <a:blip r:embed="rId2">
            <a:lum contrast="26000"/>
          </a:blip>
          <a:stretch/>
        </p:blipFill>
        <p:spPr>
          <a:xfrm>
            <a:off x="1828800" y="2079720"/>
            <a:ext cx="6095880" cy="4549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10880" y="1752480"/>
            <a:ext cx="1033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图为孙叔敖除去两头蛇的传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19320" y="984240"/>
            <a:ext cx="7561080" cy="642600"/>
          </a:xfrm>
          <a:prstGeom prst="rect">
            <a:avLst/>
          </a:prstGeom>
          <a:solidFill>
            <a:srgbClr val="99ccff">
              <a:alpha val="50000"/>
            </a:srgbClr>
          </a:solidFill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孙叔敖从海滨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隐居的地方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被起用。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fe7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E:\教学\普教室\生于忧患死于安乐\bailixi.jpg"/>
          <p:cNvPicPr/>
          <p:nvPr/>
        </p:nvPicPr>
        <p:blipFill>
          <a:blip r:embed="rId1"/>
          <a:stretch/>
        </p:blipFill>
        <p:spPr>
          <a:xfrm>
            <a:off x="152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38680" y="274284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百里奚举于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22360" y="533520"/>
            <a:ext cx="1826280" cy="5638680"/>
          </a:xfrm>
          <a:prstGeom prst="rect">
            <a:avLst/>
          </a:prstGeom>
          <a:solidFill>
            <a:srgbClr val="ccccff">
              <a:alpha val="50000"/>
            </a:srgbClr>
          </a:solidFill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百里奚被从奴隶市场里赎买回来并被起用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66"/>
              </a:solidFill>
              <a:latin typeface="Times New Roman"/>
              <a:ea typeface="华文新魏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363760" y="349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自然段问题设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711320" y="1549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文章开头列举了哪些事例，运用什么样的句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90720" y="390204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这几位古代贤能的人所处的时代不同，但是他们的经历什么共同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523880" y="2514600"/>
            <a:ext cx="64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运用了排比句式，列举了历史上这六位名人的事例：舜、傅说、胶鬲、管仲、孙叔敖、百里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600200" y="5181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他们虽然出身卑微，历经了苦难的磨练，但都被提拔任用，做出了一番作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304920"/>
            <a:ext cx="84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故天将降大任于是人也，必先苦其心志，劳起筋骨，饿其体肤，空乏其身，行拂乱其所为，所以动心忍性，曾益其所不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12920" y="2514600"/>
            <a:ext cx="8578800" cy="4267080"/>
          </a:xfrm>
          <a:custGeom>
            <a:avLst/>
            <a:gdLst>
              <a:gd name="textAreaLeft" fmla="*/ 0 w 8578800"/>
              <a:gd name="textAreaRight" fmla="*/ 8579160 w 8578800"/>
              <a:gd name="textAreaTop" fmla="*/ 501480 h 4267080"/>
              <a:gd name="textAreaBottom" fmla="*/ 3765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270"/>
                </a:moveTo>
                <a:cubicBezTo>
                  <a:pt x="7200" y="-3229"/>
                  <a:pt x="14400" y="5769"/>
                  <a:pt x="21600" y="1270"/>
                </a:cubicBezTo>
                <a:lnTo>
                  <a:pt x="21600" y="20330"/>
                </a:lnTo>
                <a:cubicBezTo>
                  <a:pt x="14400" y="24829"/>
                  <a:pt x="7200" y="15831"/>
                  <a:pt x="0" y="20330"/>
                </a:cubicBezTo>
                <a:close/>
              </a:path>
            </a:pathLst>
          </a:custGeom>
          <a:solidFill>
            <a:srgbClr val="008080">
              <a:alpha val="50000"/>
            </a:srgbClr>
          </a:solidFill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所以上天要把重任降临在这个人身上，一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先要使他的心意痛苦，使他的筋骨劳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使他忍饥挨饿身体空虚乏力，使他做事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到阻挠干扰，用这些来激励他的心志，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他的性情坚忍。增加他不具备的才能 。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57200" y="2514600"/>
            <a:ext cx="8578800" cy="4267080"/>
          </a:xfrm>
          <a:custGeom>
            <a:avLst/>
            <a:gdLst>
              <a:gd name="textAreaLeft" fmla="*/ 0 w 8578800"/>
              <a:gd name="textAreaRight" fmla="*/ 8579160 w 8578800"/>
              <a:gd name="textAreaTop" fmla="*/ 501480 h 4267080"/>
              <a:gd name="textAreaBottom" fmla="*/ 3765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270"/>
                </a:moveTo>
                <a:cubicBezTo>
                  <a:pt x="7200" y="-3229"/>
                  <a:pt x="14400" y="5769"/>
                  <a:pt x="21600" y="1270"/>
                </a:cubicBezTo>
                <a:lnTo>
                  <a:pt x="21600" y="20330"/>
                </a:lnTo>
                <a:cubicBezTo>
                  <a:pt x="14400" y="24829"/>
                  <a:pt x="7200" y="15831"/>
                  <a:pt x="0" y="20330"/>
                </a:cubicBezTo>
                <a:close/>
              </a:path>
            </a:pathLst>
          </a:custGeom>
          <a:solidFill>
            <a:srgbClr val="ccffcc"/>
          </a:solidFill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35053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二自然段归纳出了第一段的结论：人要担负重任，有所作为，成就大事，必须现在思想生活和行为等方面经受一番艰苦的磨练。并指明了磨练的益处：一、是培养坚定的意志和毅力。二、是能够发展个人的才能，即治理天下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29"/>
          <p:cNvSpPr/>
          <p:nvPr/>
        </p:nvSpPr>
        <p:spPr>
          <a:xfrm>
            <a:off x="450720" y="3808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人恒过，然后能改；困于心，衡于虑，而后作；征于色，发于声，而后喻。入则无法家拂士，出则无敌国外患者，国恒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0"/>
          <p:cNvSpPr/>
          <p:nvPr/>
        </p:nvSpPr>
        <p:spPr>
          <a:xfrm>
            <a:off x="611280" y="2922480"/>
            <a:ext cx="8076960" cy="106884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一个人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常常犯错误，然后才能改正；心意困苦，思虑阻塞，然后才能奋发创造；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别人愤怒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表现在脸色上，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怨恨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吐发在言语中，然后你就会知道。一个国家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如果在国内没有坚守法度的大臣和足以辅佐君王的贤士，在国外如果没有足以与之抗衡的邻国和来自外国的祸患，便常常会被消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2"/>
          <p:cNvSpPr/>
          <p:nvPr/>
        </p:nvSpPr>
        <p:spPr>
          <a:xfrm>
            <a:off x="533520" y="2895480"/>
            <a:ext cx="8229600" cy="2287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本段论述了人处于困境才能够奋发，国无忧虑则往往遭到灭亡的道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57600" y="6094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然后知生于忧患，而死于安乐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0" y="1776240"/>
            <a:ext cx="9144000" cy="9501480"/>
          </a:xfrm>
          <a:prstGeom prst="pie">
            <a:avLst/>
          </a:prstGeom>
          <a:solidFill>
            <a:srgbClr val="3333cc">
              <a:alpha val="50000"/>
            </a:srgbClr>
          </a:solidFill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中心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这样</a:t>
            </a: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就知道忧愁患害足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使人生存，而安逸享乐足以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灭亡的道理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657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文章思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01680" y="1393920"/>
            <a:ext cx="85406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《生于忧患，死于安乐》全文共四段，分三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列举古代六位圣君贤臣起于微贱的事例。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举例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这些事例暗示：逆境对造就人才的重大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归纳概括第一段的事例。说明困境能造就人才的道理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道理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二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从个人和国家的角度进一步阐发上述结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三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点明中心论点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于忧患，死于安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。论点独成一段，鲜明突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62012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4771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指出下列各句中的通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962520" y="1930320"/>
            <a:ext cx="5029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曾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增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衡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横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梗塞，不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拂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弼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辅弼，辅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57200" y="1905120"/>
            <a:ext cx="3505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曾益其所不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困于心衡于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入则无法家拂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词多义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523880" y="137160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舜发于畎亩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野芳发而幽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征于色，发于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发闾左谪戍渔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800600" y="1371600"/>
            <a:ext cx="312408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兴起，被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花）开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表露，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征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2133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600200" y="15238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5120" y="4191120"/>
            <a:ext cx="3429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国恒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则有去国怀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固国不以山溪之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876920" y="4191120"/>
            <a:ext cx="1447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43000" y="4952880"/>
            <a:ext cx="1219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066680" y="4572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1752480" y="4419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7481880" y="6095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3"/>
          <p:cNvSpPr/>
          <p:nvPr/>
        </p:nvSpPr>
        <p:spPr>
          <a:xfrm>
            <a:off x="7020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762120" y="3049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作家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62120" y="137160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掌握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762120" y="23623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聆听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62120" y="342900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62120" y="449568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思考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62120" y="55627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外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4" descr="E:\教学\普教室\生于忧患死于安乐\3.jpg"/>
          <p:cNvPicPr/>
          <p:nvPr/>
        </p:nvPicPr>
        <p:blipFill>
          <a:blip r:embed="rId2"/>
          <a:stretch/>
        </p:blipFill>
        <p:spPr>
          <a:xfrm>
            <a:off x="3809880" y="380880"/>
            <a:ext cx="5105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504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  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文中提出担当大任的人必须经过艰苦生活的磨练。请查找相关资料，补充一些例子，说说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E:\教学\普教室\生于忧患死于安乐\5.jpg"/>
          <p:cNvPicPr/>
          <p:nvPr/>
        </p:nvPicPr>
        <p:blipFill>
          <a:blip r:embed="rId2"/>
          <a:stretch/>
        </p:blipFill>
        <p:spPr>
          <a:xfrm>
            <a:off x="1143000" y="3581280"/>
            <a:ext cx="7162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3933360"/>
            <a:ext cx="2880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仲尼厄而作</a:t>
            </a:r>
            <a:br>
              <a:rPr sz="3600"/>
            </a:b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《春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孔子"/>
          <p:cNvPicPr/>
          <p:nvPr/>
        </p:nvPicPr>
        <p:blipFill>
          <a:blip r:embed="rId2"/>
          <a:stretch/>
        </p:blipFill>
        <p:spPr>
          <a:xfrm>
            <a:off x="0" y="0"/>
            <a:ext cx="3086280" cy="3809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6083280" y="866880"/>
            <a:ext cx="26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屈原放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乃赋《离骚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韩非"/>
          <p:cNvPicPr/>
          <p:nvPr/>
        </p:nvPicPr>
        <p:blipFill>
          <a:blip r:embed="rId3"/>
          <a:stretch/>
        </p:blipFill>
        <p:spPr>
          <a:xfrm>
            <a:off x="3276720" y="2133720"/>
            <a:ext cx="218268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692360" y="4902120"/>
            <a:ext cx="46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韩非囚秦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说难》、《孤愤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9" descr="E:\教学\普教室\生于忧患死于安乐\quyuan.jpg"/>
          <p:cNvPicPr/>
          <p:nvPr/>
        </p:nvPicPr>
        <p:blipFill>
          <a:blip r:embed="rId4"/>
          <a:stretch/>
        </p:blipFill>
        <p:spPr>
          <a:xfrm>
            <a:off x="5896080" y="25146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52720" y="-171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司马迁受腐刑而作《史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768280" y="1409760"/>
            <a:ext cx="188676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司马迁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---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西汉史学家、文学家和思想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。因替投降匈奴的李陵辩解，被捕入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出狱后，发奋著书完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史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。鲁迅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它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史家之绝唱，无韵之离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533520"/>
            <a:ext cx="8292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我要扼住命运的咽喉，他绝不能使我完全屈服。           </a:t>
            </a:r>
            <a:r>
              <a:rPr b="0" lang="zh-CN" sz="3600" spc="-1" strike="noStrike">
                <a:solidFill>
                  <a:srgbClr val="cc3300"/>
                </a:solidFill>
                <a:latin typeface="华文楷体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贝多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E:\教学\普教室\生于忧患死于安乐\bdf.jpg"/>
          <p:cNvPicPr/>
          <p:nvPr/>
        </p:nvPicPr>
        <p:blipFill>
          <a:blip r:embed="rId2"/>
          <a:stretch/>
        </p:blipFill>
        <p:spPr>
          <a:xfrm>
            <a:off x="1066680" y="1905120"/>
            <a:ext cx="3114720" cy="449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013360" y="2273400"/>
            <a:ext cx="306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贝多芬即使在双耳失聪的情况下，仍然坚持音乐创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1546200"/>
            <a:ext cx="7924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没有伟大的意志力，就没有雄才大略。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巴尔扎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困难越大，战胜困难就越荣耀。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莫里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天空黑暗到一定程度，星辰就会熠熠生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              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查尔斯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比亚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在获得无比丰富的生命体验的过程中，如果一帆风顺，那我们将失去一些发自内心深处的无上喜悦，只有穿越黑暗幽深的山谷，到达山顶的时候才会欣喜若狂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                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海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凯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宝剑锋从磨砺出，梅花香自苦寒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65868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名人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066680" y="36504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总结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优越的条件容易消磨人的意志，腐蚀人的健康肌体，使人丧失成功的上进心；而艰苦的环境，无论坎坷的道路，却能磨练人的意志，增长人的上进心。美国剧作家帕特里克说的“痛苦使人思索，思索使人明智，智慧使人生命持久”，足以说明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逆境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的优越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1183320" y="2430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课后思考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38080" y="909720"/>
            <a:ext cx="769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文中说：“人恒过，然后能改”，有人对这句话持不同的见解。请阅读下面链接材料后，结合自己的思考谈一点你的看法。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有些错误没机会改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48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岁的喜剧演员牛振华因酒后驾车惨遭不幸。出事后牛振华的家属发表了情真意切的公开信：“一生谨慎的他犯了一个错误，而他唯一一次错误，却让他不再有改正的机会，也给我们造成终生的遗憾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       ”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人们常说：“不要怕犯错误”。“不要怕‘交学费’”，“吃一堑，长一智”“在哪里摔到，就在哪里爬起来”等等，这些话不能说不对，但有些错误是致命的，瞬间发生，没有纠正的机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2500200" y="36432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孟子"/>
          <p:cNvPicPr/>
          <p:nvPr/>
        </p:nvPicPr>
        <p:blipFill>
          <a:blip r:embed="rId2">
            <a:lum contrast="40000"/>
          </a:blip>
          <a:srcRect l="6813" t="1400" r="2916" b="3038"/>
          <a:stretch/>
        </p:blipFill>
        <p:spPr>
          <a:xfrm>
            <a:off x="611280" y="1298520"/>
            <a:ext cx="3120840" cy="5178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838080" y="30492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关孟子和《孟子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809880" y="83808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孟子（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战国时思想家、教育家。名轲，字子舆，邹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山东邹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后世认为他是孔子学说的继承人，因此把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他和孔子并称：孔孟，并尊其为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亚圣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他曾游梁，说惠王，不能用；乃见齐宣王，为客卿。宣王对他很客气，可是也始终不用。于是孟子归而述孔子之意，教授弟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D05912_"/>
          <p:cNvPicPr/>
          <p:nvPr/>
        </p:nvPicPr>
        <p:blipFill>
          <a:blip r:embed="rId2"/>
          <a:stretch/>
        </p:blipFill>
        <p:spPr>
          <a:xfrm>
            <a:off x="6280200" y="1681200"/>
            <a:ext cx="2482920" cy="45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62120" y="816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孟子》是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儒家的经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一，为孟子和弟子及再传弟子所著。书中记载了孟子及其弟子的政治、教育、哲学、伦理等思想观点和政治活动。南宋朱熹把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它和《大学》、《中庸》、《论语》合为“四书”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为此后读书人的必读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63868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9"/>
          <p:cNvSpPr/>
          <p:nvPr/>
        </p:nvSpPr>
        <p:spPr>
          <a:xfrm>
            <a:off x="685800" y="1563840"/>
            <a:ext cx="457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舜发于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畎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亩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傅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说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版筑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鬲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鱼盐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行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乱其所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法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曾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益其所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0"/>
          <p:cNvSpPr/>
          <p:nvPr/>
        </p:nvSpPr>
        <p:spPr>
          <a:xfrm>
            <a:off x="1276560" y="45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给下列红字注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1"/>
          <p:cNvSpPr/>
          <p:nvPr/>
        </p:nvSpPr>
        <p:spPr>
          <a:xfrm>
            <a:off x="5632560" y="1600200"/>
            <a:ext cx="191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ｑ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2"/>
          <p:cNvSpPr/>
          <p:nvPr/>
        </p:nvSpPr>
        <p:spPr>
          <a:xfrm>
            <a:off x="5861880" y="243828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ｙ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3"/>
          <p:cNvSpPr/>
          <p:nvPr/>
        </p:nvSpPr>
        <p:spPr>
          <a:xfrm>
            <a:off x="5925240" y="32306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4"/>
          <p:cNvSpPr/>
          <p:nvPr/>
        </p:nvSpPr>
        <p:spPr>
          <a:xfrm>
            <a:off x="6012000" y="399240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f 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5"/>
          <p:cNvSpPr/>
          <p:nvPr/>
        </p:nvSpPr>
        <p:spPr>
          <a:xfrm>
            <a:off x="6069960" y="4876920"/>
            <a:ext cx="100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6"/>
          <p:cNvSpPr/>
          <p:nvPr/>
        </p:nvSpPr>
        <p:spPr>
          <a:xfrm>
            <a:off x="6051960" y="56689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z ēn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37"/>
          <p:cNvSpPr/>
          <p:nvPr/>
        </p:nvSpPr>
        <p:spPr>
          <a:xfrm>
            <a:off x="7772400" y="6172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教学\普教室\生于忧患死于安乐\2.jpg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4505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819520" y="5486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00200" y="5334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朗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张筠英《生于忧患，死于安乐》.mp3" descr=""/>
          <p:cNvPicPr/>
          <p:nvPr/>
        </p:nvPicPr>
        <p:blipFill>
          <a:blip r:embed="rId3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7481880" y="6095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281916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舜</a:t>
            </a: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发于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畎亩之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舜1"/>
          <p:cNvPicPr/>
          <p:nvPr/>
        </p:nvPicPr>
        <p:blipFill>
          <a:blip r:embed="rId2"/>
          <a:stretch/>
        </p:blipFill>
        <p:spPr>
          <a:xfrm>
            <a:off x="4267080" y="533520"/>
            <a:ext cx="419112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734400" y="609480"/>
            <a:ext cx="1399320" cy="518184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舜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从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田野之中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被起用</a:t>
            </a:r>
            <a:r>
              <a:rPr b="0" lang="zh-CN" sz="3200" spc="-1" strike="noStrike">
                <a:solidFill>
                  <a:srgbClr val="008080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傅说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举于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版筑之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傅说"/>
          <p:cNvPicPr/>
          <p:nvPr/>
        </p:nvPicPr>
        <p:blipFill>
          <a:blip r:embed="rId1"/>
          <a:stretch/>
        </p:blipFill>
        <p:spPr>
          <a:xfrm>
            <a:off x="685800" y="1371600"/>
            <a:ext cx="4381560" cy="4952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796000" y="1844640"/>
            <a:ext cx="2514600" cy="143460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傅说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从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筑墙的劳作之中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被起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2040" y="2895120"/>
            <a:ext cx="68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胶鬲举于鱼盐之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304320" y="685800"/>
            <a:ext cx="1277640" cy="5638680"/>
          </a:xfrm>
          <a:prstGeom prst="rect">
            <a:avLst/>
          </a:prstGeom>
          <a:solidFill>
            <a:srgbClr val="00cc99">
              <a:alpha val="50000"/>
            </a:srgbClr>
          </a:solidFill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胶鬲从贩卖鱼盐中被起用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4T11:09:27Z</dcterms:modified>
  <cp:revision>60</cp:revision>
  <dc:subject>第一PPT模板网-WWW.1PPT.COM</dc:subject>
  <dc:title>第一PPT模板网-WWW.1PPT.COM</dc:title>
</cp:coreProperties>
</file>