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292-7508-4A60-BA95-9013DB26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931-B380-4F46-9655-3AC2437E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65A-35C6-4DA6-8EDD-8E1FC3CD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AA3-7B7F-41C2-9C00-BC42E767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39D2-BB2C-4942-838C-590D1614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09B-2044-47EB-A2FF-A0420B16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19A-0AF9-4D12-973C-D3220276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425-23B1-4F9A-A444-EBD85AB8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C06-7D48-4A5B-860E-4A22AB5D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873-F681-401C-A2D5-3064ABAD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B51-F92E-4542-A07B-C31ED97F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080-B410-4F4C-8484-80D96849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68E4-DD61-48B0-AD3F-001729D6B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hyperlink" Target="http://www.strat-pro.com/powerpoint-templates.aspx" TargetMode="External"/><Relationship Id="rId4" Type="http://schemas.openxmlformats.org/officeDocument/2006/relationships/hyperlink" Target="http://www.strat-pro.com/powerpoint-templates.aspx" TargetMode="External"/><Relationship Id="rId5" Type="http://schemas.openxmlformats.org/officeDocument/2006/relationships/hyperlink" Target="http://www.strat-pro.com/Maps-Flags.aspx" TargetMode="External"/><Relationship Id="rId6" Type="http://schemas.openxmlformats.org/officeDocument/2006/relationships/hyperlink" Target="http://www.strat-pro.com/powerpoint-templates.aspx" TargetMode="External"/><Relationship Id="rId7" Type="http://schemas.openxmlformats.org/officeDocument/2006/relationships/hyperlink" Target="http://www.strat-pro.com/powerpoint-templates.aspx" TargetMode="External"/><Relationship Id="rId8" Type="http://schemas.openxmlformats.org/officeDocument/2006/relationships/hyperlink" Target="http://www.strat-pro.com/Maps-Flags.aspx" TargetMode="External"/><Relationship Id="rId9" Type="http://schemas.openxmlformats.org/officeDocument/2006/relationships/hyperlink" Target="http://www.strat-pro.com/powerpoint-templates.aspx" TargetMode="External"/><Relationship Id="rId10" Type="http://schemas.openxmlformats.org/officeDocument/2006/relationships/hyperlink" Target="http://www.strat-pro.com/powerpoint-templates.aspx" TargetMode="External"/><Relationship Id="rId11" Type="http://schemas.openxmlformats.org/officeDocument/2006/relationships/hyperlink" Target="http://www.strat-pro.com/powerpoint-templates.aspx" TargetMode="External"/><Relationship Id="rId12" Type="http://schemas.openxmlformats.org/officeDocument/2006/relationships/hyperlink" Target="http://www.strat-pro.com/powerpoint-templates.aspx" TargetMode="External"/><Relationship Id="rId13" Type="http://schemas.openxmlformats.org/officeDocument/2006/relationships/hyperlink" Target="http://www.strat-pro.com/powerpoint-templates.aspx" TargetMode="External"/><Relationship Id="rId14" Type="http://schemas.openxmlformats.org/officeDocument/2006/relationships/hyperlink" Target="http://www.strat-pro.com/powerpoint-templates.aspx" TargetMode="External"/><Relationship Id="rId15" Type="http://schemas.openxmlformats.org/officeDocument/2006/relationships/hyperlink" Target="http://www.strat-pro.com/Maps-Flags.aspx" TargetMode="External"/><Relationship Id="rId16" Type="http://schemas.openxmlformats.org/officeDocument/2006/relationships/hyperlink" Target="http://www.strat-pro.com/powerpoint-templates.aspx" TargetMode="External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hyperlink" Target="http://www.strat-pro.com/powerpoint-templates.aspx" TargetMode="External"/><Relationship Id="rId4" Type="http://schemas.openxmlformats.org/officeDocument/2006/relationships/hyperlink" Target="http://www.strat-pro.com/powerpoint-templates.aspx" TargetMode="External"/><Relationship Id="rId5" Type="http://schemas.openxmlformats.org/officeDocument/2006/relationships/hyperlink" Target="http://www.strat-pro.com/Maps-Flags.aspx" TargetMode="External"/><Relationship Id="rId6" Type="http://schemas.openxmlformats.org/officeDocument/2006/relationships/hyperlink" Target="http://www.strat-pro.com/powerpoint-templates.aspx" TargetMode="External"/><Relationship Id="rId7" Type="http://schemas.openxmlformats.org/officeDocument/2006/relationships/hyperlink" Target="http://www.strat-pro.com/powerpoint-templates.aspx" TargetMode="External"/><Relationship Id="rId8" Type="http://schemas.openxmlformats.org/officeDocument/2006/relationships/hyperlink" Target="http://www.strat-pro.com/Maps-Flags.aspx" TargetMode="External"/><Relationship Id="rId9" Type="http://schemas.openxmlformats.org/officeDocument/2006/relationships/hyperlink" Target="http://www.strat-pro.com/powerpoint-templates.aspx" TargetMode="External"/><Relationship Id="rId10" Type="http://schemas.openxmlformats.org/officeDocument/2006/relationships/hyperlink" Target="http://www.strat-pro.com/powerpoint-templates.aspx" TargetMode="External"/><Relationship Id="rId11" Type="http://schemas.openxmlformats.org/officeDocument/2006/relationships/hyperlink" Target="http://www.strat-pro.com/powerpoint-templates.aspx" TargetMode="External"/><Relationship Id="rId12" Type="http://schemas.openxmlformats.org/officeDocument/2006/relationships/hyperlink" Target="http://www.strat-pro.com/powerpoint-templates.aspx" TargetMode="External"/><Relationship Id="rId13" Type="http://schemas.openxmlformats.org/officeDocument/2006/relationships/hyperlink" Target="http://www.strat-pro.com/powerpoint-templates.aspx" TargetMode="External"/><Relationship Id="rId14" Type="http://schemas.openxmlformats.org/officeDocument/2006/relationships/hyperlink" Target="http://www.strat-pro.com/powerpoint-templates.aspx" TargetMode="External"/><Relationship Id="rId15" Type="http://schemas.openxmlformats.org/officeDocument/2006/relationships/hyperlink" Target="http://www.strat-pro.com/Maps-Flags.aspx" TargetMode="External"/><Relationship Id="rId16" Type="http://schemas.openxmlformats.org/officeDocument/2006/relationships/hyperlink" Target="http://www.strat-pro.com/powerpoint-templates.aspx" TargetMode="Externa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image" Target="../media/image9.jpeg"/><Relationship Id="rId5" Type="http://schemas.openxmlformats.org/officeDocument/2006/relationships/hyperlink" Target="http://www.strat-pro.com/powerpoint-templates.aspx" TargetMode="External"/><Relationship Id="rId6" Type="http://schemas.openxmlformats.org/officeDocument/2006/relationships/hyperlink" Target="http://www.strat-pro.com/powerpoint-templates.aspx" TargetMode="External"/><Relationship Id="rId7" Type="http://schemas.openxmlformats.org/officeDocument/2006/relationships/hyperlink" Target="http://www.strat-pro.com/powerpoint-templates.aspx" TargetMode="External"/><Relationship Id="rId8" Type="http://schemas.openxmlformats.org/officeDocument/2006/relationships/hyperlink" Target="http://www.strat-pro.com/powerpoint-templates.aspx" TargetMode="External"/><Relationship Id="rId9" Type="http://schemas.openxmlformats.org/officeDocument/2006/relationships/hyperlink" Target="http://www.strat-pro.com/powerpoint-templates.aspx" TargetMode="External"/><Relationship Id="rId10" Type="http://schemas.openxmlformats.org/officeDocument/2006/relationships/hyperlink" Target="http://www.strat-pro.com/powerpoint-templates.aspx" TargetMode="External"/><Relationship Id="rId11" Type="http://schemas.openxmlformats.org/officeDocument/2006/relationships/hyperlink" Target="http://www.strat-pro.com/Maps-Flags.aspx" TargetMode="External"/><Relationship Id="rId12" Type="http://schemas.openxmlformats.org/officeDocument/2006/relationships/hyperlink" Target="http://www.strat-pro.com/powerpoint-templates.aspx" TargetMode="External"/><Relationship Id="rId13" Type="http://schemas.openxmlformats.org/officeDocument/2006/relationships/hyperlink" Target="http://www.strat-pro.com/powerpoint-templates.aspx" TargetMode="External"/><Relationship Id="rId14" Type="http://schemas.openxmlformats.org/officeDocument/2006/relationships/hyperlink" Target="http://www.strat-pro.com/powerpoint-templates.aspx" TargetMode="External"/><Relationship Id="rId15" Type="http://schemas.openxmlformats.org/officeDocument/2006/relationships/hyperlink" Target="http://www.strat-pro.com/powerpoint-templates.aspx" TargetMode="External"/><Relationship Id="rId16" Type="http://schemas.openxmlformats.org/officeDocument/2006/relationships/hyperlink" Target="http://www.strat-pro.com/powerpoint-templates.aspx" TargetMode="External"/><Relationship Id="rId17" Type="http://schemas.openxmlformats.org/officeDocument/2006/relationships/hyperlink" Target="http://www.strat-pro.com/powerpoint-templates.aspx" TargetMode="External"/><Relationship Id="rId18" Type="http://schemas.openxmlformats.org/officeDocument/2006/relationships/hyperlink" Target="http://www.strat-pro.com/Maps-Flags.aspx" TargetMode="External"/><Relationship Id="rId19" Type="http://schemas.openxmlformats.org/officeDocument/2006/relationships/hyperlink" Target="http://www.strat-pro.com/powerpoint-templates.aspx" TargetMode="External"/><Relationship Id="rId20" Type="http://schemas.openxmlformats.org/officeDocument/2006/relationships/hyperlink" Target="http://www.strat-pro.com/powerpoint-templates.aspx" TargetMode="External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hyperlink" Target="http://www.strat-pro.com/powerpoint-templates.aspx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hyperlink" Target="http://www.strat-pro.com/powerpoint-templates.aspx" TargetMode="External"/><Relationship Id="rId4" Type="http://schemas.openxmlformats.org/officeDocument/2006/relationships/hyperlink" Target="http://www.strat-pro.com/powerpoint-templates.aspx" TargetMode="External"/><Relationship Id="rId5" Type="http://schemas.openxmlformats.org/officeDocument/2006/relationships/hyperlink" Target="http://www.strat-pro.com/Maps-Flags.aspx" TargetMode="External"/><Relationship Id="rId6" Type="http://schemas.openxmlformats.org/officeDocument/2006/relationships/hyperlink" Target="http://www.strat-pro.com/powerpoint-templates.aspx" TargetMode="External"/><Relationship Id="rId7" Type="http://schemas.openxmlformats.org/officeDocument/2006/relationships/hyperlink" Target="http://www.strat-pro.com/powerpoint-templates.aspx" TargetMode="External"/><Relationship Id="rId8" Type="http://schemas.openxmlformats.org/officeDocument/2006/relationships/hyperlink" Target="http://www.strat-pro.com/Maps-Flags.aspx" TargetMode="External"/><Relationship Id="rId9" Type="http://schemas.openxmlformats.org/officeDocument/2006/relationships/hyperlink" Target="http://www.strat-pro.com/powerpoint-templates.aspx" TargetMode="External"/><Relationship Id="rId10" Type="http://schemas.openxmlformats.org/officeDocument/2006/relationships/hyperlink" Target="http://www.strat-pro.com/powerpoint-templates.aspx" TargetMode="External"/><Relationship Id="rId11" Type="http://schemas.openxmlformats.org/officeDocument/2006/relationships/hyperlink" Target="http://www.strat-pro.com/powerpoint-templates.aspx" TargetMode="External"/><Relationship Id="rId12" Type="http://schemas.openxmlformats.org/officeDocument/2006/relationships/hyperlink" Target="http://www.strat-pro.com/powerpoint-templates.aspx" TargetMode="External"/><Relationship Id="rId13" Type="http://schemas.openxmlformats.org/officeDocument/2006/relationships/hyperlink" Target="http://www.strat-pro.com/powerpoint-templates.aspx" TargetMode="External"/><Relationship Id="rId14" Type="http://schemas.openxmlformats.org/officeDocument/2006/relationships/hyperlink" Target="http://www.strat-pro.com/powerpoint-templates.aspx" TargetMode="External"/><Relationship Id="rId15" Type="http://schemas.openxmlformats.org/officeDocument/2006/relationships/hyperlink" Target="http://www.strat-pro.com/Maps-Flags.aspx" TargetMode="External"/><Relationship Id="rId16" Type="http://schemas.openxmlformats.org/officeDocument/2006/relationships/hyperlink" Target="http://www.strat-pro.com/powerpoint-templates.aspx" TargetMode="Externa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hyperlink" Target="http://www.strat-pro.com/powerpoint-templates.aspx" TargetMode="External"/><Relationship Id="rId4" Type="http://schemas.openxmlformats.org/officeDocument/2006/relationships/hyperlink" Target="http://www.strat-pro.com/powerpoint-templates.aspx" TargetMode="External"/><Relationship Id="rId5" Type="http://schemas.openxmlformats.org/officeDocument/2006/relationships/hyperlink" Target="http://www.strat-pro.com/Maps-Flags.aspx" TargetMode="External"/><Relationship Id="rId6" Type="http://schemas.openxmlformats.org/officeDocument/2006/relationships/hyperlink" Target="http://www.strat-pro.com/powerpoint-templates.aspx" TargetMode="External"/><Relationship Id="rId7" Type="http://schemas.openxmlformats.org/officeDocument/2006/relationships/hyperlink" Target="http://www.strat-pro.com/powerpoint-templates.aspx" TargetMode="External"/><Relationship Id="rId8" Type="http://schemas.openxmlformats.org/officeDocument/2006/relationships/hyperlink" Target="http://www.strat-pro.com/Maps-Flags.aspx" TargetMode="External"/><Relationship Id="rId9" Type="http://schemas.openxmlformats.org/officeDocument/2006/relationships/hyperlink" Target="http://www.strat-pro.com/powerpoint-templates.aspx" TargetMode="External"/><Relationship Id="rId10" Type="http://schemas.openxmlformats.org/officeDocument/2006/relationships/hyperlink" Target="http://www.strat-pro.com/powerpoint-templates.aspx" TargetMode="External"/><Relationship Id="rId11" Type="http://schemas.openxmlformats.org/officeDocument/2006/relationships/hyperlink" Target="http://www.strat-pro.com/powerpoint-templates.aspx" TargetMode="External"/><Relationship Id="rId12" Type="http://schemas.openxmlformats.org/officeDocument/2006/relationships/hyperlink" Target="http://www.strat-pro.com/powerpoint-templates.aspx" TargetMode="External"/><Relationship Id="rId13" Type="http://schemas.openxmlformats.org/officeDocument/2006/relationships/hyperlink" Target="http://www.strat-pro.com/powerpoint-templates.aspx" TargetMode="External"/><Relationship Id="rId14" Type="http://schemas.openxmlformats.org/officeDocument/2006/relationships/hyperlink" Target="http://www.strat-pro.com/powerpoint-templates.aspx" TargetMode="External"/><Relationship Id="rId15" Type="http://schemas.openxmlformats.org/officeDocument/2006/relationships/hyperlink" Target="http://www.strat-pro.com/Maps-Flags.aspx" TargetMode="External"/><Relationship Id="rId16" Type="http://schemas.openxmlformats.org/officeDocument/2006/relationships/hyperlink" Target="http://www.strat-pro.com/powerpoint-templates.aspx" TargetMode="External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911160" y="1282680"/>
            <a:ext cx="3686400" cy="2425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645080" y="1270080"/>
            <a:ext cx="3682800" cy="2425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11160" y="3720960"/>
            <a:ext cx="3686400" cy="2425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622760" y="3720960"/>
            <a:ext cx="3683160" cy="2425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79240" y="344520"/>
            <a:ext cx="39974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</a:rPr>
              <a:t>金博大店与国贸店</a:t>
            </a:r>
            <a:r>
              <a:rPr b="1" lang="zh-CN" sz="3000" spc="-1" strike="noStrike">
                <a:solidFill>
                  <a:srgbClr val="ffffff"/>
                </a:solidFill>
                <a:latin typeface="Calibri"/>
              </a:rPr>
              <a:t>SWOT</a:t>
            </a:r>
            <a:r>
              <a:rPr b="1" lang="zh-CN" sz="3000" spc="-1" strike="noStrike">
                <a:solidFill>
                  <a:srgbClr val="ffffff"/>
                </a:solidFill>
                <a:latin typeface="Calibri"/>
              </a:rPr>
              <a:t>对比分析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05080" y="1630440"/>
            <a:ext cx="2519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地理位置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美誉度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类品牌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客层结构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21440" y="1557360"/>
            <a:ext cx="20890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经营规模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店铺形象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业态组合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营销投入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品牌调整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品牌结构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会员管理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无潜力可挖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61360" y="2502000"/>
            <a:ext cx="18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4076640"/>
            <a:ext cx="2089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调整装修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地铁新开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新增业态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4076640"/>
            <a:ext cx="2087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周边竞争店调整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周边新开店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国贸调整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宋体"/>
              </a:rPr>
              <a:t>、大调整前品牌稳定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71680" y="1071720"/>
            <a:ext cx="8001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17600" y="1328760"/>
            <a:ext cx="8319960" cy="5529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0560" y="1706400"/>
            <a:ext cx="2405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2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25760" y="2444760"/>
            <a:ext cx="5441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on the text box t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enter your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bullets should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enumerat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11880" y="3063960"/>
            <a:ext cx="88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33680" y="3382920"/>
            <a:ext cx="2157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clear and br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78280" y="3720960"/>
            <a:ext cx="3135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• Not every detail 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• Keep it simp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25760" y="4327560"/>
            <a:ext cx="5441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on the text box t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enter your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0360" y="4667400"/>
            <a:ext cx="180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• Keep it simp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19640" y="4968720"/>
            <a:ext cx="5278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 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11880" y="5251320"/>
            <a:ext cx="88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71680" y="1071720"/>
            <a:ext cx="8001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17600" y="1328760"/>
            <a:ext cx="8319960" cy="5529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87960" y="1706400"/>
            <a:ext cx="1331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2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25760" y="2444760"/>
            <a:ext cx="5441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on the text box t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enter your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bullets should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enumerat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11880" y="3063960"/>
            <a:ext cx="88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33680" y="3382920"/>
            <a:ext cx="2157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clear and br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78280" y="3720960"/>
            <a:ext cx="3135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• Not every detail 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• Keep it simp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25760" y="4327560"/>
            <a:ext cx="5441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on the text box t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enter your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70360" y="4667400"/>
            <a:ext cx="180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• Keep it simp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9640" y="4968720"/>
            <a:ext cx="5278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 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11880" y="5251320"/>
            <a:ext cx="88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95280" y="1328760"/>
            <a:ext cx="8329680" cy="4817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324560" y="6175440"/>
            <a:ext cx="1413000" cy="682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0520" y="1860480"/>
            <a:ext cx="137520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37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49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35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17480" y="1533600"/>
            <a:ext cx="4572720" cy="43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•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on the text box to enter your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•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member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bullets should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enumerate similar ma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•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e clear and br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on the text box to enter your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member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bullets should enumerate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similar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ma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clear and br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on the text box to enter your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member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bullets should enumerate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similar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ma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•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clear and br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•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on the text box to enter your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•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member, bullets should enumerate similar ma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•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e clear and br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77720" y="1703520"/>
            <a:ext cx="2011320" cy="133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679840" y="1673280"/>
            <a:ext cx="5968800" cy="4282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324560" y="6175440"/>
            <a:ext cx="1413000" cy="682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00480" y="2073240"/>
            <a:ext cx="15004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28200" y="2602080"/>
            <a:ext cx="403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on the text box to enter y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9280" y="2886120"/>
            <a:ext cx="1347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17760" y="3205080"/>
            <a:ext cx="4460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8560" y="3489480"/>
            <a:ext cx="1698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milar 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32160" y="3809880"/>
            <a:ext cx="2157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 clear and br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28200" y="4145040"/>
            <a:ext cx="403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on the text box to enter y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9280" y="4429080"/>
            <a:ext cx="1347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7760" y="4748040"/>
            <a:ext cx="4460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8560" y="5032440"/>
            <a:ext cx="1698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milar 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11200" y="1703520"/>
            <a:ext cx="2054160" cy="133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679840" y="1673280"/>
            <a:ext cx="5968800" cy="428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7324560" y="6175440"/>
            <a:ext cx="1413000" cy="682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97600" y="2073240"/>
            <a:ext cx="1710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28200" y="2602080"/>
            <a:ext cx="403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on the text box to enter y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9280" y="2886120"/>
            <a:ext cx="1347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17760" y="3205080"/>
            <a:ext cx="4460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08560" y="3489480"/>
            <a:ext cx="1698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milar 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32160" y="3809880"/>
            <a:ext cx="2157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 clear and br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28200" y="4145040"/>
            <a:ext cx="403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on the text box to enter y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09280" y="4429080"/>
            <a:ext cx="1347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17760" y="4748040"/>
            <a:ext cx="4460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08560" y="5032440"/>
            <a:ext cx="1698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milar 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77720" y="1738440"/>
            <a:ext cx="2011320" cy="1360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679840" y="1663560"/>
            <a:ext cx="5968800" cy="4305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324560" y="6175440"/>
            <a:ext cx="1413000" cy="682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01200" y="2073240"/>
            <a:ext cx="2065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28200" y="2602080"/>
            <a:ext cx="403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on the text box to enter y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9280" y="2886120"/>
            <a:ext cx="1347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17760" y="3205080"/>
            <a:ext cx="4460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08560" y="3489480"/>
            <a:ext cx="1698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milar 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32160" y="3809880"/>
            <a:ext cx="2157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 clear and br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28200" y="4145040"/>
            <a:ext cx="403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on the text box to enter y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09280" y="4429080"/>
            <a:ext cx="1347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17760" y="4748040"/>
            <a:ext cx="4460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8560" y="5032440"/>
            <a:ext cx="1698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milar 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1200" y="1738440"/>
            <a:ext cx="2054160" cy="1360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679840" y="1673280"/>
            <a:ext cx="5968800" cy="4282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324560" y="6175440"/>
            <a:ext cx="1413000" cy="682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88960" y="2073240"/>
            <a:ext cx="1145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28200" y="2602080"/>
            <a:ext cx="403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on the text box to enter y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9280" y="2886120"/>
            <a:ext cx="1347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17760" y="3205080"/>
            <a:ext cx="4460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08560" y="3489480"/>
            <a:ext cx="1698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milar 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2160" y="3809880"/>
            <a:ext cx="2157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 clear and br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28200" y="4145040"/>
            <a:ext cx="403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on the text box to enter y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9280" y="4429080"/>
            <a:ext cx="1347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7760" y="4748040"/>
            <a:ext cx="4460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8560" y="5032440"/>
            <a:ext cx="1698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milar 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71680" y="1071720"/>
            <a:ext cx="8001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17640" y="1268280"/>
            <a:ext cx="3679920" cy="4865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629240" y="1268280"/>
            <a:ext cx="3676680" cy="4865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324560" y="6175440"/>
            <a:ext cx="1413000" cy="682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4400" y="1355760"/>
            <a:ext cx="284292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88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TR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62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on the text box to enter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member, bullets should enum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milar mat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 clear and bri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13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on the text box to enter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25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24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on the text box to enter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member, bullets should enum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milar mat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 clear and bri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13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on the text box to enter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74760" y="1355760"/>
            <a:ext cx="284292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88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62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on the text box to enter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member, bullets should enum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milar mat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 clear and bri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13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on the text box to enter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1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35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on the text box to enter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member, bullets should enum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milar mat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 clear and bri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13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on the text box to enter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95280" y="1328760"/>
            <a:ext cx="8329680" cy="4817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324560" y="6175440"/>
            <a:ext cx="1413000" cy="682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06240" y="1741320"/>
            <a:ext cx="16254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STRENG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10840" y="2897280"/>
            <a:ext cx="18144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EAK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99160" y="4095720"/>
            <a:ext cx="2241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98840" y="5237280"/>
            <a:ext cx="1239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THRE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71680" y="1071720"/>
            <a:ext cx="8001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17600" y="1328760"/>
            <a:ext cx="8319960" cy="5529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2720" y="1706400"/>
            <a:ext cx="17427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2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RENG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25760" y="2444760"/>
            <a:ext cx="5441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on the text box t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enter your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bullets should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enumerat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11880" y="3063960"/>
            <a:ext cx="88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33680" y="3382920"/>
            <a:ext cx="2157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clear and br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8280" y="3720960"/>
            <a:ext cx="3135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• Not every detail 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• Keep it simp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25760" y="4327560"/>
            <a:ext cx="5441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on the text box t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enter your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70360" y="4667400"/>
            <a:ext cx="180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• Keep it simp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9640" y="4968720"/>
            <a:ext cx="5278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 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11880" y="5251320"/>
            <a:ext cx="88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1680" y="1071720"/>
            <a:ext cx="8001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17600" y="1328760"/>
            <a:ext cx="8319960" cy="5529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99480" y="1706400"/>
            <a:ext cx="1987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2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25760" y="2444760"/>
            <a:ext cx="5441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on the text box t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enter your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bullets should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enumerat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11880" y="3063960"/>
            <a:ext cx="88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33680" y="3382920"/>
            <a:ext cx="2157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clear and br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8280" y="3720960"/>
            <a:ext cx="3135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• Not every detail 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• Keep it simp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25760" y="4327560"/>
            <a:ext cx="5441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on the text box t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enter your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0360" y="4667400"/>
            <a:ext cx="180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• Keep it simp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19640" y="4968720"/>
            <a:ext cx="5278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 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11880" y="5251320"/>
            <a:ext cx="88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09:32:33Z</dcterms:created>
  <dc:creator>island</dc:creator>
  <dc:description/>
  <dc:language>en-US</dc:language>
  <cp:lastModifiedBy>island</cp:lastModifiedBy>
  <cp:lastPrinted>1899-12-30T00:00:00Z</cp:lastPrinted>
  <dcterms:modified xsi:type="dcterms:W3CDTF">2010-03-29T06:35:05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