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7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837-C467-4ED5-AD92-D698B7F0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856-DA24-495D-8A8B-B344452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4D2-0264-481C-B72A-81B6C54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31F-026F-41C8-8F8B-0820F61A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C1A3-21D1-4B30-915B-6F1C2E21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9F15-86DE-4EFB-8108-41DA3C23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EA75-012C-411F-A536-1D3BDE7A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281E-5625-4599-8788-301907E6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9573-7DB1-4F74-8F6C-D7E8FFF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0052-D08C-4AE7-A954-D3555F3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8B20-9DFB-48F1-876F-0A2BA416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3D6-0804-45AF-9BF3-1638251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D015-F45B-4F18-9DB5-5760197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DC9A-AD91-4C90-87B4-0CAE9D7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8A24-7CA1-408A-B7F0-2657509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50DE-1811-400C-9FFC-1BA501A1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F785-8F8A-4858-BC51-7363B00E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11E-12E6-4039-A884-C22DBB99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A2F-DD29-4A81-A338-E1132FA3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812-F627-4081-8C72-F0FA5D69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CC6-3014-4EC8-BDA2-A59205CC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2A2-2A1A-45F6-B81E-0DC5AB6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7BF-166C-4A49-8ADD-D536BCF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DE8-1C55-4C88-9B42-A8FC691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1875-5AA4-4A8E-93E2-F17D9FD40D4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45F3-F1B7-4E5A-95E2-2C41541E928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828720" y="-316080"/>
            <a:ext cx="10441080" cy="7417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620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749760" cy="4245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84720" y="1557360"/>
            <a:ext cx="4859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同学们，学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生字词，就要解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课文提出的问题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咯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902680" y="260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小组合作探究学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35560" y="1628640"/>
            <a:ext cx="322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想想“刷子李”的技艺高超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哪儿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6840" y="2924280"/>
            <a:ext cx="16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家冯骥才又是怎样写出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技艺高超的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15760" y="414972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通过徒弟曹小三亲眼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睹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几个细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中体现出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00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2492280"/>
            <a:ext cx="57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14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181400"/>
                </a:solidFill>
                <a:latin typeface="Times New Roman"/>
              </a:rPr>
              <a:t>、想想“刷子李”的技艺高超表现在哪儿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59160" y="1197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我来汇报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0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1844640"/>
            <a:ext cx="528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要是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给你刷好一间屋子，屋里什么都不用放，单做着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如同升天一般美。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让人叫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是，他刷浆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穿一身黑，干完活，身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没有一个白点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651640" y="907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00" y="25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2640" y="1268280"/>
            <a:ext cx="6057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对于这个传说，徒弟曹小三在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眼目睹前也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半信半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00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88520" y="1413000"/>
            <a:ext cx="261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作家冯骥才又是怎样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出他技艺高超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67120" y="424656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5640" y="299736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可以通过徒弟曹小三亲眼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睹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几个细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描写体现出来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6480" y="842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来汇报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75720" y="122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课文中有几个细节描写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90360" y="1197000"/>
            <a:ext cx="39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“刷子李”刷墙的动作描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52520" y="234936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对黑衣服黑裤子的描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6360" y="342900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对那个小白点的描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68520" y="1341360"/>
            <a:ext cx="49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“刷子李”刷墙的动作描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67120" y="3003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13372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只见师傅的手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悠然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摆来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悠然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摆去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伴着鼓点，和着琴音，每一摆刷，那长长的带浆的毛刷便在墙面啪地清脆一响，极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好听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啪啪声里，一道道浆，衔接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衣无缝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刷过去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墙面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好比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平平整整打开一面雪白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屏障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09600" y="604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可刷子李一举刷子，就像没有蘸浆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但刷子划过屋顶，立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匀匀实实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一道白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白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透亮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，白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清爽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03640" y="333360"/>
            <a:ext cx="554508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冯骥才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(1942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～    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，当代作家。生于天津。从小喜爱美术、文学、音乐和球类活动。作品：长篇小说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神灯前传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，中篇小说集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铺花的歧路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神鞭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。短篇小说集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雕花烟斗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雕花烟斗</a:t>
            </a:r>
            <a:r>
              <a:rPr b="1" lang="en-US" sz="3200" spc="-1" strike="noStrike">
                <a:solidFill>
                  <a:srgbClr val="001a1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1a1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07960" cy="76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797200" cy="316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1884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39400" y="549360"/>
            <a:ext cx="536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这一段话描写了“刷子李”刷墙的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景，他的动作是那样的娴熟，给人的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觉是他正在进行一项艺术创作，艺术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演。反映了“刷子李”高超的技艺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7480" y="1916280"/>
            <a:ext cx="42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对“刷子李”的黑衣黑裤的描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4304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3284640"/>
            <a:ext cx="7993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刷子李”穿上这身黑，他是在以这种特殊的方式向世人展示自己的高超技艺，流露出对自己手艺的绝对自信和自豪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189000"/>
            <a:ext cx="88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干活前，他把随身带的一个四四方方的小包袱打开，果然一身黑衣黑裤，一双黑布鞋。穿上这身黑，就好像跟地上一桶白浆较上了劲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989000"/>
            <a:ext cx="876312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宋体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这句话写的是曹小三亲眼见到师傅真有如此高超的技艺，他的心震撼了。对师傅佩服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五体投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0464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真觉得这身黑色的衣服有种神圣不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犯的威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997280" y="0"/>
            <a:ext cx="536220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刷子李刷完最后一面墙坐下来，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三给他点烟时，竟然看见刷子李裤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出现一个小白点，黄豆大小。黑中白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白中黑更扎眼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25800" y="4556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773360"/>
            <a:ext cx="876312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宋体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3600" y="620640"/>
            <a:ext cx="4959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话写正当徒弟对师傅佩服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五体投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却突然发现“刷子李”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上有一个白点，师傅那如山般的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轰然倒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（难道师傅的名气有诈？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4144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对那个小白点的描写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44080" y="189000"/>
            <a:ext cx="169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刷子李手指捏着裤子轻轻往上一提，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白点即刻没了，再一松手，白点又出现，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了！他凑上脸用神再瞧，那白点原是一个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洞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0200" y="2997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哦！那小白点不是白浆，原来是一个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洞！是师傅刚才抽烟时不小心烧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457200" y="609480"/>
            <a:ext cx="78487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楷体_GB2312"/>
              </a:rPr>
              <a:t>每一面墙刷完，他搜索一遍，居然连一个芝麻大小的粉点也没发现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Group 57"/>
          <p:cNvGrpSpPr/>
          <p:nvPr/>
        </p:nvGrpSpPr>
        <p:grpSpPr>
          <a:xfrm>
            <a:off x="0" y="3048120"/>
            <a:ext cx="8686800" cy="3506400"/>
            <a:chOff x="0" y="3048120"/>
            <a:chExt cx="8686800" cy="3506400"/>
          </a:xfrm>
        </p:grpSpPr>
        <p:sp>
          <p:nvSpPr>
            <p:cNvPr id="263" name="Line 36"/>
            <p:cNvSpPr/>
            <p:nvPr/>
          </p:nvSpPr>
          <p:spPr>
            <a:xfrm>
              <a:off x="2057400" y="5181480"/>
              <a:ext cx="7632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Line 37"/>
            <p:cNvSpPr/>
            <p:nvPr/>
          </p:nvSpPr>
          <p:spPr>
            <a:xfrm>
              <a:off x="762120" y="5943600"/>
              <a:ext cx="7924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0" y="6033960"/>
              <a:ext cx="1981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6" name="Group 39"/>
            <p:cNvGrpSpPr/>
            <p:nvPr/>
          </p:nvGrpSpPr>
          <p:grpSpPr>
            <a:xfrm>
              <a:off x="2819520" y="3048120"/>
              <a:ext cx="1295280" cy="1295280"/>
              <a:chOff x="2819520" y="3048120"/>
              <a:chExt cx="1295280" cy="1295280"/>
            </a:xfrm>
          </p:grpSpPr>
          <p:pic>
            <p:nvPicPr>
              <p:cNvPr id="267" name="Picture 40" descr="无标题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3048120"/>
                <a:ext cx="12952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1"/>
              <p:cNvSpPr/>
              <p:nvPr/>
            </p:nvSpPr>
            <p:spPr>
              <a:xfrm>
                <a:off x="3086280" y="335268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牛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Line 42"/>
            <p:cNvSpPr/>
            <p:nvPr/>
          </p:nvSpPr>
          <p:spPr>
            <a:xfrm flipV="1">
              <a:off x="914400" y="579096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43"/>
            <p:cNvSpPr/>
            <p:nvPr/>
          </p:nvSpPr>
          <p:spPr>
            <a:xfrm>
              <a:off x="990720" y="579132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44"/>
            <p:cNvSpPr/>
            <p:nvPr/>
          </p:nvSpPr>
          <p:spPr>
            <a:xfrm flipV="1">
              <a:off x="1143000" y="5714640"/>
              <a:ext cx="7632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45"/>
            <p:cNvSpPr/>
            <p:nvPr/>
          </p:nvSpPr>
          <p:spPr>
            <a:xfrm>
              <a:off x="1219320" y="571500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46"/>
            <p:cNvSpPr/>
            <p:nvPr/>
          </p:nvSpPr>
          <p:spPr>
            <a:xfrm flipV="1">
              <a:off x="1371600" y="5486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47"/>
            <p:cNvSpPr/>
            <p:nvPr/>
          </p:nvSpPr>
          <p:spPr>
            <a:xfrm>
              <a:off x="1600200" y="548640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48"/>
            <p:cNvSpPr/>
            <p:nvPr/>
          </p:nvSpPr>
          <p:spPr>
            <a:xfrm flipV="1">
              <a:off x="1676520" y="5181480"/>
              <a:ext cx="3808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49"/>
            <p:cNvSpPr/>
            <p:nvPr/>
          </p:nvSpPr>
          <p:spPr>
            <a:xfrm flipV="1">
              <a:off x="2133720" y="4952520"/>
              <a:ext cx="38088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50"/>
            <p:cNvSpPr/>
            <p:nvPr/>
          </p:nvSpPr>
          <p:spPr>
            <a:xfrm>
              <a:off x="2514600" y="4952880"/>
              <a:ext cx="7632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51"/>
            <p:cNvSpPr/>
            <p:nvPr/>
          </p:nvSpPr>
          <p:spPr>
            <a:xfrm flipV="1">
              <a:off x="2590920" y="4572000"/>
              <a:ext cx="1522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52"/>
            <p:cNvSpPr/>
            <p:nvPr/>
          </p:nvSpPr>
          <p:spPr>
            <a:xfrm flipV="1">
              <a:off x="2743200" y="4038480"/>
              <a:ext cx="4572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80880" y="685800"/>
            <a:ext cx="80773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楷体_GB2312"/>
              </a:rPr>
              <a:t>当刷子李刷完最后一面墙坐下来，曹小三给他点烟时，竟然看见刷子李裤子上出现了一个白点，黄豆大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Group 99"/>
          <p:cNvGrpSpPr/>
          <p:nvPr/>
        </p:nvGrpSpPr>
        <p:grpSpPr>
          <a:xfrm>
            <a:off x="0" y="3048120"/>
            <a:ext cx="8686800" cy="3506400"/>
            <a:chOff x="0" y="3048120"/>
            <a:chExt cx="8686800" cy="3506400"/>
          </a:xfrm>
        </p:grpSpPr>
        <p:sp>
          <p:nvSpPr>
            <p:cNvPr id="282" name="Line 100"/>
            <p:cNvSpPr/>
            <p:nvPr/>
          </p:nvSpPr>
          <p:spPr>
            <a:xfrm>
              <a:off x="2057400" y="5181480"/>
              <a:ext cx="7632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101"/>
            <p:cNvSpPr/>
            <p:nvPr/>
          </p:nvSpPr>
          <p:spPr>
            <a:xfrm>
              <a:off x="762120" y="5943600"/>
              <a:ext cx="7924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Text Box 102"/>
            <p:cNvSpPr/>
            <p:nvPr/>
          </p:nvSpPr>
          <p:spPr>
            <a:xfrm>
              <a:off x="0" y="6033960"/>
              <a:ext cx="1981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Group 103"/>
            <p:cNvGrpSpPr/>
            <p:nvPr/>
          </p:nvGrpSpPr>
          <p:grpSpPr>
            <a:xfrm>
              <a:off x="2819520" y="3048120"/>
              <a:ext cx="1295280" cy="1295280"/>
              <a:chOff x="2819520" y="3048120"/>
              <a:chExt cx="1295280" cy="1295280"/>
            </a:xfrm>
          </p:grpSpPr>
          <p:pic>
            <p:nvPicPr>
              <p:cNvPr id="286" name="Picture 104" descr="无标题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3048120"/>
                <a:ext cx="12952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Text Box 105"/>
              <p:cNvSpPr/>
              <p:nvPr/>
            </p:nvSpPr>
            <p:spPr>
              <a:xfrm>
                <a:off x="3086280" y="335268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牛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Line 106"/>
            <p:cNvSpPr/>
            <p:nvPr/>
          </p:nvSpPr>
          <p:spPr>
            <a:xfrm flipV="1">
              <a:off x="914400" y="579096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107"/>
            <p:cNvSpPr/>
            <p:nvPr/>
          </p:nvSpPr>
          <p:spPr>
            <a:xfrm>
              <a:off x="990720" y="579132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108"/>
            <p:cNvSpPr/>
            <p:nvPr/>
          </p:nvSpPr>
          <p:spPr>
            <a:xfrm flipV="1">
              <a:off x="1143000" y="5714640"/>
              <a:ext cx="7632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Line 109"/>
            <p:cNvSpPr/>
            <p:nvPr/>
          </p:nvSpPr>
          <p:spPr>
            <a:xfrm>
              <a:off x="1219320" y="571500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110"/>
            <p:cNvSpPr/>
            <p:nvPr/>
          </p:nvSpPr>
          <p:spPr>
            <a:xfrm flipV="1">
              <a:off x="1371600" y="5486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Line 111"/>
            <p:cNvSpPr/>
            <p:nvPr/>
          </p:nvSpPr>
          <p:spPr>
            <a:xfrm>
              <a:off x="1600200" y="548640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12"/>
            <p:cNvSpPr/>
            <p:nvPr/>
          </p:nvSpPr>
          <p:spPr>
            <a:xfrm flipV="1">
              <a:off x="1676520" y="5181480"/>
              <a:ext cx="3808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13"/>
            <p:cNvSpPr/>
            <p:nvPr/>
          </p:nvSpPr>
          <p:spPr>
            <a:xfrm flipV="1">
              <a:off x="2133720" y="4952520"/>
              <a:ext cx="38088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114"/>
            <p:cNvSpPr/>
            <p:nvPr/>
          </p:nvSpPr>
          <p:spPr>
            <a:xfrm>
              <a:off x="2514600" y="4952880"/>
              <a:ext cx="7632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15"/>
            <p:cNvSpPr/>
            <p:nvPr/>
          </p:nvSpPr>
          <p:spPr>
            <a:xfrm flipV="1">
              <a:off x="2590920" y="4572000"/>
              <a:ext cx="1522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16"/>
            <p:cNvSpPr/>
            <p:nvPr/>
          </p:nvSpPr>
          <p:spPr>
            <a:xfrm flipV="1">
              <a:off x="2743200" y="4038480"/>
              <a:ext cx="4572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3" descr="205044_832454670_fepguxfd"/>
          <p:cNvPicPr/>
          <p:nvPr/>
        </p:nvPicPr>
        <p:blipFill>
          <a:blip r:embed="rId1"/>
          <a:stretch/>
        </p:blipFill>
        <p:spPr>
          <a:xfrm>
            <a:off x="3059280" y="0"/>
            <a:ext cx="4876560" cy="990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924360" y="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Arial"/>
                <a:ea typeface="华文新魏"/>
              </a:rPr>
              <a:t>俗世奇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484360" y="1216080"/>
            <a:ext cx="6335640" cy="14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6a03"/>
                </a:solidFill>
                <a:latin typeface="Arial"/>
                <a:ea typeface="楷体_GB2312"/>
              </a:rPr>
              <a:t>      </a:t>
            </a:r>
            <a:r>
              <a:rPr b="1" lang="en-US" sz="3500" spc="-1" strike="noStrike">
                <a:solidFill>
                  <a:srgbClr val="663300"/>
                </a:solidFill>
                <a:latin typeface="Arial"/>
                <a:ea typeface="楷体_GB2312"/>
              </a:rPr>
              <a:t>《</a:t>
            </a:r>
            <a:r>
              <a:rPr b="1" lang="zh-CN" sz="3500" spc="-1" strike="noStrike">
                <a:solidFill>
                  <a:srgbClr val="663300"/>
                </a:solidFill>
                <a:latin typeface="Arial"/>
                <a:ea typeface="楷体_GB2312"/>
              </a:rPr>
              <a:t>俗世奇人</a:t>
            </a:r>
            <a:r>
              <a:rPr b="1" lang="en-US" sz="3500" spc="-1" strike="noStrike">
                <a:solidFill>
                  <a:srgbClr val="663300"/>
                </a:solidFill>
                <a:latin typeface="Arial"/>
                <a:ea typeface="楷体_GB2312"/>
              </a:rPr>
              <a:t>》</a:t>
            </a:r>
            <a:r>
              <a:rPr b="1" lang="zh-CN" sz="3500" spc="-1" strike="noStrike">
                <a:solidFill>
                  <a:srgbClr val="663300"/>
                </a:solidFill>
                <a:latin typeface="Arial"/>
                <a:ea typeface="楷体_GB2312"/>
              </a:rPr>
              <a:t>是著名作家冯骥才创作的同名小说集。书中所讲之事，多以清末民初天津卫市井生活为背景，每篇专讲一个传奇人物 的 生平事迹，素材收集于流传津门的民间传说。 人物之奇特， 闻所未闻；故事之精妙，叹为观止。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2" descr="俗世奇人"/>
          <p:cNvPicPr/>
          <p:nvPr/>
        </p:nvPicPr>
        <p:blipFill>
          <a:blip r:embed="rId2"/>
          <a:stretch/>
        </p:blipFill>
        <p:spPr>
          <a:xfrm>
            <a:off x="0" y="836640"/>
            <a:ext cx="218772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71"/>
          <p:cNvGrpSpPr/>
          <p:nvPr/>
        </p:nvGrpSpPr>
        <p:grpSpPr>
          <a:xfrm>
            <a:off x="0" y="3048120"/>
            <a:ext cx="8686800" cy="3506400"/>
            <a:chOff x="0" y="3048120"/>
            <a:chExt cx="8686800" cy="3506400"/>
          </a:xfrm>
        </p:grpSpPr>
        <p:sp>
          <p:nvSpPr>
            <p:cNvPr id="300" name="Line 19"/>
            <p:cNvSpPr/>
            <p:nvPr/>
          </p:nvSpPr>
          <p:spPr>
            <a:xfrm>
              <a:off x="2057400" y="5181480"/>
              <a:ext cx="7632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9"/>
            <p:cNvSpPr/>
            <p:nvPr/>
          </p:nvSpPr>
          <p:spPr>
            <a:xfrm>
              <a:off x="762120" y="5943600"/>
              <a:ext cx="7924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0" y="6033960"/>
              <a:ext cx="1981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Group 63"/>
            <p:cNvGrpSpPr/>
            <p:nvPr/>
          </p:nvGrpSpPr>
          <p:grpSpPr>
            <a:xfrm>
              <a:off x="2819520" y="3048120"/>
              <a:ext cx="1295280" cy="1295280"/>
              <a:chOff x="2819520" y="3048120"/>
              <a:chExt cx="1295280" cy="1295280"/>
            </a:xfrm>
          </p:grpSpPr>
          <p:pic>
            <p:nvPicPr>
              <p:cNvPr id="304" name="Picture 64" descr="无标题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3048120"/>
                <a:ext cx="12952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Text Box 65"/>
              <p:cNvSpPr/>
              <p:nvPr/>
            </p:nvSpPr>
            <p:spPr>
              <a:xfrm>
                <a:off x="3086280" y="335268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牛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7"/>
            <p:cNvSpPr/>
            <p:nvPr/>
          </p:nvSpPr>
          <p:spPr>
            <a:xfrm flipV="1">
              <a:off x="914400" y="579096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990720" y="579132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 flipV="1">
              <a:off x="1143000" y="5714640"/>
              <a:ext cx="7632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>
              <a:off x="1219320" y="571500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 flipV="1">
              <a:off x="1371600" y="5486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>
              <a:off x="1600200" y="548640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 flipV="1">
              <a:off x="1676520" y="5181480"/>
              <a:ext cx="3808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 flipV="1">
              <a:off x="2133720" y="4952520"/>
              <a:ext cx="38088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21"/>
            <p:cNvSpPr/>
            <p:nvPr/>
          </p:nvSpPr>
          <p:spPr>
            <a:xfrm>
              <a:off x="2514600" y="4952880"/>
              <a:ext cx="7632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2590920" y="4572000"/>
              <a:ext cx="1522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 flipV="1">
              <a:off x="2743200" y="4038480"/>
              <a:ext cx="4572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30"/>
            <p:cNvSpPr/>
            <p:nvPr/>
          </p:nvSpPr>
          <p:spPr>
            <a:xfrm>
              <a:off x="2514600" y="6019920"/>
              <a:ext cx="2133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②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8" name="Picture 29" descr="无标题"/>
            <p:cNvPicPr/>
            <p:nvPr/>
          </p:nvPicPr>
          <p:blipFill>
            <a:blip r:embed="rId2"/>
            <a:stretch/>
          </p:blipFill>
          <p:spPr>
            <a:xfrm>
              <a:off x="2971800" y="52578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66"/>
            <p:cNvSpPr/>
            <p:nvPr/>
          </p:nvSpPr>
          <p:spPr>
            <a:xfrm>
              <a:off x="3048120" y="5470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啊</a:t>
              </a: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?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70"/>
            <p:cNvSpPr/>
            <p:nvPr/>
          </p:nvSpPr>
          <p:spPr>
            <a:xfrm>
              <a:off x="3429000" y="4038480"/>
              <a:ext cx="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Text Box 72"/>
          <p:cNvSpPr/>
          <p:nvPr/>
        </p:nvSpPr>
        <p:spPr>
          <a:xfrm>
            <a:off x="380880" y="685800"/>
            <a:ext cx="80773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楷体_GB2312"/>
              </a:rPr>
              <a:t>当刷子李刷完最后一面墙坐下来，曹小三给他点烟时，竟然看见刷子李裤子上出现了一个白点，黄豆大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533520" y="457200"/>
            <a:ext cx="80010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楷体_GB2312"/>
              </a:rPr>
              <a:t>他凑上脸用神再瞧，那白点原是一个小洞！刚才抽烟时不小心烧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75"/>
          <p:cNvGrpSpPr/>
          <p:nvPr/>
        </p:nvGrpSpPr>
        <p:grpSpPr>
          <a:xfrm>
            <a:off x="0" y="3048120"/>
            <a:ext cx="8686800" cy="3506400"/>
            <a:chOff x="0" y="3048120"/>
            <a:chExt cx="8686800" cy="3506400"/>
          </a:xfrm>
        </p:grpSpPr>
        <p:sp>
          <p:nvSpPr>
            <p:cNvPr id="324" name="Line 76"/>
            <p:cNvSpPr/>
            <p:nvPr/>
          </p:nvSpPr>
          <p:spPr>
            <a:xfrm>
              <a:off x="2057400" y="5181480"/>
              <a:ext cx="7632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Line 77"/>
            <p:cNvSpPr/>
            <p:nvPr/>
          </p:nvSpPr>
          <p:spPr>
            <a:xfrm>
              <a:off x="762120" y="5943600"/>
              <a:ext cx="7924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78"/>
            <p:cNvSpPr/>
            <p:nvPr/>
          </p:nvSpPr>
          <p:spPr>
            <a:xfrm>
              <a:off x="0" y="6033960"/>
              <a:ext cx="1981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7" name="Group 79"/>
            <p:cNvGrpSpPr/>
            <p:nvPr/>
          </p:nvGrpSpPr>
          <p:grpSpPr>
            <a:xfrm>
              <a:off x="2819520" y="3048120"/>
              <a:ext cx="1295280" cy="1295280"/>
              <a:chOff x="2819520" y="3048120"/>
              <a:chExt cx="1295280" cy="1295280"/>
            </a:xfrm>
          </p:grpSpPr>
          <p:pic>
            <p:nvPicPr>
              <p:cNvPr id="328" name="Picture 80" descr="无标题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3048120"/>
                <a:ext cx="129528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Text Box 81"/>
              <p:cNvSpPr/>
              <p:nvPr/>
            </p:nvSpPr>
            <p:spPr>
              <a:xfrm>
                <a:off x="3086280" y="335268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牛！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82"/>
            <p:cNvSpPr/>
            <p:nvPr/>
          </p:nvSpPr>
          <p:spPr>
            <a:xfrm flipV="1">
              <a:off x="914400" y="579096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83"/>
            <p:cNvSpPr/>
            <p:nvPr/>
          </p:nvSpPr>
          <p:spPr>
            <a:xfrm>
              <a:off x="990720" y="579132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84"/>
            <p:cNvSpPr/>
            <p:nvPr/>
          </p:nvSpPr>
          <p:spPr>
            <a:xfrm flipV="1">
              <a:off x="1143000" y="5714640"/>
              <a:ext cx="7632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85"/>
            <p:cNvSpPr/>
            <p:nvPr/>
          </p:nvSpPr>
          <p:spPr>
            <a:xfrm>
              <a:off x="1219320" y="5715000"/>
              <a:ext cx="1522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Line 86"/>
            <p:cNvSpPr/>
            <p:nvPr/>
          </p:nvSpPr>
          <p:spPr>
            <a:xfrm flipV="1">
              <a:off x="1371600" y="5486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87"/>
            <p:cNvSpPr/>
            <p:nvPr/>
          </p:nvSpPr>
          <p:spPr>
            <a:xfrm>
              <a:off x="1600200" y="5486400"/>
              <a:ext cx="763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88"/>
            <p:cNvSpPr/>
            <p:nvPr/>
          </p:nvSpPr>
          <p:spPr>
            <a:xfrm flipV="1">
              <a:off x="1676520" y="5181480"/>
              <a:ext cx="3808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Line 89"/>
            <p:cNvSpPr/>
            <p:nvPr/>
          </p:nvSpPr>
          <p:spPr>
            <a:xfrm flipV="1">
              <a:off x="2133720" y="4952520"/>
              <a:ext cx="38088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Line 90"/>
            <p:cNvSpPr/>
            <p:nvPr/>
          </p:nvSpPr>
          <p:spPr>
            <a:xfrm>
              <a:off x="2514600" y="4952880"/>
              <a:ext cx="7632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91"/>
            <p:cNvSpPr/>
            <p:nvPr/>
          </p:nvSpPr>
          <p:spPr>
            <a:xfrm flipV="1">
              <a:off x="2590920" y="4572000"/>
              <a:ext cx="15228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92"/>
            <p:cNvSpPr/>
            <p:nvPr/>
          </p:nvSpPr>
          <p:spPr>
            <a:xfrm flipV="1">
              <a:off x="2743200" y="4038480"/>
              <a:ext cx="4572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93"/>
            <p:cNvSpPr/>
            <p:nvPr/>
          </p:nvSpPr>
          <p:spPr>
            <a:xfrm>
              <a:off x="2514600" y="6019920"/>
              <a:ext cx="2133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②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2" name="Picture 94" descr="无标题"/>
            <p:cNvPicPr/>
            <p:nvPr/>
          </p:nvPicPr>
          <p:blipFill>
            <a:blip r:embed="rId2"/>
            <a:stretch/>
          </p:blipFill>
          <p:spPr>
            <a:xfrm>
              <a:off x="2971800" y="52578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95"/>
            <p:cNvSpPr/>
            <p:nvPr/>
          </p:nvSpPr>
          <p:spPr>
            <a:xfrm>
              <a:off x="3048120" y="5470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啊</a:t>
              </a: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?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Line 96"/>
            <p:cNvSpPr/>
            <p:nvPr/>
          </p:nvSpPr>
          <p:spPr>
            <a:xfrm>
              <a:off x="3429000" y="4038480"/>
              <a:ext cx="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533520" y="457200"/>
            <a:ext cx="800100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楷体_GB2312"/>
              </a:rPr>
              <a:t>他凑上脸用神再瞧，那白点原是一个小洞！刚才抽烟时不小心烧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Group 74"/>
          <p:cNvGrpSpPr/>
          <p:nvPr/>
        </p:nvGrpSpPr>
        <p:grpSpPr>
          <a:xfrm>
            <a:off x="0" y="2057400"/>
            <a:ext cx="8686800" cy="4497120"/>
            <a:chOff x="0" y="2057400"/>
            <a:chExt cx="8686800" cy="4497120"/>
          </a:xfrm>
        </p:grpSpPr>
        <p:grpSp>
          <p:nvGrpSpPr>
            <p:cNvPr id="347" name="Group 44"/>
            <p:cNvGrpSpPr/>
            <p:nvPr/>
          </p:nvGrpSpPr>
          <p:grpSpPr>
            <a:xfrm>
              <a:off x="0" y="3048120"/>
              <a:ext cx="8686800" cy="3506400"/>
              <a:chOff x="0" y="3048120"/>
              <a:chExt cx="8686800" cy="3506400"/>
            </a:xfrm>
          </p:grpSpPr>
          <p:sp>
            <p:nvSpPr>
              <p:cNvPr id="348" name="Line 45"/>
              <p:cNvSpPr/>
              <p:nvPr/>
            </p:nvSpPr>
            <p:spPr>
              <a:xfrm>
                <a:off x="2057400" y="5181480"/>
                <a:ext cx="7632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Line 46"/>
              <p:cNvSpPr/>
              <p:nvPr/>
            </p:nvSpPr>
            <p:spPr>
              <a:xfrm>
                <a:off x="762120" y="5943600"/>
                <a:ext cx="7924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Text Box 47"/>
              <p:cNvSpPr/>
              <p:nvPr/>
            </p:nvSpPr>
            <p:spPr>
              <a:xfrm>
                <a:off x="0" y="6033960"/>
                <a:ext cx="1981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出乎意料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宋体"/>
                  </a:rPr>
                  <a:t>①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1" name="Group 48"/>
              <p:cNvGrpSpPr/>
              <p:nvPr/>
            </p:nvGrpSpPr>
            <p:grpSpPr>
              <a:xfrm>
                <a:off x="2819520" y="3048120"/>
                <a:ext cx="1295280" cy="1295280"/>
                <a:chOff x="2819520" y="3048120"/>
                <a:chExt cx="1295280" cy="1295280"/>
              </a:xfrm>
            </p:grpSpPr>
            <p:pic>
              <p:nvPicPr>
                <p:cNvPr id="352" name="Picture 49" descr="无标题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19520" y="3048120"/>
                  <a:ext cx="129528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Text Box 50"/>
                <p:cNvSpPr/>
                <p:nvPr/>
              </p:nvSpPr>
              <p:spPr>
                <a:xfrm>
                  <a:off x="3086280" y="335268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993300"/>
                      </a:solidFill>
                      <a:latin typeface="Arial"/>
                      <a:ea typeface="楷体_GB2312"/>
                    </a:rPr>
                    <a:t>牛！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51"/>
              <p:cNvSpPr/>
              <p:nvPr/>
            </p:nvSpPr>
            <p:spPr>
              <a:xfrm flipV="1">
                <a:off x="914400" y="5790960"/>
                <a:ext cx="7632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Line 52"/>
              <p:cNvSpPr/>
              <p:nvPr/>
            </p:nvSpPr>
            <p:spPr>
              <a:xfrm>
                <a:off x="990720" y="5791320"/>
                <a:ext cx="15228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Line 53"/>
              <p:cNvSpPr/>
              <p:nvPr/>
            </p:nvSpPr>
            <p:spPr>
              <a:xfrm flipV="1">
                <a:off x="1143000" y="5714640"/>
                <a:ext cx="76320" cy="228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Line 54"/>
              <p:cNvSpPr/>
              <p:nvPr/>
            </p:nvSpPr>
            <p:spPr>
              <a:xfrm>
                <a:off x="1219320" y="5715000"/>
                <a:ext cx="15228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Line 55"/>
              <p:cNvSpPr/>
              <p:nvPr/>
            </p:nvSpPr>
            <p:spPr>
              <a:xfrm flipV="1">
                <a:off x="1371600" y="5486400"/>
                <a:ext cx="228600" cy="380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Line 56"/>
              <p:cNvSpPr/>
              <p:nvPr/>
            </p:nvSpPr>
            <p:spPr>
              <a:xfrm>
                <a:off x="1600200" y="5486400"/>
                <a:ext cx="7632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Line 57"/>
              <p:cNvSpPr/>
              <p:nvPr/>
            </p:nvSpPr>
            <p:spPr>
              <a:xfrm flipV="1">
                <a:off x="1676520" y="5181480"/>
                <a:ext cx="38088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Line 58"/>
              <p:cNvSpPr/>
              <p:nvPr/>
            </p:nvSpPr>
            <p:spPr>
              <a:xfrm flipV="1">
                <a:off x="2133720" y="4952520"/>
                <a:ext cx="38088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Line 59"/>
              <p:cNvSpPr/>
              <p:nvPr/>
            </p:nvSpPr>
            <p:spPr>
              <a:xfrm>
                <a:off x="2514600" y="4952880"/>
                <a:ext cx="76320" cy="7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Line 60"/>
              <p:cNvSpPr/>
              <p:nvPr/>
            </p:nvSpPr>
            <p:spPr>
              <a:xfrm flipV="1">
                <a:off x="2590920" y="4572000"/>
                <a:ext cx="15228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Line 61"/>
              <p:cNvSpPr/>
              <p:nvPr/>
            </p:nvSpPr>
            <p:spPr>
              <a:xfrm flipV="1">
                <a:off x="2743200" y="4038480"/>
                <a:ext cx="457200" cy="533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Text Box 62"/>
              <p:cNvSpPr/>
              <p:nvPr/>
            </p:nvSpPr>
            <p:spPr>
              <a:xfrm>
                <a:off x="2514600" y="6019920"/>
                <a:ext cx="21337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出乎意料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6" name="Picture 63" descr="无标题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52578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64"/>
              <p:cNvSpPr/>
              <p:nvPr/>
            </p:nvSpPr>
            <p:spPr>
              <a:xfrm>
                <a:off x="3048120" y="54705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啊</a:t>
                </a: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?!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Line 65"/>
              <p:cNvSpPr/>
              <p:nvPr/>
            </p:nvSpPr>
            <p:spPr>
              <a:xfrm>
                <a:off x="3429000" y="4038480"/>
                <a:ext cx="0" cy="13716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67"/>
            <p:cNvSpPr/>
            <p:nvPr/>
          </p:nvSpPr>
          <p:spPr>
            <a:xfrm flipV="1">
              <a:off x="3733920" y="4495680"/>
              <a:ext cx="1066680" cy="9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68"/>
            <p:cNvSpPr/>
            <p:nvPr/>
          </p:nvSpPr>
          <p:spPr>
            <a:xfrm>
              <a:off x="4800600" y="4495680"/>
              <a:ext cx="15228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69"/>
            <p:cNvSpPr/>
            <p:nvPr/>
          </p:nvSpPr>
          <p:spPr>
            <a:xfrm flipV="1">
              <a:off x="4952880" y="3047760"/>
              <a:ext cx="190512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2" name="Picture 70" descr="无标题"/>
            <p:cNvPicPr/>
            <p:nvPr/>
          </p:nvPicPr>
          <p:blipFill>
            <a:blip r:embed="rId3"/>
            <a:stretch/>
          </p:blipFill>
          <p:spPr>
            <a:xfrm>
              <a:off x="6553080" y="2057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72"/>
            <p:cNvSpPr/>
            <p:nvPr/>
          </p:nvSpPr>
          <p:spPr>
            <a:xfrm>
              <a:off x="6324480" y="6033960"/>
              <a:ext cx="2133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③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Text Box 73"/>
            <p:cNvSpPr/>
            <p:nvPr/>
          </p:nvSpPr>
          <p:spPr>
            <a:xfrm>
              <a:off x="6705720" y="24382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真牛</a:t>
              </a:r>
              <a:r>
                <a:rPr b="1" lang="en-US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!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685800" y="0"/>
            <a:ext cx="76960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当曹小三在师傅的黑衣服上搜索不到一个粉点时，心想：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685800" y="990720"/>
            <a:ext cx="784872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当曹小三在师傅裤子上发现一个黄豆大小的白点时，心想：</a:t>
            </a:r>
            <a:r>
              <a:rPr b="1" lang="zh-CN" sz="2800" spc="-1" strike="noStrike">
                <a:solidFill>
                  <a:srgbClr val="b76a03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685800" y="2057400"/>
            <a:ext cx="76960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楷体_GB2312"/>
              </a:rPr>
              <a:t>当曹小三明白那白点原是师傅抽烟时烧的小洞时，心想：</a:t>
            </a:r>
            <a:r>
              <a:rPr b="1" lang="zh-CN" sz="2800" spc="-1" strike="noStrike">
                <a:solidFill>
                  <a:srgbClr val="b76a03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179"/>
          <p:cNvGrpSpPr/>
          <p:nvPr/>
        </p:nvGrpSpPr>
        <p:grpSpPr>
          <a:xfrm>
            <a:off x="380880" y="2897280"/>
            <a:ext cx="8686800" cy="3886560"/>
            <a:chOff x="380880" y="2897280"/>
            <a:chExt cx="8686800" cy="3886560"/>
          </a:xfrm>
        </p:grpSpPr>
        <p:grpSp>
          <p:nvGrpSpPr>
            <p:cNvPr id="379" name="Group 180"/>
            <p:cNvGrpSpPr/>
            <p:nvPr/>
          </p:nvGrpSpPr>
          <p:grpSpPr>
            <a:xfrm>
              <a:off x="380880" y="3735360"/>
              <a:ext cx="8686800" cy="3048120"/>
              <a:chOff x="380880" y="3735360"/>
              <a:chExt cx="8686800" cy="3048120"/>
            </a:xfrm>
          </p:grpSpPr>
          <p:sp>
            <p:nvSpPr>
              <p:cNvPr id="380" name="Line 181"/>
              <p:cNvSpPr/>
              <p:nvPr/>
            </p:nvSpPr>
            <p:spPr>
              <a:xfrm>
                <a:off x="2438280" y="5540040"/>
                <a:ext cx="76320" cy="128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Line 182"/>
              <p:cNvSpPr/>
              <p:nvPr/>
            </p:nvSpPr>
            <p:spPr>
              <a:xfrm>
                <a:off x="1143000" y="6184800"/>
                <a:ext cx="7924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Text Box 183"/>
              <p:cNvSpPr/>
              <p:nvPr/>
            </p:nvSpPr>
            <p:spPr>
              <a:xfrm>
                <a:off x="380880" y="6262920"/>
                <a:ext cx="1981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出乎意料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宋体"/>
                  </a:rPr>
                  <a:t>①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3" name="Group 184"/>
              <p:cNvGrpSpPr/>
              <p:nvPr/>
            </p:nvGrpSpPr>
            <p:grpSpPr>
              <a:xfrm>
                <a:off x="3200400" y="3735360"/>
                <a:ext cx="1295280" cy="1095840"/>
                <a:chOff x="3200400" y="3735360"/>
                <a:chExt cx="1295280" cy="1095840"/>
              </a:xfrm>
            </p:grpSpPr>
            <p:pic>
              <p:nvPicPr>
                <p:cNvPr id="384" name="Picture 185" descr="无标题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00400" y="3735360"/>
                  <a:ext cx="1295280" cy="109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5" name="Text Box 186"/>
                <p:cNvSpPr/>
                <p:nvPr/>
              </p:nvSpPr>
              <p:spPr>
                <a:xfrm>
                  <a:off x="3467160" y="3992760"/>
                  <a:ext cx="990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993300"/>
                      </a:solidFill>
                      <a:latin typeface="Arial"/>
                      <a:ea typeface="楷体_GB2312"/>
                    </a:rPr>
                    <a:t>牛！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Line 187"/>
              <p:cNvSpPr/>
              <p:nvPr/>
            </p:nvSpPr>
            <p:spPr>
              <a:xfrm flipV="1">
                <a:off x="1295280" y="6055560"/>
                <a:ext cx="76320" cy="128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Line 188"/>
              <p:cNvSpPr/>
              <p:nvPr/>
            </p:nvSpPr>
            <p:spPr>
              <a:xfrm>
                <a:off x="1371600" y="6055920"/>
                <a:ext cx="152280" cy="128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Line 189"/>
              <p:cNvSpPr/>
              <p:nvPr/>
            </p:nvSpPr>
            <p:spPr>
              <a:xfrm flipV="1">
                <a:off x="1523880" y="5991120"/>
                <a:ext cx="76320" cy="19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Line 190"/>
              <p:cNvSpPr/>
              <p:nvPr/>
            </p:nvSpPr>
            <p:spPr>
              <a:xfrm>
                <a:off x="1600200" y="5991480"/>
                <a:ext cx="152280" cy="128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191"/>
              <p:cNvSpPr/>
              <p:nvPr/>
            </p:nvSpPr>
            <p:spPr>
              <a:xfrm flipV="1">
                <a:off x="1752480" y="5797800"/>
                <a:ext cx="228600" cy="322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Line 192"/>
              <p:cNvSpPr/>
              <p:nvPr/>
            </p:nvSpPr>
            <p:spPr>
              <a:xfrm>
                <a:off x="1981080" y="5798160"/>
                <a:ext cx="76320" cy="128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Line 193"/>
              <p:cNvSpPr/>
              <p:nvPr/>
            </p:nvSpPr>
            <p:spPr>
              <a:xfrm flipV="1">
                <a:off x="2057400" y="5540040"/>
                <a:ext cx="380880" cy="386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194"/>
              <p:cNvSpPr/>
              <p:nvPr/>
            </p:nvSpPr>
            <p:spPr>
              <a:xfrm flipV="1">
                <a:off x="2514600" y="5346360"/>
                <a:ext cx="380880" cy="322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Line 195"/>
              <p:cNvSpPr/>
              <p:nvPr/>
            </p:nvSpPr>
            <p:spPr>
              <a:xfrm>
                <a:off x="2895480" y="5346720"/>
                <a:ext cx="76320" cy="64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Line 196"/>
              <p:cNvSpPr/>
              <p:nvPr/>
            </p:nvSpPr>
            <p:spPr>
              <a:xfrm flipV="1">
                <a:off x="2971800" y="5024520"/>
                <a:ext cx="152280" cy="386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Line 197"/>
              <p:cNvSpPr/>
              <p:nvPr/>
            </p:nvSpPr>
            <p:spPr>
              <a:xfrm flipV="1">
                <a:off x="3124080" y="4572720"/>
                <a:ext cx="457200" cy="451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Text Box 198"/>
              <p:cNvSpPr/>
              <p:nvPr/>
            </p:nvSpPr>
            <p:spPr>
              <a:xfrm>
                <a:off x="2895480" y="6249240"/>
                <a:ext cx="213372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出乎意料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98" name="Picture 199" descr="无标题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5604480"/>
                <a:ext cx="91440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Text Box 200"/>
              <p:cNvSpPr/>
              <p:nvPr/>
            </p:nvSpPr>
            <p:spPr>
              <a:xfrm>
                <a:off x="3429000" y="5784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啊</a:t>
                </a:r>
                <a:r>
                  <a:rPr b="1" lang="en-US" sz="20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?!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201"/>
              <p:cNvSpPr/>
              <p:nvPr/>
            </p:nvSpPr>
            <p:spPr>
              <a:xfrm>
                <a:off x="3809880" y="4573080"/>
                <a:ext cx="0" cy="1160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1" name="Line 202"/>
            <p:cNvSpPr/>
            <p:nvPr/>
          </p:nvSpPr>
          <p:spPr>
            <a:xfrm flipV="1">
              <a:off x="4114800" y="4960080"/>
              <a:ext cx="1066680" cy="838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Line 203"/>
            <p:cNvSpPr/>
            <p:nvPr/>
          </p:nvSpPr>
          <p:spPr>
            <a:xfrm>
              <a:off x="5181480" y="4960080"/>
              <a:ext cx="152280" cy="12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204"/>
            <p:cNvSpPr/>
            <p:nvPr/>
          </p:nvSpPr>
          <p:spPr>
            <a:xfrm flipV="1">
              <a:off x="5333760" y="3735360"/>
              <a:ext cx="1905120" cy="1353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4" name="Picture 205" descr="无标题"/>
            <p:cNvPicPr/>
            <p:nvPr/>
          </p:nvPicPr>
          <p:blipFill>
            <a:blip r:embed="rId3"/>
            <a:stretch/>
          </p:blipFill>
          <p:spPr>
            <a:xfrm>
              <a:off x="6933960" y="2897280"/>
              <a:ext cx="152424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206"/>
            <p:cNvSpPr/>
            <p:nvPr/>
          </p:nvSpPr>
          <p:spPr>
            <a:xfrm>
              <a:off x="6705360" y="6263280"/>
              <a:ext cx="2133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出乎意料③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207"/>
            <p:cNvSpPr/>
            <p:nvPr/>
          </p:nvSpPr>
          <p:spPr>
            <a:xfrm>
              <a:off x="7086600" y="32194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真牛</a:t>
              </a:r>
              <a:r>
                <a:rPr b="1" lang="en-US" sz="28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!!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Line 208"/>
          <p:cNvSpPr/>
          <p:nvPr/>
        </p:nvSpPr>
        <p:spPr>
          <a:xfrm>
            <a:off x="2286000" y="914400"/>
            <a:ext cx="5867280" cy="0"/>
          </a:xfrm>
          <a:prstGeom prst="line">
            <a:avLst/>
          </a:prstGeom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209"/>
          <p:cNvSpPr/>
          <p:nvPr/>
        </p:nvSpPr>
        <p:spPr>
          <a:xfrm>
            <a:off x="2286000" y="1981080"/>
            <a:ext cx="5791320" cy="0"/>
          </a:xfrm>
          <a:prstGeom prst="line">
            <a:avLst/>
          </a:prstGeom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210"/>
          <p:cNvSpPr/>
          <p:nvPr/>
        </p:nvSpPr>
        <p:spPr>
          <a:xfrm>
            <a:off x="2286000" y="2971800"/>
            <a:ext cx="5867280" cy="0"/>
          </a:xfrm>
          <a:prstGeom prst="line">
            <a:avLst/>
          </a:prstGeom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651640" y="907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25800" y="4556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46080" y="476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发怔发傻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84280" y="112536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03960" y="-33912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好好学本事吧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79640" y="1700280"/>
            <a:ext cx="110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116000" y="620640"/>
            <a:ext cx="5327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想提问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276720" y="2637000"/>
            <a:ext cx="2808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谁帮我？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03400" y="189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体会作者的写作方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71960" y="947880"/>
            <a:ext cx="154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一波三折的叙事，引人入胜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80280" y="173988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注重细节描写，塑造人物个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00800" y="2492280"/>
            <a:ext cx="103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、采用对比手法，烘托人物形象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350028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6680" y="3357720"/>
            <a:ext cx="55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（如：曹小三的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半信半疑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”和师傅艺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胆大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自信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进行对比。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7720" y="40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63080" y="1484280"/>
            <a:ext cx="281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一、根据意思写出文中的词语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比喻事物完善周密，找不出什么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病。（            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有些相信，又有些怀疑，对真假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能肯定。（            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78800" y="256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衣无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11480" y="3645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半信半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372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99480" y="620640"/>
            <a:ext cx="607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二、在括号里填入恰当的关联词语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（       ）身上有白点，（       ）白刷不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钱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他（       ）给您刷好一间屋子，屋里什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都不用放，单做着，（       ）如同升天一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美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（        ）刷子李技艺高超，（       ）曹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三很佩服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5040" y="112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只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34320" y="112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7848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53240" y="27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4504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1884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4640" y="18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布置作业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1600" y="1125360"/>
            <a:ext cx="340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用抄词本抄“词语盘点”中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3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课的词语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有感情地朗读一遍课文给家长听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、小练笔：运用本组课文中刻画人物的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ec94"/>
                </a:solidFill>
                <a:latin typeface="Times New Roman"/>
              </a:rPr>
              <a:t>法介绍你身边的一个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50920" y="5157720"/>
            <a:ext cx="338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23* 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刷子李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620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5360" y="189000"/>
            <a:ext cx="197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刷子李”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就是专干粉刷墙壁工作的一位姓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的师傅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92200" y="3219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3382920" cy="42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43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666880"/>
            <a:ext cx="876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20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54840" y="1413000"/>
            <a:ext cx="611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大作家冯骥才偏爱写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俗世奇人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那么，在他笔下的刷子李是一个怎样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奇人”呢？我们一起来了解了解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0"/>
            <a:ext cx="8774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朗读“阅读提示”，明确学习要求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1520" y="1628640"/>
            <a:ext cx="3605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熟读课文，想想“刷子李”的技艺高超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在哪儿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15240" y="2997360"/>
            <a:ext cx="72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家冯骥才又是怎样写出他技艺高超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71520" y="3789360"/>
            <a:ext cx="727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朗读文中描写精彩的语句，体会表达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效果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0920" y="5086440"/>
            <a:ext cx="95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借助拼音，读准生字，读通课文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700280"/>
            <a:ext cx="830592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刷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浆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屁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股     师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袱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    露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馅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诈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31120" y="2133720"/>
            <a:ext cx="1093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iā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6160" y="2060640"/>
            <a:ext cx="53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060640"/>
            <a:ext cx="59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17680" y="3645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6080" y="357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ià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1360" y="35002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h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04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我会拼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430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907920"/>
            <a:ext cx="83059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刷浆  屁股  师傅  包袱  透亮  清爽  衔接  搜索  威严  露馅  发怔  发傻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楷体_GB2312"/>
              </a:rPr>
              <a:t>半信半疑  天衣无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12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ec94"/>
                </a:solidFill>
                <a:latin typeface="Times New Roman"/>
              </a:rPr>
              <a:t>我会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绿色圃中小学教育网http://www.lspjy.com</dc:creator>
  <dc:description/>
  <cp:keywords>绿色圃中小学教育网http://www.lspjy.com</cp:keywords>
  <dc:language>en-US</dc:language>
  <cp:lastModifiedBy>User</cp:lastModifiedBy>
  <dcterms:modified xsi:type="dcterms:W3CDTF">2004-01-13T16:45:06Z</dcterms:modified>
  <cp:revision>209</cp:revision>
  <dc:subject/>
  <dc:title>绿色圃中小学教育网http://www.lspjy.com</dc:title>
</cp:coreProperties>
</file>