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wmf" ContentType="image/x-wmf"/>
  <Override PartName="/ppt/media/image21.jpeg" ContentType="image/jpeg"/>
  <Override PartName="/ppt/media/image16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B2C3-E9E5-4E02-94EF-D6169B8B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0DCD-165E-4DB8-8729-CFAB0FEE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6542-4E0D-481D-BC6E-DA190ED1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03E3-BA61-45D0-92B1-2B2A4D64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6CA6-F2ED-47C4-967E-95AB02F7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7B1E-B032-460E-9D9A-07F9861D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0762-DD9E-4C3C-917A-7BD57492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8D6F-DDBD-4FC6-8203-EDDBCABA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98AD-DF77-4C32-930E-6FD368B8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4E90-6580-40DE-B221-A0E9389B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27AD-7221-48AA-BF1A-F82006EB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2ABD-7398-40CB-9404-ACA3177F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3D84-D884-4B91-B3B2-BD3181BC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E4CC-6D5C-4977-AF78-845DD8A1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A5FB-BD67-4A9A-8356-E1667E03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491F-C34E-4279-9459-BBAF4C1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4B08-DB56-49FA-95F9-7217CDB0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6AFC-5629-4521-B9FF-15BF9D2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D81F-1EAC-4E48-8A27-F7218C21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6DB2-2A10-471F-BC6B-27050196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678F0-11D5-4E84-AD8F-319505B5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4FCEE-F0B2-4FA8-A5E6-BD60F211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A95A9-835C-4DA7-AC45-2348E2EE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0F57F-1AFF-489C-972E-00C5A230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E1687-F7D8-4168-A492-44B0A8AB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72AF5-BCD6-4CA6-AFA1-E8A490B0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C6C96-0D8F-484E-8564-4BB5EA02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FE1DE-8023-4544-B5E0-8F66898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1E0DC-2ED6-44F6-BD1E-6D5F81C0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1B32A-804A-481D-A9F0-7EBB49A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CCE4A1-B0CC-4E58-A7C9-63E61A3A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39302-5C8F-4E90-92FC-CE2DD704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ACF14-E973-4999-BCE6-665B5C28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739B6-70CC-4F48-876A-E426216F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0861-A64E-4D3D-B813-DF535E31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77773-4252-45D6-823A-5F4EE274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005A3-066E-4195-8DEB-2801FE5C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7E9E-6A16-494B-BF02-279178A1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3E1C7-FBBE-46B5-AF52-05E4F731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F1A17-34BF-4F77-87F2-FD4EFC9B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DD382-136D-461E-B58F-E072820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DC6E-CE23-4686-B8CB-22F1EE2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AB598-D761-4A5E-8652-A73400C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4AA64-699F-490A-BC89-6A846995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0C2D-14CB-46F2-95F3-A65ABD7B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E2DAD-1587-4A43-B30C-41A608DB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AC926-9FEC-4C48-9FB0-B8C4F5A1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19E6A-BF2F-46B8-AF20-A7702B2F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5501-279D-44C7-AA68-E1D413DF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BAB9-CB89-497C-B558-8732589A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97E3A-9816-4917-9436-0184C697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A91E-5C37-4E98-8503-4E529B16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864D-1C70-4CED-9C34-C05E1925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7364-BBB5-4ED9-BE36-120DF6C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DE7F6-39DC-48F4-AE2D-1A819EDE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685D-4DB8-41E8-9396-BE97F8E1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E3395-1D72-4699-BCDB-0C6B50C4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D1A-8A48-4478-A984-5CE19E79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A0E-4348-4C13-B7E5-8680948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EEF-5E69-41B7-B0F9-E2DD257F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467-ADF4-43E8-9629-D6F46D70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1D1-86BC-4B05-BC79-9B49181C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348-7406-4EB3-89B2-F122DE14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7ED-AFF8-4B33-A330-6279237B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5D6-012E-44D1-A7BE-D5695879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80F-AD75-4869-876C-E27078C4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F61-34EA-4EAB-BDA1-0B5151AE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9B2-6849-4EB1-85A9-536E089C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442-C64C-4684-9E50-A2868C41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5F06-6F96-4DD7-833F-73CDC3CD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DFDE-ECD2-4BE7-87CC-C7EDF92D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003E-1F24-4A60-AAF2-68BA56C4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44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27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19200" indent="-2383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5256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333440" indent="-1904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14680" indent="-190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14680" indent="-190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14680" indent="-190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7"/>
          </p:nvPr>
        </p:nvSpPr>
        <p:spPr>
          <a:xfrm>
            <a:off x="495360" y="6357960"/>
            <a:ext cx="2311200" cy="36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8"/>
          </p:nvPr>
        </p:nvSpPr>
        <p:spPr>
          <a:xfrm>
            <a:off x="3384360" y="6357960"/>
            <a:ext cx="3136680" cy="36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9"/>
          </p:nvPr>
        </p:nvSpPr>
        <p:spPr>
          <a:xfrm>
            <a:off x="7098840" y="6357960"/>
            <a:ext cx="2311560" cy="36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26D6-FF79-4765-B89A-F7DC064001F7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矩形 6" descr=""/>
          <p:cNvPicPr/>
          <p:nvPr/>
        </p:nvPicPr>
        <p:blipFill>
          <a:blip r:embed="rId2"/>
          <a:stretch/>
        </p:blipFill>
        <p:spPr>
          <a:xfrm>
            <a:off x="5735520" y="5118120"/>
            <a:ext cx="347040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dt" idx="10"/>
          </p:nvPr>
        </p:nvSpPr>
        <p:spPr>
          <a:xfrm>
            <a:off x="495360" y="625104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Num" idx="11"/>
          </p:nvPr>
        </p:nvSpPr>
        <p:spPr>
          <a:xfrm>
            <a:off x="7098840" y="62481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583B-4C8F-4D15-9E06-7436EF28AE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384" name="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385" name="未知"/>
              <p:cNvSpPr/>
              <p:nvPr/>
            </p:nvSpPr>
            <p:spPr>
              <a:xfrm>
                <a:off x="2971800" y="4197600"/>
                <a:ext cx="49564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7171560" y="4240440"/>
                <a:ext cx="216468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7740720" y="3678480"/>
                <a:ext cx="214596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未知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2"/>
          </p:nvPr>
        </p:nvSpPr>
        <p:spPr>
          <a:xfrm>
            <a:off x="3384360" y="62481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432" name="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433" name="未知"/>
              <p:cNvSpPr/>
              <p:nvPr/>
            </p:nvSpPr>
            <p:spPr>
              <a:xfrm>
                <a:off x="2971800" y="4197600"/>
                <a:ext cx="495648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未知"/>
              <p:cNvSpPr/>
              <p:nvPr/>
            </p:nvSpPr>
            <p:spPr>
              <a:xfrm>
                <a:off x="7171560" y="4240440"/>
                <a:ext cx="216468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未知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>
                <a:off x="7740720" y="3678480"/>
                <a:ext cx="214596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未知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42680" y="1736640"/>
            <a:ext cx="84200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dt" idx="13"/>
          </p:nvPr>
        </p:nvSpPr>
        <p:spPr>
          <a:xfrm>
            <a:off x="495360" y="624816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4"/>
          </p:nvPr>
        </p:nvSpPr>
        <p:spPr>
          <a:xfrm>
            <a:off x="3384360" y="625104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15"/>
          </p:nvPr>
        </p:nvSpPr>
        <p:spPr>
          <a:xfrm>
            <a:off x="7098840" y="625428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C988-C969-4597-88EB-18B1D07387E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AA0F-30D6-4EBB-A3C5-985245914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1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2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3" descr="1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8" descr="2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66760" y="274320"/>
            <a:ext cx="775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55D1-F0B0-4003-8F51-383637520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66760" y="274320"/>
            <a:ext cx="775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066760" y="1600200"/>
            <a:ext cx="775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BF0-8144-49E4-B945-617138727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rcRect l="0" t="6628" r="0" b="28544"/>
          <a:stretch/>
        </p:blipFill>
        <p:spPr>
          <a:xfrm>
            <a:off x="0" y="0"/>
            <a:ext cx="9906120" cy="42544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3265560" y="4451400"/>
            <a:ext cx="327636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85D-D49E-463F-BFFF-746E2895E6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6313-35E6-4724-ACDB-763F3CC4D9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3" descr="2.jpg"/>
          <p:cNvPicPr/>
          <p:nvPr/>
        </p:nvPicPr>
        <p:blipFill>
          <a:blip r:embed="rId1"/>
          <a:stretch/>
        </p:blipFill>
        <p:spPr>
          <a:xfrm>
            <a:off x="0" y="0"/>
            <a:ext cx="9907560" cy="68580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6" descr="3_02.png"/>
          <p:cNvPicPr/>
          <p:nvPr/>
        </p:nvPicPr>
        <p:blipFill>
          <a:blip r:embed="rId2"/>
          <a:stretch/>
        </p:blipFill>
        <p:spPr>
          <a:xfrm>
            <a:off x="2908440" y="1201680"/>
            <a:ext cx="674676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ED37-CA81-419F-9EA4-888531A939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3" descr="1.jpg"/>
          <p:cNvPicPr/>
          <p:nvPr/>
        </p:nvPicPr>
        <p:blipFill>
          <a:blip r:embed="rId1"/>
          <a:stretch/>
        </p:blipFill>
        <p:spPr>
          <a:xfrm>
            <a:off x="0" y="0"/>
            <a:ext cx="9907560" cy="6858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2_03_02.png"/>
          <p:cNvPicPr/>
          <p:nvPr/>
        </p:nvPicPr>
        <p:blipFill>
          <a:blip r:embed="rId2"/>
          <a:stretch/>
        </p:blipFill>
        <p:spPr>
          <a:xfrm>
            <a:off x="6904080" y="0"/>
            <a:ext cx="3002040" cy="359100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5" descr="2_02.png"/>
          <p:cNvPicPr/>
          <p:nvPr/>
        </p:nvPicPr>
        <p:blipFill>
          <a:blip r:embed="rId3"/>
          <a:stretch/>
        </p:blipFill>
        <p:spPr>
          <a:xfrm>
            <a:off x="0" y="4543560"/>
            <a:ext cx="4851360" cy="2314440"/>
          </a:xfrm>
          <a:prstGeom prst="rect">
            <a:avLst/>
          </a:prstGeom>
          <a:ln w="0">
            <a:noFill/>
          </a:ln>
        </p:spPr>
      </p:pic>
      <p:sp>
        <p:nvSpPr>
          <p:cNvPr id="540" name="矩形 6"/>
          <p:cNvSpPr/>
          <p:nvPr/>
        </p:nvSpPr>
        <p:spPr>
          <a:xfrm>
            <a:off x="588960" y="1201680"/>
            <a:ext cx="61293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2e04"/>
                </a:solidFill>
                <a:latin typeface="Edwardian Script ITC"/>
                <a:ea typeface="Holiday-MDJP01"/>
              </a:rPr>
              <a:t>What better way to get your feelings across than to say it with flowers ? So reach out to 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B0C3-279C-4658-9BB4-1120BE2915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4" descr="3.jpg"/>
          <p:cNvPicPr/>
          <p:nvPr/>
        </p:nvPicPr>
        <p:blipFill>
          <a:blip r:embed="rId1"/>
          <a:stretch/>
        </p:blipFill>
        <p:spPr>
          <a:xfrm>
            <a:off x="0" y="0"/>
            <a:ext cx="990756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3_03.png"/>
          <p:cNvPicPr/>
          <p:nvPr/>
        </p:nvPicPr>
        <p:blipFill>
          <a:blip r:embed="rId2"/>
          <a:stretch/>
        </p:blipFill>
        <p:spPr>
          <a:xfrm>
            <a:off x="5883120" y="601560"/>
            <a:ext cx="4023000" cy="5216760"/>
          </a:xfrm>
          <a:prstGeom prst="rect">
            <a:avLst/>
          </a:prstGeom>
          <a:ln w="0">
            <a:noFill/>
          </a:ln>
        </p:spPr>
      </p:pic>
      <p:sp>
        <p:nvSpPr>
          <p:cNvPr id="543" name="矩形 6"/>
          <p:cNvSpPr/>
          <p:nvPr/>
        </p:nvSpPr>
        <p:spPr>
          <a:xfrm>
            <a:off x="403200" y="1459080"/>
            <a:ext cx="61293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2e04"/>
                </a:solidFill>
                <a:latin typeface="Edwardian Script ITC"/>
                <a:ea typeface="Holiday-MDJP01"/>
              </a:rPr>
              <a:t>What better way to get your feelings across than to say it with flowers ? So reach out to 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BE46-AAC5-4C3C-B801-06BBABF502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C:\Users\Administrator\Desktop\hb2.jpg"/>
          <p:cNvPicPr/>
          <p:nvPr/>
        </p:nvPicPr>
        <p:blipFill>
          <a:blip r:embed="rId1"/>
          <a:stretch/>
        </p:blipFill>
        <p:spPr>
          <a:xfrm>
            <a:off x="0" y="0"/>
            <a:ext cx="9906120" cy="7467480"/>
          </a:xfrm>
          <a:prstGeom prst="rect">
            <a:avLst/>
          </a:prstGeom>
          <a:ln w="0">
            <a:noFill/>
          </a:ln>
        </p:spPr>
      </p:pic>
      <p:sp>
        <p:nvSpPr>
          <p:cNvPr id="545" name="矩形 4"/>
          <p:cNvSpPr/>
          <p:nvPr/>
        </p:nvSpPr>
        <p:spPr>
          <a:xfrm>
            <a:off x="0" y="4876920"/>
            <a:ext cx="9906120" cy="19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2A652-4A6F-47E0-BA0D-BDE404DA445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971800" cy="19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130EE-4B94-4F97-9F1F-ABE924EE901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916AE-DA81-4CB0-B3D7-5B31ED4A35A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D95E-F982-46AB-9F6A-D7CD6629126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C:\Users\Administrator\Desktop\qqhdj.jpg"/>
          <p:cNvPicPr/>
          <p:nvPr/>
        </p:nvPicPr>
        <p:blipFill>
          <a:blip r:embed="rId1"/>
          <a:stretch/>
        </p:blipFill>
        <p:spPr>
          <a:xfrm>
            <a:off x="0" y="152280"/>
            <a:ext cx="9906120" cy="6705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7E42A-9FC6-44F0-98EF-2745BE7C462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74600" y="-3240"/>
            <a:ext cx="935208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90612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6400" y="812520"/>
            <a:ext cx="5227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ave a ver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appy Birthday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36400" y="1976040"/>
            <a:ext cx="524520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ay all your dreams com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9"/>
          <p:cNvSpPr/>
          <p:nvPr/>
        </p:nvSpPr>
        <p:spPr>
          <a:xfrm>
            <a:off x="536400" y="812880"/>
            <a:ext cx="5227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ve a ver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ppy Birth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0"/>
          <p:cNvSpPr/>
          <p:nvPr/>
        </p:nvSpPr>
        <p:spPr>
          <a:xfrm>
            <a:off x="536400" y="1976400"/>
            <a:ext cx="5245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81080" indent="-181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ay all your dreams come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6400" y="1945800"/>
            <a:ext cx="5227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Georgia"/>
                <a:ea typeface="宋体"/>
              </a:rPr>
              <a:t>Happy Birthday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7"/>
          <p:cNvSpPr/>
          <p:nvPr/>
        </p:nvSpPr>
        <p:spPr>
          <a:xfrm>
            <a:off x="536400" y="812880"/>
            <a:ext cx="5227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ve a ver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ppy Birth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8"/>
          <p:cNvSpPr/>
          <p:nvPr/>
        </p:nvSpPr>
        <p:spPr>
          <a:xfrm>
            <a:off x="536400" y="1976400"/>
            <a:ext cx="5245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ay all your dreams come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257720" y="4350960"/>
            <a:ext cx="47880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Georgia"/>
                <a:ea typeface="宋体"/>
              </a:rPr>
              <a:t>Birthday Invit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7"/>
          <p:cNvSpPr/>
          <p:nvPr/>
        </p:nvSpPr>
        <p:spPr>
          <a:xfrm>
            <a:off x="4257720" y="812880"/>
            <a:ext cx="4881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 celebrate my birthday!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4270320" y="1976400"/>
            <a:ext cx="480240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refore, I would appreciate your appearance on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宋体"/>
              </a:rPr>
              <a:t>d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much. The party starts at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宋体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o’ clock and food and drinks are provide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incerely, Your (s)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宋体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0:41:11Z</dcterms:created>
  <dc:creator>pc</dc:creator>
  <dc:description/>
  <dc:language>en-US</dc:language>
  <cp:lastModifiedBy>IBM</cp:lastModifiedBy>
  <cp:lastPrinted>2001-02-14T18:30:35Z</cp:lastPrinted>
  <dcterms:modified xsi:type="dcterms:W3CDTF">2013-11-11T01:09:21Z</dcterms:modified>
  <cp:revision>27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