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projctor.wav" ContentType="audio/x-wav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2A9-BBDA-45BE-B602-5958511A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F9D-6BAD-46FB-A288-D626CC64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D94-68A4-488A-A0BC-0D304960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743-D3B9-477E-89B6-CE2CEA64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6077-92BD-4929-A5BC-763E1143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BA0-77FB-4324-93E7-4292A0CD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5146-4235-42A1-8C50-D4181622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733C-2978-458C-91E9-7A0656C9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ECE2-45FE-4F52-8313-86F2217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5F6B-D3E9-4C8F-9FA7-5AECADB2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7AD-4782-4933-9E09-D366693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1C0-E980-4CE6-950B-4609F1F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E3C0-2399-4198-A1DB-4FE6431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D349-EFD3-413A-8656-8A53B30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1C7-9D9E-403D-A4F2-2E3B117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A939-6395-407E-94C7-69CBFED5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DB86-AAF9-45B6-BCBD-834E69C9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B45-A3D8-4B6C-B2BB-DC3A39F1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BD5-105A-4F4E-9D30-A20A33E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266-7B8E-49AC-9CA2-7521364B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257-736B-41EC-811D-4A82115F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8E0-8626-44A0-9C66-3074959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3AA-0DB3-464C-8EF5-708523C3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61A-AEF8-4CCE-AB02-1D221E5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E05-6B56-4AEC-A763-9B9C58ECAA3C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7443-97A3-43C2-AB98-7F3EE3E51094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1398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语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七年级  下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38160" y="3040200"/>
            <a:ext cx="7162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方正隶二简体"/>
                <a:ea typeface="方正隶二简体"/>
              </a:rPr>
              <a:t>伤 仲 永</a:t>
            </a:r>
            <a:r>
              <a:rPr b="1" lang="en-US" sz="6000" spc="-1" strike="noStrike">
                <a:solidFill>
                  <a:srgbClr val="ff6600"/>
                </a:solidFill>
                <a:latin typeface="方正琥珀简体"/>
                <a:ea typeface="方正琥珀简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17840" y="6360480"/>
            <a:ext cx="1049400" cy="455760"/>
          </a:xfrm>
          <a:custGeom>
            <a:avLst/>
            <a:gdLst>
              <a:gd name="textAreaLeft" fmla="*/ 28440 w 1049400"/>
              <a:gd name="textAreaRight" fmla="*/ 1020960 w 104940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49712" h="21600">
                <a:moveTo>
                  <a:pt x="0" y="0"/>
                </a:moveTo>
                <a:lnTo>
                  <a:pt x="49712" y="0"/>
                </a:lnTo>
                <a:lnTo>
                  <a:pt x="49712" y="21600"/>
                </a:lnTo>
                <a:lnTo>
                  <a:pt x="0" y="21600"/>
                </a:lnTo>
                <a:close/>
              </a:path>
              <a:path fill="lightenLess" w="49712" h="21600">
                <a:moveTo>
                  <a:pt x="0" y="0"/>
                </a:moveTo>
                <a:lnTo>
                  <a:pt x="49712" y="0"/>
                </a:lnTo>
                <a:lnTo>
                  <a:pt x="48362" y="1350"/>
                </a:lnTo>
                <a:lnTo>
                  <a:pt x="1350" y="1350"/>
                </a:lnTo>
                <a:close/>
              </a:path>
              <a:path fill="darken" w="49712" h="21600">
                <a:moveTo>
                  <a:pt x="49712" y="0"/>
                </a:moveTo>
                <a:lnTo>
                  <a:pt x="49712" y="21600"/>
                </a:lnTo>
                <a:lnTo>
                  <a:pt x="48362" y="20250"/>
                </a:lnTo>
                <a:lnTo>
                  <a:pt x="48362" y="1350"/>
                </a:lnTo>
                <a:close/>
              </a:path>
              <a:path fill="darkenLess" w="49712" h="21600">
                <a:moveTo>
                  <a:pt x="497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362" y="20250"/>
                </a:lnTo>
                <a:close/>
              </a:path>
              <a:path fill="lighten" w="497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注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74960" y="6360480"/>
            <a:ext cx="1081080" cy="455760"/>
          </a:xfrm>
          <a:custGeom>
            <a:avLst/>
            <a:gdLst>
              <a:gd name="textAreaLeft" fmla="*/ 28440 w 1081080"/>
              <a:gd name="textAreaRight" fmla="*/ 1052640 w 10810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213" h="21600">
                <a:moveTo>
                  <a:pt x="0" y="0"/>
                </a:moveTo>
                <a:lnTo>
                  <a:pt x="51213" y="0"/>
                </a:lnTo>
                <a:lnTo>
                  <a:pt x="51213" y="21600"/>
                </a:lnTo>
                <a:lnTo>
                  <a:pt x="0" y="21600"/>
                </a:lnTo>
                <a:close/>
              </a:path>
              <a:path fill="lightenLess" w="51213" h="21600">
                <a:moveTo>
                  <a:pt x="0" y="0"/>
                </a:moveTo>
                <a:lnTo>
                  <a:pt x="51213" y="0"/>
                </a:lnTo>
                <a:lnTo>
                  <a:pt x="49863" y="1350"/>
                </a:lnTo>
                <a:lnTo>
                  <a:pt x="1350" y="1350"/>
                </a:lnTo>
                <a:close/>
              </a:path>
              <a:path fill="darken" w="51213" h="21600">
                <a:moveTo>
                  <a:pt x="51213" y="0"/>
                </a:moveTo>
                <a:lnTo>
                  <a:pt x="51213" y="21600"/>
                </a:lnTo>
                <a:lnTo>
                  <a:pt x="49863" y="20250"/>
                </a:lnTo>
                <a:lnTo>
                  <a:pt x="49863" y="1350"/>
                </a:lnTo>
                <a:close/>
              </a:path>
              <a:path fill="darkenLess" w="51213" h="21600">
                <a:moveTo>
                  <a:pt x="5121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863" y="20250"/>
                </a:lnTo>
                <a:close/>
              </a:path>
              <a:path fill="lighten" w="5121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正音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0880" y="6360480"/>
            <a:ext cx="1041480" cy="455760"/>
          </a:xfrm>
          <a:custGeom>
            <a:avLst/>
            <a:gdLst>
              <a:gd name="textAreaLeft" fmla="*/ 28440 w 1041480"/>
              <a:gd name="textAreaRight" fmla="*/ 1013040 w 10414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49337" h="21600">
                <a:moveTo>
                  <a:pt x="0" y="0"/>
                </a:moveTo>
                <a:lnTo>
                  <a:pt x="49337" y="0"/>
                </a:lnTo>
                <a:lnTo>
                  <a:pt x="49337" y="21600"/>
                </a:lnTo>
                <a:lnTo>
                  <a:pt x="0" y="21600"/>
                </a:lnTo>
                <a:close/>
              </a:path>
              <a:path fill="lightenLess" w="49337" h="21600">
                <a:moveTo>
                  <a:pt x="0" y="0"/>
                </a:moveTo>
                <a:lnTo>
                  <a:pt x="49337" y="0"/>
                </a:lnTo>
                <a:lnTo>
                  <a:pt x="47987" y="1350"/>
                </a:lnTo>
                <a:lnTo>
                  <a:pt x="1350" y="1350"/>
                </a:lnTo>
                <a:close/>
              </a:path>
              <a:path fill="darken" w="49337" h="21600">
                <a:moveTo>
                  <a:pt x="49337" y="0"/>
                </a:moveTo>
                <a:lnTo>
                  <a:pt x="49337" y="21600"/>
                </a:lnTo>
                <a:lnTo>
                  <a:pt x="47987" y="20250"/>
                </a:lnTo>
                <a:lnTo>
                  <a:pt x="47987" y="1350"/>
                </a:lnTo>
                <a:close/>
              </a:path>
              <a:path fill="darkenLess" w="49337" h="21600">
                <a:moveTo>
                  <a:pt x="4933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987" y="20250"/>
                </a:lnTo>
                <a:close/>
              </a:path>
              <a:path fill="lighten" w="4933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归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27600" y="6186240"/>
            <a:ext cx="1041480" cy="803880"/>
          </a:xfrm>
          <a:custGeom>
            <a:avLst/>
            <a:gdLst>
              <a:gd name="textAreaLeft" fmla="*/ 50040 w 1041480"/>
              <a:gd name="textAreaRight" fmla="*/ 991440 w 1041480"/>
              <a:gd name="textAreaTop" fmla="*/ 50040 h 803880"/>
              <a:gd name="textAreaBottom" fmla="*/ 753840 h 80388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631" y="1350"/>
                </a:lnTo>
                <a:lnTo>
                  <a:pt x="1350" y="135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631" y="20250"/>
                </a:lnTo>
                <a:lnTo>
                  <a:pt x="26631" y="135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31" y="2025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问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6360480"/>
            <a:ext cx="1094040" cy="455760"/>
          </a:xfrm>
          <a:custGeom>
            <a:avLst/>
            <a:gdLst>
              <a:gd name="textAreaLeft" fmla="*/ 28440 w 1094040"/>
              <a:gd name="textAreaRight" fmla="*/ 1065600 w 109404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826" h="21600">
                <a:moveTo>
                  <a:pt x="0" y="0"/>
                </a:moveTo>
                <a:lnTo>
                  <a:pt x="51826" y="0"/>
                </a:lnTo>
                <a:lnTo>
                  <a:pt x="51826" y="21600"/>
                </a:lnTo>
                <a:lnTo>
                  <a:pt x="0" y="21600"/>
                </a:lnTo>
                <a:close/>
              </a:path>
              <a:path fill="lightenLess" w="51826" h="21600">
                <a:moveTo>
                  <a:pt x="0" y="0"/>
                </a:moveTo>
                <a:lnTo>
                  <a:pt x="51826" y="0"/>
                </a:lnTo>
                <a:lnTo>
                  <a:pt x="50476" y="1350"/>
                </a:lnTo>
                <a:lnTo>
                  <a:pt x="1350" y="1350"/>
                </a:lnTo>
                <a:close/>
              </a:path>
              <a:path fill="darken" w="51826" h="21600">
                <a:moveTo>
                  <a:pt x="51826" y="0"/>
                </a:moveTo>
                <a:lnTo>
                  <a:pt x="51826" y="21600"/>
                </a:lnTo>
                <a:lnTo>
                  <a:pt x="50476" y="20250"/>
                </a:lnTo>
                <a:lnTo>
                  <a:pt x="50476" y="1350"/>
                </a:lnTo>
                <a:close/>
              </a:path>
              <a:path fill="darkenLess" w="51826" h="21600">
                <a:moveTo>
                  <a:pt x="518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476" y="20250"/>
                </a:lnTo>
                <a:close/>
              </a:path>
              <a:path fill="lighten" w="518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作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34160" y="6360480"/>
            <a:ext cx="1041480" cy="455760"/>
          </a:xfrm>
          <a:custGeom>
            <a:avLst/>
            <a:gdLst>
              <a:gd name="textAreaLeft" fmla="*/ 28440 w 1041480"/>
              <a:gd name="textAreaRight" fmla="*/ 1013040 w 10414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49337" h="21600">
                <a:moveTo>
                  <a:pt x="0" y="0"/>
                </a:moveTo>
                <a:lnTo>
                  <a:pt x="49337" y="0"/>
                </a:lnTo>
                <a:lnTo>
                  <a:pt x="49337" y="21600"/>
                </a:lnTo>
                <a:lnTo>
                  <a:pt x="0" y="21600"/>
                </a:lnTo>
                <a:close/>
              </a:path>
              <a:path fill="lightenLess" w="49337" h="21600">
                <a:moveTo>
                  <a:pt x="0" y="0"/>
                </a:moveTo>
                <a:lnTo>
                  <a:pt x="49337" y="0"/>
                </a:lnTo>
                <a:lnTo>
                  <a:pt x="47987" y="1350"/>
                </a:lnTo>
                <a:lnTo>
                  <a:pt x="1350" y="1350"/>
                </a:lnTo>
                <a:close/>
              </a:path>
              <a:path fill="darken" w="49337" h="21600">
                <a:moveTo>
                  <a:pt x="49337" y="0"/>
                </a:moveTo>
                <a:lnTo>
                  <a:pt x="49337" y="21600"/>
                </a:lnTo>
                <a:lnTo>
                  <a:pt x="47987" y="20250"/>
                </a:lnTo>
                <a:lnTo>
                  <a:pt x="47987" y="1350"/>
                </a:lnTo>
                <a:close/>
              </a:path>
              <a:path fill="darkenLess" w="49337" h="21600">
                <a:moveTo>
                  <a:pt x="4933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987" y="20250"/>
                </a:lnTo>
                <a:close/>
              </a:path>
              <a:path fill="lighten" w="4933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扩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6367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金溪平民方仲永，世代以种田为业。仲永长到五岁，不曾认识笔、墨、纸、砚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有一天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忽然哭着要这些东西。父亲对此感到惊异，从邻近人家借来给他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仲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当即写了四句诗，并且题上自己的名字。这首诗以赡养父母、团结同宗族的人为内容，传送给全乡的秀才观赏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6367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从此，指定物品让他作诗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立即写好，诗的文采和道理都有值得看的地方。同县的人对他感到惊奇，渐渐地请他的父亲去做客，有的人还花钱求仲永题诗。他的父亲认为这样有利可图，每天拉着仲永四处拜访同县的人，不让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学习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按注释学习加下划线的词语</a:t>
            </a:r>
            <a:br>
              <a:rPr sz="3600"/>
            </a:b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解释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琥珀简体"/>
              </a:rPr>
              <a:t>红色</a:t>
            </a: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的词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余闻之也久。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明道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中，从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先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还家，于舅家见之，十二三矣。令作诗，不能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称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前时之闻。又七年，还自扬州，复到舅家问焉。曰：“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泯然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众人矣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。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0"/>
            <a:ext cx="2950920" cy="1628640"/>
          </a:xfrm>
          <a:prstGeom prst="wedgeRoundRectCallout">
            <a:avLst>
              <a:gd name="adj1" fmla="val 9925"/>
              <a:gd name="adj2" fmla="val 8333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对已去世的人的敬称。“先人”在这里指“先父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395280" y="5229360"/>
            <a:ext cx="3633840" cy="1008000"/>
          </a:xfrm>
          <a:prstGeom prst="wedgeRoundRectCallout">
            <a:avLst>
              <a:gd name="adj1" fmla="val 41486"/>
              <a:gd name="adj2" fmla="val -8102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完全。指原先的特点完全消失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4724280"/>
            <a:ext cx="1600200" cy="649440"/>
          </a:xfrm>
          <a:prstGeom prst="wedgeRoundRectCallout">
            <a:avLst>
              <a:gd name="adj1" fmla="val -166666"/>
              <a:gd name="adj2" fmla="val -19400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相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6367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听到这件事很久了。明道年间，我随先父回到家乡，在舅舅家里见到他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已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十二三岁了。让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作诗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写出来的诗已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能与从前的名声相称。又过了七年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从扬州回来，再次到舅舅家，问起方仲永的情况，回答说：“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才能完全消失，成为普通人了。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2560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6367"/>
                </a:solidFill>
                <a:latin typeface="Arial"/>
                <a:ea typeface="方正琥珀简体"/>
              </a:rPr>
              <a:t>按注释学习加下划线的词语</a:t>
            </a:r>
            <a:br>
              <a:rPr sz="4000"/>
            </a:br>
            <a:r>
              <a:rPr b="1" lang="zh-CN" sz="4000" spc="-1" strike="noStrike">
                <a:solidFill>
                  <a:srgbClr val="2b6367"/>
                </a:solidFill>
                <a:latin typeface="Arial"/>
                <a:ea typeface="方正琥珀简体"/>
              </a:rPr>
              <a:t>解释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琥珀简体"/>
              </a:rPr>
              <a:t>红色</a:t>
            </a:r>
            <a:r>
              <a:rPr b="1" lang="zh-CN" sz="4000" spc="-1" strike="noStrike">
                <a:solidFill>
                  <a:srgbClr val="2b6367"/>
                </a:solidFill>
                <a:latin typeface="Arial"/>
                <a:ea typeface="方正琥珀简体"/>
              </a:rPr>
              <a:t>的词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62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王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曰：仲永之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通悟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受之天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也。其受之天也，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贤于材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远矣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卒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之为众人，则其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受于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者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不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至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也。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彼其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受之天也，如此其贤也，不受之人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为众人；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夫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不受之天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众人，又不受之人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得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为众人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已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耶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6019920"/>
            <a:ext cx="1239840" cy="504720"/>
          </a:xfrm>
          <a:prstGeom prst="wedgeRoundRectCallout">
            <a:avLst>
              <a:gd name="adj1" fmla="val -52050"/>
              <a:gd name="adj2" fmla="val -20125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本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6021360"/>
            <a:ext cx="836640" cy="503280"/>
          </a:xfrm>
          <a:prstGeom prst="wedgeRoundRectCallout">
            <a:avLst>
              <a:gd name="adj1" fmla="val 66319"/>
              <a:gd name="adj2" fmla="val -11908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5589720"/>
            <a:ext cx="1239840" cy="504720"/>
          </a:xfrm>
          <a:prstGeom prst="wedgeRoundRectCallout">
            <a:avLst>
              <a:gd name="adj1" fmla="val -66773"/>
              <a:gd name="adj2" fmla="val -11949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32440" y="5445000"/>
            <a:ext cx="960480" cy="505080"/>
          </a:xfrm>
          <a:prstGeom prst="wedgeRoundRectCallout">
            <a:avLst>
              <a:gd name="adj1" fmla="val 21402"/>
              <a:gd name="adj2" fmla="val -21446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268280"/>
            <a:ext cx="1239840" cy="505080"/>
          </a:xfrm>
          <a:prstGeom prst="wedgeRoundRectCallout">
            <a:avLst>
              <a:gd name="adj1" fmla="val 29129"/>
              <a:gd name="adj2" fmla="val 31289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终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5516640"/>
            <a:ext cx="1239840" cy="504720"/>
          </a:xfrm>
          <a:prstGeom prst="wedgeRoundRectCallout">
            <a:avLst>
              <a:gd name="adj1" fmla="val -75865"/>
              <a:gd name="adj2" fmla="val -22295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尚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97800" y="1125360"/>
            <a:ext cx="1239840" cy="505080"/>
          </a:xfrm>
          <a:prstGeom prst="wedgeRoundRectCallout">
            <a:avLst>
              <a:gd name="adj1" fmla="val -43472"/>
              <a:gd name="adj2" fmla="val 32861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6367"/>
                </a:solidFill>
                <a:latin typeface="Arial"/>
                <a:ea typeface="方正琥珀简体"/>
              </a:rPr>
              <a:t>译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王先生说：仲永的通晓、领悟能力是天赋的。他的天资比一般有才能的人高得多。他最终成为一个平凡的人，是因为他没有受到后天的教育。像他那样天生聪明，如此有才智的人，没有受到后天的教育，尚且要成为平凡的人；那么，现在那些不是天生聪明，本来就平凡的人，又不接受后天的教育，想成为一个平常的人恐怕都不能够吧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答问  深入理解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1905120" y="1981080"/>
            <a:ext cx="533376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题目中的“伤”字是什么意思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伤”是哀伤、哀怜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2362320" y="2819520"/>
            <a:ext cx="4419360" cy="3338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114560"/>
            <a:ext cx="77724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段为什么特别交代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仲永“世隶耕” 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692440"/>
            <a:ext cx="822960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世隶耕”三字是对“未尝识书具”、“不使学”的必要铺垫，既衬托了方仲永的非凡天资，又暗示了造成他命运的家庭背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70128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仲永的变化经历了哪几个阶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82072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仲永生五年……其文理皆有可观者。”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 ——幼年时天资过人，有作诗才能；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十二三矣，令作诗，不能称前时之闻。”——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十二三岁时才能衰退，大不如前；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又七年……泯然众人矣。”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 ——又七年后完全变成平庸之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0" y="-3636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407664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二简体"/>
                <a:ea typeface="方正隶二简体"/>
              </a:rPr>
              <a:t>伤 仲 永</a:t>
            </a:r>
            <a:r>
              <a:rPr b="1" lang="en-US" sz="66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 </a:t>
            </a:r>
            <a:br>
              <a:rPr sz="6600"/>
            </a:b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安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504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仲永由天资过人变得“泯然众人”，原因是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489040"/>
            <a:ext cx="8229600" cy="34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原因是“父利其然也，日扳仲永环谒于邑人”，贪图小利，目光短浅，而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不使学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因为“其受于人者不至”，即没有受到后天正常的教育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最后一段的议论讲了什么道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7522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指出方仲永才能衰退是由于“受于人者不至”，强调了后天教育的重要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63504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为什么详写方仲永才能初露时的情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62920" cy="36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一是说明“仲永之通悟”是“受之天”，与后文“泯然众人矣”形成强烈对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二是点明“泯然众人”的原因是未能受到正常的后天教育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意在以方仲永为反面的例子，说明“受之人”即后天教育的重要性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0681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余闻之也久”这句话在本文叙事中有什么作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2414160"/>
            <a:ext cx="806292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本文叙事采用了见闻录的方式，第一段是“闻”，第二段是先“见”后“闻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种见闻录的方式给人以真切真实之感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认识“受之天”与“受之人”的关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19188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作者所说的“受之天”，是指人的天资；“受之人”，是指后天教育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作者认为，二者之间，后者更为重要，即后天教育对一个人是否成才是至关重要的，这一观点无疑是正确的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3539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刻画出方仲永父亲贪图小利而愚昧无知的句子是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30988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父利其然也，日扳仲永环谒于邑人，不使学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052280"/>
            <a:ext cx="3886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仲永命运变化的关键因素是三个字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3634920"/>
            <a:ext cx="4114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不使学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978440" y="609480"/>
            <a:ext cx="349884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归纳  复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1905120" y="1981080"/>
            <a:ext cx="533376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81124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《伤仲永》的作者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　　　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是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代政治家、文学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本文选自《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　　　　　　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2766960"/>
            <a:ext cx="5184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　　　王安石　　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临川先生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04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6367"/>
                </a:solidFill>
                <a:latin typeface="Arial"/>
                <a:ea typeface="方正琥珀简体"/>
              </a:rPr>
              <a:t>读准下列加红色的字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97000" y="1855440"/>
            <a:ext cx="47289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自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为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其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邑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人奇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日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扳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仲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谒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于邑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不能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前时之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泯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然众人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05200" y="1812960"/>
            <a:ext cx="216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wé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pān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y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　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chè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mǐ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7640" y="917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方正琥珀简体"/>
                <a:ea typeface="方正琥珀简体"/>
              </a:rPr>
              <a:t>作者简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楷体_GB2312"/>
              </a:rPr>
              <a:t>王安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字介甫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晚号半山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宋代政治家文学家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唐宋八大家之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17016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3240" y="5472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释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36720" y="1628640"/>
            <a:ext cx="2876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书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借旁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即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诗四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其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乡秀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65400" y="1700280"/>
            <a:ext cx="3809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属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曾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认为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356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释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词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43178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指物作诗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邑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奇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稍稍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宾客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其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钱币乞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利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然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日扳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仲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环谒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于邑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482840"/>
            <a:ext cx="4100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完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同乡人　同县的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认为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渐渐　当做宾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有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认为有利　这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每天　到处拜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释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词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先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前时之闻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泯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众人矣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受于人者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为众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夫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受之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固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众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得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为众人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已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耶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7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对死去的人的敬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相称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完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达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尚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本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能　止　停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翻译下列句子</a:t>
            </a:r>
            <a:br>
              <a:rPr sz="3600"/>
            </a:b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注意其中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琥珀简体"/>
              </a:rPr>
              <a:t>红色</a:t>
            </a: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的词的意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260440"/>
            <a:ext cx="81342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邑人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之，稍稍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宾客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其父，或以钱币乞之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同乡人对他感到惊奇，渐渐地请他的父亲去做客，有人还花钱求仲永题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奇：对……感到惊奇；认为……是奇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宾客：以宾客之礼相待，把……当作宾客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91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然也，日扳仲永环谒于邑人，不使学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9120" y="235584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他的父亲认为这样有利可图，每天拉着仲永四处拜访同县的人，不让（他）学习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利：认为……有利可图，把……看做有利可图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受之天也，贤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材人远矣。卒之为众人，则其受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者不至也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的天资，比一般有才能的人高得多了。他最终成为一个平凡的人，是因为他没有受到后天的教育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于：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于：被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89676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归纳本文主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390760"/>
            <a:ext cx="4114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以方仲永的实例，说明后天教育对成才的重要性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827600" y="533520"/>
            <a:ext cx="3621240" cy="555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扩展　迁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1905120" y="1981080"/>
            <a:ext cx="533376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82560"/>
            <a:ext cx="82296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天才？怎样成为天才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搜集关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天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名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4582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那里有天才，我是把别人喝咖啡的工夫都用在工作上了。——鲁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即使天才，在生下来的时候第一声啼哭，也和平常的儿童一样，决不会就是一首好诗。——鲁迅《未有天才之前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勤能补拙是良训，一分辛苦一分才。——华罗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聪明在于勤奋，天才在于积累。——华罗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天才就是长期劳动的结果。——牛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天才是指异乎寻常的忍耐者而言。——列夫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托尔斯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续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没有某些发狂的劲头，就没有天才。——塞涅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非常的单纯，非常的明确——这是天才的智慧的最可惊人的品质。——车尔尼雪夫斯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天才有的弱点并不少于普通人，也许更多一些。 ——罗曼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罗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人才进行工作，而天才进行创造。——舒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对自己不满足，是任何真正有天才的人的根本特征之一。——契诃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苦难对于天才是一块垫脚石。——巴尔扎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天才就是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99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汗水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灵感。——爱因斯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0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正音  正确朗读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1905120" y="1981080"/>
            <a:ext cx="533376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7240" y="111456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自写格言比赛：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　　天才就是——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（请你续写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72720" y="2997360"/>
            <a:ext cx="77756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才就是非凡的傻劲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才就是入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才就是长久的忍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1555200"/>
            <a:ext cx="5676840" cy="46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900" spc="-1" strike="noStrike">
              <a:solidFill>
                <a:srgbClr val="ff6600"/>
              </a:solidFill>
              <a:latin typeface="方正琥珀简体"/>
              <a:ea typeface="方正琥珀简体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be0e3"/>
              </a:solidFill>
              <a:latin typeface="方正琥珀简体"/>
              <a:ea typeface="方正琥珀简体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68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6367"/>
                </a:solidFill>
                <a:latin typeface="Arial"/>
                <a:ea typeface="方正琥珀简体"/>
              </a:rPr>
              <a:t>正音，正确朗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168560"/>
            <a:ext cx="1065240" cy="661680"/>
          </a:xfrm>
          <a:prstGeom prst="wedgeRoundRectCallout">
            <a:avLst>
              <a:gd name="adj1" fmla="val -61027"/>
              <a:gd name="adj2" fmla="val 231296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wé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4998960"/>
            <a:ext cx="1065240" cy="662040"/>
          </a:xfrm>
          <a:prstGeom prst="wedgeRoundRectCallout">
            <a:avLst>
              <a:gd name="adj1" fmla="val -118106"/>
              <a:gd name="adj2" fmla="val -158393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5575320"/>
            <a:ext cx="1065240" cy="662040"/>
          </a:xfrm>
          <a:prstGeom prst="wedgeRoundRectCallout">
            <a:avLst>
              <a:gd name="adj1" fmla="val -48805"/>
              <a:gd name="adj2" fmla="val -122902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p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22760" y="5430960"/>
            <a:ext cx="1065240" cy="662040"/>
          </a:xfrm>
          <a:prstGeom prst="wedgeRoundRectCallout">
            <a:avLst>
              <a:gd name="adj1" fmla="val -56856"/>
              <a:gd name="adj2" fmla="val -94606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1080" y="2047680"/>
            <a:ext cx="81342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金溪民方仲永，世隶耕。仲永生五年，未尝识书具，忽啼求之。父异焉，借旁近与之，即书诗四句，并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其名。其诗以养父母、收族为意，传一乡秀才观之。自是指物作诗立就，其文理皆有可观者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人奇之，稍稍宾客其父，或以钱币乞之。父利其然也，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扳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仲永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谒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于邑人，不使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b6367"/>
                </a:solidFill>
                <a:latin typeface="Arial"/>
                <a:ea typeface="方正琥珀简体"/>
              </a:rPr>
              <a:t>正音，正确朗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1403280"/>
            <a:ext cx="1248120" cy="623880"/>
          </a:xfrm>
          <a:prstGeom prst="wedgeRoundRectCallout">
            <a:avLst>
              <a:gd name="adj1" fmla="val -91601"/>
              <a:gd name="adj2" fmla="val 251782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chè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5388120"/>
            <a:ext cx="1247760" cy="623880"/>
          </a:xfrm>
          <a:prstGeom prst="wedgeRoundRectCallout">
            <a:avLst>
              <a:gd name="adj1" fmla="val 38805"/>
              <a:gd name="adj2" fmla="val -123282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mǐ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58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余闻之也久。明道中，从先人还家，于舅家见之，十二三矣。令作诗，不能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称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前时之闻。又七年，还自扬州，复到舅家问焉。曰：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泯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然众人矣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716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6367"/>
                </a:solidFill>
                <a:latin typeface="Arial"/>
                <a:ea typeface="方正琥珀简体"/>
              </a:rPr>
              <a:t>正音，正确朗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王子曰：仲永之通悟，受之天也。其受之天也，贤于材人远矣。卒之为众人，则其受于人者不至也。彼其受之天也，如此其贤也，不受之人，且为众人；今夫不受之天，固众人，又不受之人，得为众人而已耶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注释  口头翻译课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7839" t="0" r="7839" b="5230"/>
          <a:stretch/>
        </p:blipFill>
        <p:spPr>
          <a:xfrm>
            <a:off x="1905120" y="1981080"/>
            <a:ext cx="533376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468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按注释学习加下划线的词语</a:t>
            </a:r>
            <a:br>
              <a:rPr sz="3600"/>
            </a:b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解释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琥珀简体"/>
              </a:rPr>
              <a:t>红色</a:t>
            </a:r>
            <a:r>
              <a:rPr b="1" lang="zh-CN" sz="3600" spc="-1" strike="noStrike">
                <a:solidFill>
                  <a:srgbClr val="2b6367"/>
                </a:solidFill>
                <a:latin typeface="Arial"/>
                <a:ea typeface="方正琥珀简体"/>
              </a:rPr>
              <a:t>的词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金溪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民方仲永，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世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隶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耕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。仲永生五年，未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识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书具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，忽啼求之。父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异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，借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旁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之，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诗四句，并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自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为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其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。其诗以养父母、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收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为意，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乡秀才观之。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自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指物作诗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，其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文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皆有可观者。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邑人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奇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之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稍稍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宾客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其父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钱币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乞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之。父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利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其然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日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扳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仲永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环谒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于邑人，不使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628640"/>
            <a:ext cx="922320" cy="574920"/>
          </a:xfrm>
          <a:prstGeom prst="wedgeRoundRectCallout">
            <a:avLst>
              <a:gd name="adj1" fmla="val 99226"/>
              <a:gd name="adj2" fmla="val 16795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400" y="5592600"/>
            <a:ext cx="1523880" cy="573120"/>
          </a:xfrm>
          <a:prstGeom prst="wedgeRoundRectCallout">
            <a:avLst>
              <a:gd name="adj1" fmla="val 103750"/>
              <a:gd name="adj2" fmla="val -24196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认为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5300640"/>
            <a:ext cx="1130040" cy="573120"/>
          </a:xfrm>
          <a:prstGeom prst="wedgeRoundRectCallout">
            <a:avLst>
              <a:gd name="adj1" fmla="val -75138"/>
              <a:gd name="adj2" fmla="val -18241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有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1268280"/>
            <a:ext cx="922320" cy="574920"/>
          </a:xfrm>
          <a:prstGeom prst="wedgeRoundRectCallout">
            <a:avLst>
              <a:gd name="adj1" fmla="val 146212"/>
              <a:gd name="adj2" fmla="val 23646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907920"/>
            <a:ext cx="1898640" cy="968400"/>
          </a:xfrm>
          <a:prstGeom prst="wedgeRoundRectCallout">
            <a:avLst>
              <a:gd name="adj1" fmla="val -63546"/>
              <a:gd name="adj2" fmla="val 10606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对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感到惊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09080" y="4653000"/>
            <a:ext cx="934920" cy="574560"/>
          </a:xfrm>
          <a:prstGeom prst="wedgeRoundRectCallout">
            <a:avLst>
              <a:gd name="adj1" fmla="val -288879"/>
              <a:gd name="adj2" fmla="val -22845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661000"/>
            <a:ext cx="1189080" cy="574560"/>
          </a:xfrm>
          <a:prstGeom prst="wedgeRoundRectCallout">
            <a:avLst>
              <a:gd name="adj1" fmla="val 39717"/>
              <a:gd name="adj2" fmla="val -15856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5678640"/>
            <a:ext cx="1189080" cy="919080"/>
          </a:xfrm>
          <a:prstGeom prst="wedgeRoundRectCallout">
            <a:avLst>
              <a:gd name="adj1" fmla="val 3939"/>
              <a:gd name="adj2" fmla="val -12581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认为有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5229360"/>
            <a:ext cx="1149480" cy="1014120"/>
          </a:xfrm>
          <a:prstGeom prst="wedgeRoundRectCallout">
            <a:avLst>
              <a:gd name="adj1" fmla="val -124583"/>
              <a:gd name="adj2" fmla="val -11901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当做宾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2:30:59Z</dcterms:created>
  <dc:creator>张国生</dc:creator>
  <dc:description/>
  <dc:language>en-US</dc:language>
  <cp:lastModifiedBy>User</cp:lastModifiedBy>
  <dcterms:modified xsi:type="dcterms:W3CDTF">2012-12-27T12:58:44Z</dcterms:modified>
  <cp:revision>62</cp:revision>
  <dc:subject>弘扬“大语文教育”思想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