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png" ContentType="image/png"/>
  <Override PartName="/ppt/media/image28.jpeg" ContentType="image/jpeg"/>
  <Override PartName="/ppt/media/image27.gif" ContentType="image/gif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22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41.png" ContentType="image/pn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DCE-87B9-4844-A023-9A2D9BAF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498-FC48-469A-936B-00A960C2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43D-1D23-40DE-9EA7-EB6A19CC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6F7-8381-49C3-8CC7-77B87DBB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2CA-4EDA-4ED8-AD8F-AD3E2A03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0E6-B6AD-48FB-B3DC-E02D52B5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7DF-8746-4616-88BE-0FAF31E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B58-A903-470E-9CD2-8876E55C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119-F718-4799-A935-F293AEE9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3EB-C34A-4312-A4CA-2822B6A4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DB9-C919-44D3-94FB-2106744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46D-F91E-4B5C-BE56-434C32A1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0AE5-FCF1-40E4-A625-F96934EDCF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" Target="slide16.xml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3.xml"/><Relationship Id="rId3" Type="http://schemas.openxmlformats.org/officeDocument/2006/relationships/slide" Target="slide36.xml"/><Relationship Id="rId4" Type="http://schemas.openxmlformats.org/officeDocument/2006/relationships/slide" Target="slide40.xm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21.png"/><Relationship Id="rId3" Type="http://schemas.openxmlformats.org/officeDocument/2006/relationships/slide" Target="slide29.xml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508720" y="4149720"/>
            <a:ext cx="3313080" cy="2181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4149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）“望着这座群雕，就仿佛看到了当年丝绸之路上商旅不绝的景象，仿佛听到了飘忽在大漠中的悠悠驼铃声……” ──这是一条繁忙的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600360" cy="3168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49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486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）“没想到，一条道路将远隔千里的我们联系在了一起，这真是一条伟大的路呀！”──这是一条伟大的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5614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83664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）“从那以后，一队队骆驼上对在这漫长的商贸大道上行进……变得更加丰富多彩，美轮美奂。”──这是一条商品流通，文化交流的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27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10762" t="0" r="1227" b="6339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2920" y="2421000"/>
            <a:ext cx="7201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、走进“丝绸之路”，思考：课文描写了一个怎么样的场景？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981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（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）时间：公元前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115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3413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（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2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幼圆"/>
              </a:rPr>
              <a:t>）地点：伊朗高原北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43320" y="2390760"/>
            <a:ext cx="569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张骞（？—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），汉中城固（今陕西城固）人，西汉著名探险家、外交家。他曾两次出使西域，一次出使云南，两次随军出征匈奴。他官至大行（负责外交事务，位列九卿），随卫青出征匈奴有功，封博望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2709720"/>
            <a:ext cx="2881440" cy="3024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83196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（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3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）人物：安息国的将军、中国使者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张骞在此之前，已于公元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两次历尽艰险出使西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580248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张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224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-3033720"/>
            <a:ext cx="9144000" cy="12926880"/>
            <a:chOff x="0" y="-3033720"/>
            <a:chExt cx="9144000" cy="12926880"/>
          </a:xfrm>
        </p:grpSpPr>
        <p:sp>
          <p:nvSpPr>
            <p:cNvPr id="99" name=""/>
            <p:cNvSpPr/>
            <p:nvPr/>
          </p:nvSpPr>
          <p:spPr>
            <a:xfrm>
              <a:off x="0" y="-3033720"/>
              <a:ext cx="6629400" cy="129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0" y="-3033720"/>
              <a:ext cx="9144000" cy="2171520"/>
              <a:chOff x="0" y="-3033720"/>
              <a:chExt cx="9144000" cy="2171520"/>
            </a:xfrm>
          </p:grpSpPr>
          <p:sp>
            <p:nvSpPr>
              <p:cNvPr id="101" name=""/>
              <p:cNvSpPr/>
              <p:nvPr/>
            </p:nvSpPr>
            <p:spPr>
              <a:xfrm>
                <a:off x="0" y="-3033720"/>
                <a:ext cx="6629400" cy="21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-3033720"/>
                <a:ext cx="9144000" cy="12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9999"/>
                    </a:solidFill>
                    <a:uFillTx/>
                    <a:latin typeface="Times New Roman"/>
                    <a:hlinkClick r:id="rId1" action="ppaction://hlinksldjump"/>
                  </a:rPr>
                  <a:t>  </a:t>
                </a:r>
                <a:r>
                  <a:rPr b="0" lang="zh-CN" sz="7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0" y="-3033720"/>
            <a:ext cx="9144000" cy="12926880"/>
            <a:chOff x="0" y="-3033720"/>
            <a:chExt cx="9144000" cy="12926880"/>
          </a:xfrm>
        </p:grpSpPr>
        <p:sp>
          <p:nvSpPr>
            <p:cNvPr id="104" name=""/>
            <p:cNvSpPr/>
            <p:nvPr/>
          </p:nvSpPr>
          <p:spPr>
            <a:xfrm>
              <a:off x="0" y="-3033720"/>
              <a:ext cx="6629400" cy="129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0" y="-3033720"/>
              <a:ext cx="9144000" cy="2171520"/>
              <a:chOff x="0" y="-3033720"/>
              <a:chExt cx="9144000" cy="2171520"/>
            </a:xfrm>
          </p:grpSpPr>
          <p:sp>
            <p:nvSpPr>
              <p:cNvPr id="106" name=""/>
              <p:cNvSpPr/>
              <p:nvPr/>
            </p:nvSpPr>
            <p:spPr>
              <a:xfrm>
                <a:off x="0" y="-3033720"/>
                <a:ext cx="6629400" cy="21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-3033720"/>
                <a:ext cx="9144000" cy="12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009999"/>
                    </a:solidFill>
                    <a:uFillTx/>
                    <a:latin typeface="Times New Roman"/>
                    <a:hlinkClick r:id="rId2" action="ppaction://hlinksldjump"/>
                  </a:rPr>
                  <a:t>  </a:t>
                </a:r>
                <a:r>
                  <a:rPr b="0" lang="zh-CN" sz="7300" spc="-1" strike="noStrike">
                    <a:solidFill>
                      <a:srgbClr val="fdffdf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fdffdf"/>
                    </a:solidFill>
                    <a:latin typeface="Times New Roman"/>
                  </a:rPr>
                  <a:t>                                       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8286480" cy="4678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01280" y="5638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张骞拜别汉武帝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351640" cy="4616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64000" y="5734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张骞出使西域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     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（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4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）事情：安息国将军热情迎接中国使者，双方交换礼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6373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32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9640" y="1773360"/>
            <a:ext cx="7991640" cy="5814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　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有一条路，东起我国的汉唐古都长安，向西一直延伸到罗马。这条路，承载了无数的骆驼与商旅；这条路，传播了东方的古老文化；这条路，传承了东西方的友谊与文明。它是东西方文明交往的通道。今天，让我们一起随着一座古朴典雅的巨型石雕，穿越时空的阻隔，一起走近──丝绸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10762" t="0" r="1227" b="6339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14842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3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、想象：安息国的将军和中国使者见面的时候，是怎样的场面？用一个词语来概括。并说说从那些地方可以看出来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6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10762" t="0" r="1227" b="6339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1268280"/>
            <a:ext cx="784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隆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找出有关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       ◇“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将军其在高头大马上，身后兵马不计其数……”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　　◇“‘列队欢迎！’将军发出命令。骑兵迅疾分列两队，一左一右，摆出夹道欢迎的阵式。乐队奏起军乐，人群一片欢腾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想象当时的情景，用自己的话说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10762" t="0" r="1227" b="6339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1341360"/>
            <a:ext cx="81374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热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找出有关句子，朗读这几个自然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说说当时双方为什么表现得这么热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      ◇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因为这是在迎接远道而来的客人……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      ◇因为双方交换了许多批次没有见过的东西，很高兴……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      ◇因为他们把东西方连接起来了…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　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64720" cy="5977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1280" y="692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5400" spc="-1" strike="noStrike">
                <a:solidFill>
                  <a:srgbClr val="3333cc"/>
                </a:solidFill>
                <a:latin typeface="宋体"/>
              </a:rPr>
              <a:t>4.</a:t>
            </a:r>
            <a:r>
              <a:rPr b="1" lang="zh-CN" sz="5400" spc="-1" strike="noStrike">
                <a:solidFill>
                  <a:srgbClr val="3333cc"/>
                </a:solidFill>
                <a:latin typeface="宋体"/>
              </a:rPr>
              <a:t>说说“丝绸之路”的历史意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0762" t="0" r="1227" b="6339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1280" y="2133720"/>
            <a:ext cx="419076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送元二使安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王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渭城朝雨浥轻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客舍青青柳色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劝君更尽一杯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西出阳关无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2060640"/>
            <a:ext cx="38098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凉州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黄河远上白云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一片孤城万仞山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羌笛何须怨杨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春风不度玉门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907920"/>
            <a:ext cx="2303280" cy="649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课外链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827160" cy="3048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4360" y="4005360"/>
            <a:ext cx="768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玉门关，俗称小方盘城，在河西走廊西端的敦煌市境内，位于敦煌市城西北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9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公里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阳关，位于敦煌市城西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7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公里处，因在玉门关以南，故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3657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3581640" cy="350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495288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青海长云暗雪山，孤城遥望玉门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黄沙百战穿金甲，不破楼兰终不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3356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273720"/>
            <a:ext cx="8762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6738" r="0" b="0"/>
          <a:stretch/>
        </p:blipFill>
        <p:spPr>
          <a:xfrm>
            <a:off x="1600200" y="1587600"/>
            <a:ext cx="7238880" cy="4449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683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22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6504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寻访“丝绸之路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3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24382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主线（长安—敦煌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2438280" y="53341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南线（阳关—葱岭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2438280" y="58672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北线（玉门关—葱岭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2438280" y="6324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国外部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rcRect l="8935" t="4647" r="11753" b="33399"/>
          <a:stretch/>
        </p:blipFill>
        <p:spPr>
          <a:xfrm>
            <a:off x="1371600" y="360360"/>
            <a:ext cx="7620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908000" y="2205000"/>
            <a:ext cx="496908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丝绸之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724040" y="1920960"/>
            <a:ext cx="5697360" cy="3017880"/>
            <a:chOff x="1724040" y="1920960"/>
            <a:chExt cx="5697360" cy="3017880"/>
          </a:xfrm>
        </p:grpSpPr>
        <p:sp>
          <p:nvSpPr>
            <p:cNvPr id="147" name=""/>
            <p:cNvSpPr/>
            <p:nvPr/>
          </p:nvSpPr>
          <p:spPr>
            <a:xfrm>
              <a:off x="1724040" y="1920960"/>
              <a:ext cx="5697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24040" y="1920960"/>
              <a:ext cx="56973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  </a:t>
              </a:r>
              <a:r>
                <a:rPr b="0" lang="zh-CN" sz="18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68360" y="609480"/>
            <a:ext cx="5184720" cy="5410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71800" y="6248520"/>
            <a:ext cx="16002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安  鼓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11653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西安，古称长安，为中国六大古都（北京、西安、洛阳、开封、南京、杭州）之首，与世界名城雅典、开罗、罗马齐名，并称世界四大古都，闻名遐迩的“丝绸之路”就是从这里开始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2286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河西走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066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河西四镇：武威、张掖、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酒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敦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ygb.gif (17579 bytes)"/>
          <p:cNvPicPr/>
          <p:nvPr/>
        </p:nvPicPr>
        <p:blipFill>
          <a:blip r:embed="rId1"/>
          <a:stretch/>
        </p:blipFill>
        <p:spPr>
          <a:xfrm>
            <a:off x="1447920" y="3962520"/>
            <a:ext cx="2590560" cy="207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3880" y="6172200"/>
            <a:ext cx="2362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葡萄美酒夜光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2379600"/>
            <a:ext cx="9144000" cy="2098440"/>
            <a:chOff x="0" y="2379600"/>
            <a:chExt cx="9144000" cy="2098440"/>
          </a:xfrm>
        </p:grpSpPr>
        <p:sp>
          <p:nvSpPr>
            <p:cNvPr id="158" name=""/>
            <p:cNvSpPr/>
            <p:nvPr/>
          </p:nvSpPr>
          <p:spPr>
            <a:xfrm>
              <a:off x="0" y="2379600"/>
              <a:ext cx="678672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379600"/>
              <a:ext cx="9144000" cy="2098440"/>
              <a:chOff x="0" y="2379600"/>
              <a:chExt cx="9144000" cy="209844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379600"/>
                <a:ext cx="530388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0" y="2379600"/>
                <a:ext cx="9144000" cy="2098440"/>
                <a:chOff x="0" y="2379600"/>
                <a:chExt cx="9144000" cy="20984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0" y="2379600"/>
                  <a:ext cx="9144000" cy="20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0" y="2379600"/>
                  <a:ext cx="914400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zh-CN" sz="7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590560" cy="1781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24000" y="18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267080" y="2917800"/>
            <a:ext cx="4724640" cy="3178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867280" y="6248520"/>
            <a:ext cx="13716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1981080"/>
            <a:ext cx="1523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酒泉公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95280" y="2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敦煌：东方艺术之都，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古丝绸之路的咽喉要冲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5780" t="7014" r="0" b="0"/>
          <a:stretch/>
        </p:blipFill>
        <p:spPr>
          <a:xfrm>
            <a:off x="1981080" y="1143000"/>
            <a:ext cx="3200400" cy="2652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562720" y="1143000"/>
            <a:ext cx="3368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-46080" y="-1343160"/>
            <a:ext cx="9236160" cy="9545400"/>
            <a:chOff x="-46080" y="-1343160"/>
            <a:chExt cx="9236160" cy="9545400"/>
          </a:xfrm>
        </p:grpSpPr>
        <p:sp>
          <p:nvSpPr>
            <p:cNvPr id="175" name=""/>
            <p:cNvSpPr/>
            <p:nvPr/>
          </p:nvSpPr>
          <p:spPr>
            <a:xfrm>
              <a:off x="-46080" y="-1343160"/>
              <a:ext cx="9236160" cy="9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-46080" y="-1343160"/>
              <a:ext cx="9144000" cy="8466120"/>
              <a:chOff x="-46080" y="-1343160"/>
              <a:chExt cx="9144000" cy="8466120"/>
            </a:xfrm>
          </p:grpSpPr>
          <p:sp>
            <p:nvSpPr>
              <p:cNvPr id="177" name=""/>
              <p:cNvSpPr/>
              <p:nvPr/>
            </p:nvSpPr>
            <p:spPr>
              <a:xfrm>
                <a:off x="-46080" y="-1343160"/>
                <a:ext cx="9144000" cy="84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-46080" y="-1343160"/>
                <a:ext cx="91440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8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934320" cy="3522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352680" y="486108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西出阳关无故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267080" y="152280"/>
            <a:ext cx="4724640" cy="3103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4800600" cy="3006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705720" y="5943600"/>
            <a:ext cx="213336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兰与罗布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32000" y="16286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玉石故乡——和田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阗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17703" t="0" r="22514" b="0"/>
          <a:stretch/>
        </p:blipFill>
        <p:spPr>
          <a:xfrm>
            <a:off x="755640" y="2637000"/>
            <a:ext cx="7543800" cy="1355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6319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229600" y="6248520"/>
            <a:ext cx="8380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0" t="0" r="0" b="9781"/>
          <a:stretch/>
        </p:blipFill>
        <p:spPr>
          <a:xfrm>
            <a:off x="1311120" y="1066680"/>
            <a:ext cx="4784760" cy="4953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5880" y="18590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风不度玉门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172200" y="2743200"/>
            <a:ext cx="289548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6920" y="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地势高敞，人广昌盛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吐鲁番（高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52480" y="743040"/>
            <a:ext cx="3353040" cy="3219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0" t="0" r="0" b="4448"/>
          <a:stretch/>
        </p:blipFill>
        <p:spPr>
          <a:xfrm>
            <a:off x="5638680" y="762120"/>
            <a:ext cx="3046680" cy="3200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rcRect l="0" t="12861" r="0" b="0"/>
          <a:stretch/>
        </p:blipFill>
        <p:spPr>
          <a:xfrm>
            <a:off x="2808360" y="4051440"/>
            <a:ext cx="465912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0020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宋体"/>
              </a:rPr>
              <a:t>音乐之都——库车（龟兹）</a:t>
            </a:r>
            <a:r>
              <a:rPr b="1" lang="zh-CN" sz="40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9907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龟兹是古代西域位极显赫的大国，丝绸之路中战略重地，中西文化的荟萃之所，也是著名的音乐歌舞之乡，隋唐时“龟兹乐舞，名噪中原”，唐玄奘西天取经到过此地，盛赞“管弦伎舞，特善诸国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51080" y="2125800"/>
            <a:ext cx="4643280" cy="2606400"/>
            <a:chOff x="2251080" y="2125800"/>
            <a:chExt cx="4643280" cy="2606400"/>
          </a:xfrm>
        </p:grpSpPr>
        <p:sp>
          <p:nvSpPr>
            <p:cNvPr id="199" name=""/>
            <p:cNvSpPr/>
            <p:nvPr/>
          </p:nvSpPr>
          <p:spPr>
            <a:xfrm>
              <a:off x="2251080" y="2125800"/>
              <a:ext cx="4643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51080" y="2125800"/>
              <a:ext cx="46432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77920" y="268128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77920" y="209232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416640" y="3048120"/>
            <a:ext cx="2041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00000" y="152280"/>
            <a:ext cx="80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伊斯兰教中心——喀什（疏勒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1880" y="250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4038840" cy="2355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83800" y="1523880"/>
            <a:ext cx="1155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香妃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5584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14600" y="37846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934320" y="3733920"/>
            <a:ext cx="60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8229600" y="6248520"/>
            <a:ext cx="8380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553080" y="990720"/>
            <a:ext cx="23083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3465" t="4948" r="3465" b="6433"/>
          <a:stretch/>
        </p:blipFill>
        <p:spPr>
          <a:xfrm>
            <a:off x="2438280" y="152280"/>
            <a:ext cx="4419720" cy="2946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343400" cy="31478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315200" y="533520"/>
            <a:ext cx="457200" cy="2128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162320"/>
            <a:ext cx="457200" cy="1557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沙漠之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76520" y="795240"/>
            <a:ext cx="7010280" cy="4691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657600" y="5791320"/>
            <a:ext cx="26668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丝绸之路上的古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6858000" cy="4915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038480" y="5943600"/>
            <a:ext cx="17528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帕米尔高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6324480" cy="3871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43400" y="5410080"/>
            <a:ext cx="14479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山天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050920" y="2852640"/>
            <a:ext cx="4969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0762" t="0" r="1227" b="6339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137160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丝绸之路的得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362320"/>
            <a:ext cx="76215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6d3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76d3f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376d3f"/>
                </a:solidFill>
                <a:latin typeface="Times New Roman"/>
              </a:rPr>
              <a:t>世纪，德国地理学家李希霍芬第一次把从中国中原地区，经新疆而抵中亚的陆上通道翻译为“</a:t>
            </a:r>
            <a:r>
              <a:rPr b="1" lang="zh-CN" sz="3200" spc="-1" strike="noStrike">
                <a:solidFill>
                  <a:srgbClr val="376d3f"/>
                </a:solidFill>
                <a:latin typeface="Times New Roman"/>
              </a:rPr>
              <a:t>silkroad”,</a:t>
            </a:r>
            <a:r>
              <a:rPr b="1" lang="zh-CN" sz="3200" spc="-1" strike="noStrike">
                <a:solidFill>
                  <a:srgbClr val="376d3f"/>
                </a:solidFill>
                <a:latin typeface="Times New Roman"/>
              </a:rPr>
              <a:t>翻译成中文就是“丝绸之路”。这就是丝绸之路得名的由来，后来所指范围逐渐扩大，另外还有草原丝绸之路和海上丝绸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640" y="2060280"/>
            <a:ext cx="7345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有感情地朗读课文，了解“丝绸之路”的历史意义，激发学生向往古代文明，热爱祖国西部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认识本课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个生字，积累新词和优美的句子，搜集、交流有关丝绸之路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92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4720" y="1773000"/>
            <a:ext cx="4390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矗               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戎               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鸵               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贸               芝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33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ró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5440" y="177336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ch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60720" y="1773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矗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1773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ā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177336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凹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26337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戎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26920" y="1052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2" name=""/>
          <p:cNvSpPr/>
          <p:nvPr/>
        </p:nvSpPr>
        <p:spPr>
          <a:xfrm>
            <a:off x="1695600" y="4219560"/>
            <a:ext cx="20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mà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5440" y="342756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tuó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60720" y="34275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鸵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42163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贸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5440" y="5013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huà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22880" y="4218120"/>
            <a:ext cx="17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zh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3800" y="42181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芝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50101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美仑美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429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26337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xú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3800" y="2565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循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0560" y="34225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匕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0762" t="0" r="1227" b="6339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6920" y="148428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、边自由朗读课文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边思考：“丝绸之路”是一条怎么样的路？在课文中寻找一句合适的话来说明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192560" cy="4508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83240" y="836640"/>
            <a:ext cx="4209840" cy="4508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54849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）“商人们在这个东方大都市开了眼界，正满载货物返回故乡。”──这是一条运送货物的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5:00:44Z</dcterms:created>
  <dc:creator>微软用户</dc:creator>
  <dc:description/>
  <dc:language>en-US</dc:language>
  <cp:lastModifiedBy>微软用户</cp:lastModifiedBy>
  <dcterms:modified xsi:type="dcterms:W3CDTF">2013-03-12T15:00:44Z</dcterms:modified>
  <cp:revision>1</cp:revision>
  <dc:subject/>
  <dc:title>幻灯片 1</dc:title>
</cp:coreProperties>
</file>