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025-D5EA-4946-B309-015B0856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FD0-C94D-4D73-A72C-DB045514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CC4-3687-4050-BB74-ADF9B161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CE7-93B4-43AA-B244-57F2B07C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A91-49E3-4F5B-A657-B04A9FCF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B71-1722-4815-912D-D554FA77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A47-A8D7-462F-AA99-924CDDC8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F40-F2FC-442E-BA51-4BB401CC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10B-E327-4890-9CC8-3E3B4D3B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1EE-4A6A-48C1-AD00-8F4BE881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53C-213E-4AE9-A306-11CBFDD9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8CC-5477-40A3-87F0-7C1236A8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B6DF-61D8-439D-AB6D-92FB9DD96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0" y="0"/>
            <a:ext cx="8839080" cy="65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80880" y="17524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8580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个星期，我们一起目睹了长江的宏伟、壮观以及感受了她母亲般的情怀。这一节课，让我们一起走进一个梦幻之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亚，并且沐浴于她别样的落日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6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838080" y="12193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三亚看落日怎么有诗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亚是个怎样的地方呢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66680" y="2971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三亚洋溢着浓浓的热带风情，很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38080" y="40384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现在让我们一起走进三亚，去领略它的美丽风光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b_FEA1362569D41531875082CF4D1852CF"/>
          <p:cNvPicPr/>
          <p:nvPr/>
        </p:nvPicPr>
        <p:blipFill>
          <a:blip r:embed="rId2"/>
          <a:srcRect l="0" t="0" r="0" b="8264"/>
          <a:stretch/>
        </p:blipFill>
        <p:spPr>
          <a:xfrm>
            <a:off x="2133720" y="1523880"/>
            <a:ext cx="49528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三亚落日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2625948709"/>
          <p:cNvPicPr/>
          <p:nvPr/>
        </p:nvPicPr>
        <p:blipFill>
          <a:blip r:embed="rId2"/>
          <a:stretch/>
        </p:blipFill>
        <p:spPr>
          <a:xfrm>
            <a:off x="1676520" y="1219320"/>
            <a:ext cx="5943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1190960148054"/>
          <p:cNvPicPr/>
          <p:nvPr/>
        </p:nvPicPr>
        <p:blipFill>
          <a:blip r:embed="rId2"/>
          <a:stretch/>
        </p:blipFill>
        <p:spPr>
          <a:xfrm>
            <a:off x="1523880" y="1295280"/>
            <a:ext cx="54104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2007092613362320115"/>
          <p:cNvPicPr/>
          <p:nvPr/>
        </p:nvPicPr>
        <p:blipFill>
          <a:blip r:embed="rId2"/>
          <a:stretch/>
        </p:blipFill>
        <p:spPr>
          <a:xfrm>
            <a:off x="2057400" y="1752480"/>
            <a:ext cx="53341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200723161586045"/>
          <p:cNvPicPr/>
          <p:nvPr/>
        </p:nvPicPr>
        <p:blipFill>
          <a:blip r:embed="rId2"/>
          <a:stretch/>
        </p:blipFill>
        <p:spPr>
          <a:xfrm>
            <a:off x="1143000" y="1066680"/>
            <a:ext cx="68580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2" descr="2007-8-27_14-56-31_108448097"/>
          <p:cNvPicPr/>
          <p:nvPr/>
        </p:nvPicPr>
        <p:blipFill>
          <a:blip r:embed="rId2"/>
          <a:srcRect l="0" t="0" r="0" b="10001"/>
          <a:stretch/>
        </p:blipFill>
        <p:spPr>
          <a:xfrm>
            <a:off x="1600200" y="1371600"/>
            <a:ext cx="64771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20070515091203526"/>
          <p:cNvPicPr/>
          <p:nvPr/>
        </p:nvPicPr>
        <p:blipFill>
          <a:blip r:embed="rId2"/>
          <a:stretch/>
        </p:blipFill>
        <p:spPr>
          <a:xfrm>
            <a:off x="1219320" y="1066680"/>
            <a:ext cx="693396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3612048420070810221322171_000"/>
          <p:cNvPicPr/>
          <p:nvPr/>
        </p:nvPicPr>
        <p:blipFill>
          <a:blip r:embed="rId2"/>
          <a:stretch/>
        </p:blipFill>
        <p:spPr>
          <a:xfrm>
            <a:off x="1371600" y="1219320"/>
            <a:ext cx="62485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200642410313228"/>
          <p:cNvPicPr/>
          <p:nvPr/>
        </p:nvPicPr>
        <p:blipFill>
          <a:blip r:embed="rId2"/>
          <a:srcRect l="8764" t="7869" r="8010" b="11298"/>
          <a:stretch/>
        </p:blipFill>
        <p:spPr>
          <a:xfrm>
            <a:off x="914400" y="1143000"/>
            <a:ext cx="7467480" cy="502128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>
            <a:off x="4191120" y="1600200"/>
            <a:ext cx="390528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三亚落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P1010015"/>
          <p:cNvPicPr/>
          <p:nvPr/>
        </p:nvPicPr>
        <p:blipFill>
          <a:blip r:embed="rId2"/>
          <a:srcRect l="0" t="0" r="1738" b="0"/>
          <a:stretch/>
        </p:blipFill>
        <p:spPr>
          <a:xfrm>
            <a:off x="1066680" y="914400"/>
            <a:ext cx="69343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5800" y="12193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你从哪些地方读出三亚很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80880" y="22860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①“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蓝透了”“碧玉般”“玉屑银末般”“金灿灿”等词写出了海、椰子树、细沙的色彩美和形状美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②“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挺拔俊秀”突出了椰树的姿态美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4343400"/>
            <a:ext cx="922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③“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低翔”和“摇曳”写出了白鸥、椰子树的动态美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7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5800" y="2209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三亚的海那么蓝，鸥那么白，树那么秀，沙那么亮，怎能不让人喜爱至极呢</a:t>
            </a:r>
            <a:r>
              <a:rPr b="1" lang="en-US" sz="3600" spc="-1" strike="noStrike">
                <a:solidFill>
                  <a:srgbClr val="a50021"/>
                </a:solidFill>
                <a:latin typeface="宋体"/>
              </a:rPr>
              <a:t>?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齐读第二段，读出喜爱之情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继续学习课文，体会三亚落日的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合图片内容，理解课文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品读过程中领会课文所要表达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学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课文，体会三亚落日的色彩美、形态美、意境美并在品读过程过领会课文所要表达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2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762120" y="19810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三亚的风采神奇而又瑰丽，在这样的地方观落日，的确“真有诗意”，下面我们一起去欣赏夕阳滑落的景象。自由读第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自然段，体会太阳滑落前与滑落时景色的不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5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380880" y="11430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然段中．作者把太阳比作什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57200" y="21337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活跃了一天的太阳，依旧像一个快乐的孩童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62120" y="3657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哪些地方写出太阳像个“快乐的孩童”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62120" y="4495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这样写有什么好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1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09480" y="1295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读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然段，画出描写夕阳滑落过程的语句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5800" y="3048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悬在海与天的边缘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2819520" y="36576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886200" y="3048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在海面蹦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5562720" y="36576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629400" y="3276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轻快入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9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762120" y="16765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夕阳也渐渐地收敛了光芒，变得温和起来，悬在海与天的边缘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62120" y="28195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夕阳也渐渐地收敛了光芒，变得温和起来，像一只光焰柔和的大红灯笼，悬在海与天的边缘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133720" y="43434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轻声读这组句子，比较哪种写法好，好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1676520" y="10666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比一比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pic>
        <p:nvPicPr>
          <p:cNvPr id="184" name="Picture 8" descr="笔筒"/>
          <p:cNvPicPr/>
          <p:nvPr/>
        </p:nvPicPr>
        <p:blipFill>
          <a:blip r:embed="rId4"/>
          <a:stretch/>
        </p:blipFill>
        <p:spPr>
          <a:xfrm>
            <a:off x="533520" y="838080"/>
            <a:ext cx="8222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6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80880" y="1371600"/>
            <a:ext cx="861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作者在写夕阳滑落的情景时还写了人们是怎样看落日的，找一找有关语句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838080" y="32004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人们惊讶得不敢眨眼，生怕眨眼的一瞬间，那盏红灯笼会被一只巨手提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380880" y="16002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我瞪大双眼正在欣赏着，突然那落日颤动了两下，最后像跳水员那样，以一个轻快、敏捷的弹跳，再以一个悄然无声、水波不惊的优美姿势入了水，向人们道了“再见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480" y="4006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这句话用了什么修辞手法，好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图片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亚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亚市古称崖州，位于海南岛最南端，是中国唯一的热带滨海旅游城市。三亚境内汇聚阳光、海水、沙滩、气候、森林、温泉、动物、岩洞、田园、风情十大旅游资源，山、城、河、海浑然一体，拥有南山、大小洞天两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级景区，亚龙湾、天涯海角两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级景区和鹿回头、西岛、蜈支洲岛、大东海等著名景点，是中国热带滨海旅游资源最丰富、最集中的地区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4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09480" y="1981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突出作者对三亚落日景象的赞赏和惊叹，同时也从侧面突出了落日的美妙绝伦。同学们通读本段，找出自己最喜欢的句子并说说为什么喜欢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7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1219320" y="28954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57200" y="2057400"/>
            <a:ext cx="8305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作者以诗一般的语言描绘了三亚落日的美丽景象，包含着作者对大自然景观的喜爱和赞美。让我们通过朗读课文再次体会三亚的神奇景观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1638360" y="1295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课文总结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pic>
        <p:nvPicPr>
          <p:cNvPr id="201" name="Picture 7" descr="书１"/>
          <p:cNvPicPr/>
          <p:nvPr/>
        </p:nvPicPr>
        <p:blipFill>
          <a:blip r:embed="rId4"/>
          <a:stretch/>
        </p:blipFill>
        <p:spPr>
          <a:xfrm>
            <a:off x="457200" y="1143000"/>
            <a:ext cx="10666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3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762120" y="19810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朗读课文，背诵课文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838080" y="28954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综合实践活动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33520" y="3657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从“光、色、日、霞”四个字中选择自己感兴趣的问题，查阅资料，进行课题研究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523880" y="114300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课外作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pic>
        <p:nvPicPr>
          <p:cNvPr id="208" name="Picture 8" descr="复件 书"/>
          <p:cNvPicPr/>
          <p:nvPr/>
        </p:nvPicPr>
        <p:blipFill>
          <a:blip r:embed="rId4"/>
          <a:stretch/>
        </p:blipFill>
        <p:spPr>
          <a:xfrm>
            <a:off x="685800" y="1066680"/>
            <a:ext cx="6048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005"/>
          <p:cNvPicPr/>
          <p:nvPr/>
        </p:nvPicPr>
        <p:blipFill>
          <a:blip r:embed="rId2"/>
          <a:srcRect l="0" t="0" r="0" b="8332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210" name="WordArt 4" descr=""/>
          <p:cNvPicPr/>
          <p:nvPr/>
        </p:nvPicPr>
        <p:blipFill>
          <a:blip r:embed="rId3"/>
          <a:stretch/>
        </p:blipFill>
        <p:spPr>
          <a:xfrm>
            <a:off x="3870360" y="2127240"/>
            <a:ext cx="44449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9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pic>
          <p:nvPicPr>
            <p:cNvPr id="51" name="Picture 24" descr="ziran2_030"/>
            <p:cNvPicPr/>
            <p:nvPr/>
          </p:nvPicPr>
          <p:blipFill>
            <a:blip r:embed="rId2">
              <a:lum contrast="-12000"/>
            </a:blip>
            <a:srcRect l="0" t="27175" r="0" b="66556"/>
            <a:stretch/>
          </p:blipFill>
          <p:spPr>
            <a:xfrm>
              <a:off x="152280" y="609480"/>
              <a:ext cx="8839080" cy="5943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52" name="Picture 25" descr="ziran2_030"/>
            <p:cNvPicPr/>
            <p:nvPr/>
          </p:nvPicPr>
          <p:blipFill>
            <a:blip r:embed="rId3">
              <a:lum contrast="-12000"/>
            </a:blip>
            <a:srcRect l="0" t="31358" r="0" b="39381"/>
            <a:stretch/>
          </p:blipFill>
          <p:spPr>
            <a:xfrm>
              <a:off x="152280" y="5638680"/>
              <a:ext cx="88390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 Box 4"/>
          <p:cNvSpPr/>
          <p:nvPr/>
        </p:nvSpPr>
        <p:spPr>
          <a:xfrm>
            <a:off x="1219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1629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逊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洋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纸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638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丹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7162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飞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295280" y="220968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ù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819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191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715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71629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复件 思考"/>
          <p:cNvPicPr/>
          <p:nvPr/>
        </p:nvPicPr>
        <p:blipFill>
          <a:blip r:embed="rId4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73" name="Line 26"/>
          <p:cNvSpPr/>
          <p:nvPr/>
        </p:nvSpPr>
        <p:spPr>
          <a:xfrm>
            <a:off x="1143000" y="22096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143000" y="3124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1066680" y="434340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0" y="685800"/>
            <a:ext cx="883908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3"/>
          <p:cNvSpPr/>
          <p:nvPr/>
        </p:nvSpPr>
        <p:spPr>
          <a:xfrm>
            <a:off x="1219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71629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收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玫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瑰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486400" y="4419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盏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1143000" y="2209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i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7432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m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ɡ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6386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74674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2" descr="复件 思考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ziran2_030"/>
          <p:cNvPicPr/>
          <p:nvPr/>
        </p:nvPicPr>
        <p:blipFill>
          <a:blip r:embed="rId4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Line 24"/>
          <p:cNvSpPr/>
          <p:nvPr/>
        </p:nvSpPr>
        <p:spPr>
          <a:xfrm>
            <a:off x="1143000" y="22096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1143000" y="3124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1066680" y="434340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533520" y="25146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美妙绝伦　硕大无比　收敛　洋溢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3520" y="36576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赤朱丹彤　热带风情　悄然无声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33520" y="243828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533520" y="350532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533520" y="45720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33520" y="25146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533520" y="34290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533520" y="4495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1828800" y="137160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我会读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111" name="Picture 14" descr="北北"/>
          <p:cNvPicPr/>
          <p:nvPr/>
        </p:nvPicPr>
        <p:blipFill>
          <a:blip r:embed="rId4"/>
          <a:stretch/>
        </p:blipFill>
        <p:spPr>
          <a:xfrm>
            <a:off x="3886200" y="1066680"/>
            <a:ext cx="8730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685800" y="18288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收敛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光线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减弱或消失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5800" y="25909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美妙绝伦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好到了极点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85800" y="33526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硕大无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硕，大；无比，没有什么可比得上。形容无比的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5800" y="4419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赤朱丹彤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，红色；朱，大红色；丹，红色；彤，红色，本课指程度不同的红色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1905120" y="1066680"/>
            <a:ext cx="1904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我理解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119" name="Picture 9" descr="唱唱 拷贝"/>
          <p:cNvPicPr/>
          <p:nvPr/>
        </p:nvPicPr>
        <p:blipFill>
          <a:blip r:embed="rId4"/>
          <a:stretch/>
        </p:blipFill>
        <p:spPr>
          <a:xfrm>
            <a:off x="914400" y="838080"/>
            <a:ext cx="8254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457200" y="11430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通读课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课文分段并概括大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57200" y="2286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660066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）在三亚看落日很有诗意。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80880" y="3124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660066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）三亚洋溢着浓浓的热带风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80880" y="4038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660066"/>
                </a:solidFill>
                <a:latin typeface="隶书"/>
                <a:ea typeface="隶书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隶书"/>
              </a:rPr>
              <a:t>—</a:t>
            </a:r>
            <a:r>
              <a:rPr b="0" lang="en-US" sz="3600" spc="-1" strike="noStrike">
                <a:solidFill>
                  <a:srgbClr val="660066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）具体描绘了三亚落日的美景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ziran2_030"/>
          <p:cNvPicPr/>
          <p:nvPr/>
        </p:nvPicPr>
        <p:blipFill>
          <a:blip r:embed="rId2">
            <a:lum contrast="-12000"/>
          </a:blip>
          <a:srcRect l="0" t="27175" r="0" b="6655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Picture 3" descr="ziran2_030"/>
          <p:cNvPicPr/>
          <p:nvPr/>
        </p:nvPicPr>
        <p:blipFill>
          <a:blip r:embed="rId3">
            <a:lum contrast="-12000"/>
          </a:blip>
          <a:srcRect l="0" t="31358" r="0" b="39381"/>
          <a:stretch/>
        </p:blipFill>
        <p:spPr>
          <a:xfrm>
            <a:off x="152280" y="563868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533520" y="1143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轻声读课文，画出概括全文内容的一句话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752480" y="28195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三亚看落日真有诗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5800" y="380988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同学们读读这句话，说说你是怎么理解“真有诗意”的。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51814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56386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0958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2:09:34Z</dcterms:created>
  <dc:creator/>
  <dc:description/>
  <dc:language>en-US</dc:language>
  <cp:lastModifiedBy>lenovo</cp:lastModifiedBy>
  <dcterms:modified xsi:type="dcterms:W3CDTF">2015-01-14T02:11:16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  <property fmtid="{D5CDD505-2E9C-101B-9397-08002B2CF9AE}" pid="3" name="Version">
    <vt:r8>1</vt:r8>
  </property>
</Properties>
</file>