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400-B4CD-454C-B245-687EE342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2B6-FD70-4276-BB4C-D6B5BE15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1DE-D87B-4A39-877C-672742CA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2C6-6D2D-4CD7-8A28-211D6C89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E3F-8FD8-44AE-BED8-FAE220ED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C93-FE6B-4356-BEDA-C4E55BCE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DC8-E87D-4C01-8D05-55B2D722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526-485F-46BB-B689-D0D877E1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83A-5444-4AEB-A8A6-4EB691F7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B24-8B1F-4A20-9E90-F78D880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966-7F6C-466D-AF98-94043D5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4AA-2713-4AD2-B90E-3FC1785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889-425B-40E6-858D-CA14E7F2A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91400" cy="564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2492280"/>
            <a:ext cx="6840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xxx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-20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年度第一学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科竞赛中，成绩优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发此证，以资鼓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学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级中学信息技术教学内容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47640" y="2637000"/>
            <a:ext cx="7921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xx·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xxx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-20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年度第一学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科竞赛中，成绩优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发此证，以资鼓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学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22200" y="0"/>
            <a:ext cx="97185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2492280"/>
            <a:ext cx="6697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xx·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xxx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-20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年度第一学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科竞赛中，成绩优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发此证，以资鼓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学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60" y="692280"/>
            <a:ext cx="863928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22200" y="2492280"/>
            <a:ext cx="66628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xx·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xxx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-20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年度第一学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科竞赛中，成绩优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发此证，以资鼓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学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3614"/>
          <a:stretch/>
        </p:blipFill>
        <p:spPr>
          <a:xfrm>
            <a:off x="14400" y="15840"/>
            <a:ext cx="9377280" cy="664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68360" y="1600200"/>
          <a:ext cx="8218440" cy="4525920"/>
        </p:xfrm>
        <a:graphic>
          <a:graphicData uri="http://schemas.openxmlformats.org/drawingml/2006/table">
            <a:tbl>
              <a:tblPr/>
              <a:tblGrid>
                <a:gridCol w="666720"/>
                <a:gridCol w="1038240"/>
                <a:gridCol w="1085760"/>
                <a:gridCol w="1086120"/>
                <a:gridCol w="1085760"/>
                <a:gridCol w="1085760"/>
                <a:gridCol w="1084320"/>
                <a:gridCol w="1085760"/>
              </a:tblGrid>
              <a:tr h="546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节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三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四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五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六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七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345040" y="761400"/>
            <a:ext cx="41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93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8—20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0:40:25Z</dcterms:created>
  <dc:creator>USER</dc:creator>
  <dc:description/>
  <dc:language>en-US</dc:language>
  <cp:lastModifiedBy>USER</cp:lastModifiedBy>
  <dcterms:modified xsi:type="dcterms:W3CDTF">2013-07-14T01:45:51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