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7.png" ContentType="image/png"/>
  <Override PartName="/ppt/media/image33.jpeg" ContentType="image/jpeg"/>
  <Override PartName="/ppt/media/image34.gif" ContentType="image/gif"/>
  <Override PartName="/ppt/media/image24.gif" ContentType="image/gif"/>
  <Override PartName="/ppt/media/image4.png" ContentType="image/png"/>
  <Override PartName="/ppt/media/image36.png" ContentType="image/png"/>
  <Override PartName="/ppt/media/image43.gif" ContentType="image/gif"/>
  <Override PartName="/ppt/media/image37.jpeg" ContentType="image/jpeg"/>
  <Override PartName="/ppt/media/image13.png" ContentType="image/png"/>
  <Override PartName="/ppt/media/image32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7.jpeg" ContentType="image/jpeg"/>
  <Override PartName="/ppt/media/image48.gif" ContentType="image/gif"/>
  <Override PartName="/ppt/media/image45.png" ContentType="image/png"/>
  <Override PartName="/ppt/media/image46.jpeg" ContentType="image/jpeg"/>
  <Override PartName="/ppt/media/image51.jpeg" ContentType="image/jpeg"/>
  <Override PartName="/ppt/media/image52.png" ContentType="image/png"/>
  <Override PartName="/ppt/media/image31.png" ContentType="image/png"/>
  <Override PartName="/ppt/media/image30.gif" ContentType="image/gif"/>
  <Override PartName="/ppt/media/image9.jpeg" ContentType="image/jpeg"/>
  <Override PartName="/ppt/media/image11.jpeg" ContentType="image/jpeg"/>
  <Override PartName="/ppt/media/image6.jpeg" ContentType="image/jpeg"/>
  <Override PartName="/ppt/media/image18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0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97B-01C2-42A3-B9B5-098CAE89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4E5-1F3F-4BFD-853A-598B8E29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CB4-5FCD-4458-AEC7-85AB8BAA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E4B-EE39-4CCE-A920-CC82994A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408-6FA4-43B8-8F5B-B9FF5840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840-7B61-46FB-8B8E-48C9C9C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E27-440B-4735-A552-BE00F03E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E9A-428D-4D49-96DF-7759A980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AAA-D2DF-44A3-9FE1-0D9F908E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8B9-AAD0-4C14-B8E9-36777AF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410-5127-472A-9A5D-25FE044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1CB-80A7-4DE8-9D66-B402416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DEE-138E-4A78-A730-B33B6D02E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book110.cn/cover/2010-9-18/20904819-1_b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gi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gi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8.gi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71bd4fc82032d668f31fe71d.jpg"/>
          <p:cNvPicPr/>
          <p:nvPr/>
        </p:nvPicPr>
        <p:blipFill>
          <a:blip r:embed="rId1"/>
          <a:stretch/>
        </p:blipFill>
        <p:spPr>
          <a:xfrm>
            <a:off x="-34920" y="-968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692360" y="2133720"/>
            <a:ext cx="633564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人物描写一组</a:t>
            </a:r>
            <a:endParaRPr b="1" lang="en-US" sz="8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3640" y="4799160"/>
            <a:ext cx="9144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李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340000" y="18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理解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书3"/>
          <p:cNvPicPr/>
          <p:nvPr/>
        </p:nvPicPr>
        <p:blipFill>
          <a:blip r:embed="rId2"/>
          <a:stretch/>
        </p:blipFill>
        <p:spPr>
          <a:xfrm>
            <a:off x="179280" y="0"/>
            <a:ext cx="1873440" cy="144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39640" y="1197000"/>
            <a:ext cx="813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小嘎子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种活泼、可爱、淘气、调皮捣蛋，但又不让人厌恶的小男孩，北方话就叫小嘎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公鸡鵮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指公鸡打架时彼此试着用尖嘴啄对方的架势。本课指小嘎子和胖墩儿已做好摔跤的准备，就像两只即将争斗在一起的公鸡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W020090530667773437473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18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黑体"/>
              </a:rPr>
              <a:t>理解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书3"/>
          <p:cNvPicPr/>
          <p:nvPr/>
        </p:nvPicPr>
        <p:blipFill>
          <a:blip r:embed="rId2"/>
          <a:stretch/>
        </p:blipFill>
        <p:spPr>
          <a:xfrm>
            <a:off x="179280" y="0"/>
            <a:ext cx="187344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39640" y="1197000"/>
            <a:ext cx="8137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精神抖擞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抖擞：振作。指表现出来的旺盛的活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惯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指惯于做某种事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冷绊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俗语，指乘人不备时，暗中耍弄手段陷害别人的行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破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衣服上的裂口。比喻说话做事时露出的漏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2"/>
          <p:cNvSpPr txBox="1"/>
          <p:nvPr/>
        </p:nvSpPr>
        <p:spPr>
          <a:xfrm>
            <a:off x="1835280" y="119700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读课文，回答：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16000" y="3068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55640" y="9810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课文主要描写了小嘎子和胖墩儿比赛摔跤的情景。在摔跤的过程中，嘎子时时处处想使巧招，结果反被胖墩儿摔了个仰面朝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边读边想，把最能体现人物特点的句子划下来，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划出描写小嘎子的句子，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划出描写胖墩儿的句子，并圈出关键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2916360" y="549360"/>
            <a:ext cx="1828800" cy="104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划一划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00000" y="981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要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摔跤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162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摔跤是小嘎子提出来的，他认为能胜过胖墩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9640" y="292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小胖墩儿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起来，立刻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两步，一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身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单褂儿，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着腰说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吧，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叉一搂的，</a:t>
            </a: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还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随便摔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39640" y="4797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以问作答，看出小嘎子的选择出乎小胖墩的意料。一系列的动作说明胖墩是经常摔跤的，为下文战胜小嘎子埋下伏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图片3"/>
          <p:cNvPicPr/>
          <p:nvPr/>
        </p:nvPicPr>
        <p:blipFill>
          <a:blip r:embed="rId2"/>
          <a:stretch/>
        </p:blipFill>
        <p:spPr>
          <a:xfrm>
            <a:off x="0" y="260280"/>
            <a:ext cx="2521080" cy="63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132000" y="26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语言  、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39640" y="981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嘎子在家里跟人摔跤，一向仗着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手疾眼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从不单凭力气，自然不跟他一叉一搂。俩人把“枪”和“鞭”放在门墩上，各自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虎势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站，公鸡鹐架似的对起阵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图片3"/>
          <p:cNvPicPr/>
          <p:nvPr/>
        </p:nvPicPr>
        <p:blipFill>
          <a:blip r:embed="rId2"/>
          <a:stretch/>
        </p:blipFill>
        <p:spPr>
          <a:xfrm>
            <a:off x="324000" y="189000"/>
            <a:ext cx="2520720" cy="630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468360" y="3789360"/>
            <a:ext cx="867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71640" y="436572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W020090530667773437473"/>
          <p:cNvPicPr/>
          <p:nvPr/>
        </p:nvPicPr>
        <p:blipFill>
          <a:blip r:embed="rId3"/>
          <a:stretch/>
        </p:blipFill>
        <p:spPr>
          <a:xfrm>
            <a:off x="4211640" y="3357720"/>
            <a:ext cx="493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淡雅ppt背景（扒土梦幻馆搜集） (1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755640" y="836640"/>
            <a:ext cx="7561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嘎子清楚两人在形体上的差距，认识到“单凭力气”是无法胜过“膀大腰粗，一身牛劲”的胖墩儿的。于是小嘎子选择了“随便摔”，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表现了小嘎子聪明而富有心计的性格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图片3"/>
          <p:cNvPicPr/>
          <p:nvPr/>
        </p:nvPicPr>
        <p:blipFill>
          <a:blip r:embed="rId2"/>
          <a:stretch/>
        </p:blipFill>
        <p:spPr>
          <a:xfrm>
            <a:off x="1476360" y="0"/>
            <a:ext cx="2521080" cy="630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68360" y="1052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起初，小嘎子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精神抖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，欺负对手傻大黑粗，动转不灵，围着他猴儿似的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蹦来蹦去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</a:rPr>
              <a:t>总想使巧招，下冷绊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，仿佛很占了上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55640" y="486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4360" y="4797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可以看出小嘎子争强好胜、机敏、富有心计的个性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95280" y="3645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红色的字突出了小嘎子怎样的个性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067280" y="26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神态、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淡雅ppt背景（扒土梦幻馆搜集） (1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539640" y="765000"/>
            <a:ext cx="828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灿烂的文学宝库里，作家们用他们神奇的妙笔，为我们塑造了众多栩栩如生的人物形象，比如，神通广大的孙悟空，顾全大局的蔺相如，知错能改的廉颇，勇武过人的武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作家的笔下，这些人物特点鲜明，让我们印象深刻，久久难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今天，我们要走进一组新的课文，继续认识和亲近作家为我们塑造的人物形象，感受这些人物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图片3"/>
          <p:cNvPicPr/>
          <p:nvPr/>
        </p:nvPicPr>
        <p:blipFill>
          <a:blip r:embed="rId2"/>
          <a:stretch/>
        </p:blipFill>
        <p:spPr>
          <a:xfrm>
            <a:off x="466560" y="836640"/>
            <a:ext cx="2521080" cy="63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00000" y="1628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是胖墩儿也是个摔跤的惯手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腰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裆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眼珠子，不露一点儿破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26920" y="4221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动作描写，表现胖墩丝毫不给小嘎子可乘之机，为后文战胜小嘎子做了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24000" y="90792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一来，小嘎子可上了当：小胖墩儿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膀大腰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身牛劲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任你怎样</a:t>
            </a: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推拉拽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，硬是扳不动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39640" y="486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小嘎子处于劣势时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推拉拽顶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的表现，说明他积极开动脑筋，试着运用各种方法。</a:t>
            </a:r>
            <a:r>
              <a:rPr b="0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16000" y="3860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推拉拽顶”说明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图片3"/>
          <p:cNvPicPr/>
          <p:nvPr/>
        </p:nvPicPr>
        <p:blipFill>
          <a:blip r:embed="rId2"/>
          <a:stretch/>
        </p:blipFill>
        <p:spPr>
          <a:xfrm>
            <a:off x="2340000" y="0"/>
            <a:ext cx="2521080" cy="63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788000" y="26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外貌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84360" y="98100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嘎子已有些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沉不住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刚想用脚腕子去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的腿，不料反给他把脚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住了。胖墩儿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趁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往旁侧里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咕咚一声，小嘎子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个仰面朝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图片3"/>
          <p:cNvPicPr/>
          <p:nvPr/>
        </p:nvPicPr>
        <p:blipFill>
          <a:blip r:embed="rId2"/>
          <a:stretch/>
        </p:blipFill>
        <p:spPr>
          <a:xfrm>
            <a:off x="900000" y="260280"/>
            <a:ext cx="252108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71640" y="4076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沉不住气”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95280" y="4797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说明小嘎子对半天不能取胜极不耐烦。表现了他急躁的性格特点。也预示着他的失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780000" y="33336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心里、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24000" y="1557360"/>
            <a:ext cx="849780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，在你们的心目中，小嘎子和小胖墩儿分别是怎样的人呢？请同学们在下面的横线上，填上你认为合适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嘎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胖墩儿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81080" y="622440"/>
            <a:ext cx="20872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我的课堂我做主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95480" y="5178600"/>
            <a:ext cx="74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聪明、诚实、活泼、顽皮、灵活、机敏、沉稳、憨厚、调皮、老实、富有心计、争强好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278136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出描写精彩比赛的句段背一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3635280" y="1413000"/>
            <a:ext cx="18288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找一找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404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精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俩人把“枪”和“鞭”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在门墩上，各自虎势儿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公鸡鹐架似的对起阵来。起初，小嘎子精神抖擞，欺负对手傻大黑粗，动转不灵，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着他猴儿似的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蹦来蹦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总想使巧招，下冷绊子，仿佛很占了上风。可是胖墩儿也是个摔跤的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惯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着腰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了裆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着眼珠子，不露一点儿破绽。两个人走马灯似的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了三四圈，终于三抓两挠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在了一起。这一来，小嘎子可上了当了：小胖墩膀大腰粗，一身牛劲儿，任你怎样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推拉拽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硬是扳不动他。小嘎子已有些沉不住气，刚想用脚腕子去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他的腿，不料反给他把脚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住了。胖墩儿趁势往旁侧里一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咕咚一声，小嘎子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了个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黑体"/>
              </a:rPr>
              <a:t>仰面朝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6360" y="2852640"/>
            <a:ext cx="8315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是抓住什么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492360" y="981000"/>
            <a:ext cx="18288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一想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093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势儿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儿似的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马灯似的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9640" y="476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900000" y="1413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作者主要抓住了人物的动作、神态、心理活动进行刻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00000" y="3429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　　这些描写丰富了人物性格，让读者好像看到了人物的动作。一个顽皮、机敏、争强好胜、富于心计的小嘎子仿佛就站在我们眼前，栩栩如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39640" y="2637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本文的学习，我知道了描写人物的方法有（           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68360" y="765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421080" y="333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课堂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84360" y="1413000"/>
            <a:ext cx="651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多音字组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嘎                                     似                                  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332000" y="1844640"/>
            <a:ext cx="75960" cy="647640"/>
          </a:xfrm>
          <a:custGeom>
            <a:avLst/>
            <a:gdLst>
              <a:gd name="textAreaLeft" fmla="*/ 48600 w 75960"/>
              <a:gd name="textAreaRight" fmla="*/ 76320 w 759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924360" y="1844640"/>
            <a:ext cx="76320" cy="647640"/>
          </a:xfrm>
          <a:custGeom>
            <a:avLst/>
            <a:gdLst>
              <a:gd name="textAreaLeft" fmla="*/ 48960 w 76320"/>
              <a:gd name="textAreaRight" fmla="*/ 76320 w 763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588000" y="1844640"/>
            <a:ext cx="76320" cy="647640"/>
          </a:xfrm>
          <a:custGeom>
            <a:avLst/>
            <a:gdLst>
              <a:gd name="textAreaLeft" fmla="*/ 48960 w 76320"/>
              <a:gd name="textAreaRight" fmla="*/ 76320 w 763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55640" y="2997360"/>
            <a:ext cx="666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形近字组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绽（       ）      膀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     )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扳（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裆 （       ）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淀（       ）      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     )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板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       )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档 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044720" y="3429000"/>
            <a:ext cx="75960" cy="863640"/>
          </a:xfrm>
          <a:custGeom>
            <a:avLst/>
            <a:gdLst>
              <a:gd name="textAreaLeft" fmla="*/ 48600 w 75960"/>
              <a:gd name="textAreaRight" fmla="*/ 76320 w 759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6012000" y="3429000"/>
            <a:ext cx="144360" cy="9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213080" y="335772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2771640" y="3429000"/>
            <a:ext cx="76320" cy="863640"/>
          </a:xfrm>
          <a:custGeom>
            <a:avLst/>
            <a:gdLst>
              <a:gd name="textAreaLeft" fmla="*/ 48960 w 76320"/>
              <a:gd name="textAreaRight" fmla="*/ 76320 w 763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936720" y="4591080"/>
            <a:ext cx="73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小嘎子和胖墩儿比赛摔跤》片段，主要是通过人物的‗‗‗‗‗‗‗和‗‗‗‗‗‗的描写，突出了小嘎子‗‗‗‗‗‗‗‗‗‗‗‗‗‗‗‗‗‗‗‗‗‗‗‗的性格特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755640" y="765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WordArt 4" descr=""/>
          <p:cNvPicPr/>
          <p:nvPr/>
        </p:nvPicPr>
        <p:blipFill>
          <a:blip r:embed="rId2"/>
          <a:stretch/>
        </p:blipFill>
        <p:spPr>
          <a:xfrm>
            <a:off x="828720" y="933480"/>
            <a:ext cx="1933560" cy="1176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403280" y="26370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挥你的想象，运用人物描写的方法，尝试把小嘎子他们第二次摔跤的情景写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755640" y="76500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826920" y="1413000"/>
            <a:ext cx="7705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挥想象，运用动作描写的方法，写出第二次摔跤的情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就来！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摔跤开始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258920" y="4724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95280" y="1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嘎子和胖墩儿比赛摔跤（第二回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就来！”第二次摔跤开始了。小嘎子想了许久。胖墩儿见小嘎子正在想东西，于是就放松了警惕，自个儿想别的去了。谁知小嘎子趁机把脚往胖墩儿的大腿上一踢，给胖墩儿踢了个趔趄，还来了个防不胜防。小嘎子心想：给你胖墩儿来个下马威，看你还能不能把我打赢，哼！胖墩儿迟钝了一下，见形势不对，心想：就凭你这两下子想把我摔赢，想都别想。他拼尽了全身力气，和小嘎子互相顶撞起来，两人互不相让。小嘎子边顶，还边想：胖墩儿，我是一定不会输给你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95280" y="189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正想着，小嘎子突然觉得自己飘起来了，他往下一看，原来是胖墩儿把自己提在半空中了。小嘎子越想越气，用胳膊肘往胖墩儿的肚子上一顶，胖墩儿一松手，小嘎子就摔在了泥地上。两人，一个揉了揉肚子，一个搓了搓摔疼的屁股。不一会儿，又揪在一起了。胖墩儿使出了浑身的力气，就是站在那里不动，任凭小嘎子用什么办法。胖墩儿叉着腰，心想：我就是不动，看你能把我怎么着。小嘎子觉得这样斗不过胖墩儿，两只眼睛滴溜溜地转。这时，只见小嘎子抱住胖墩儿的腰，往他那肥肥的手上一咬，“啊！”胖墩儿松开手，摔倒在地上。小嘎子兴奋地跳了起来，这一回合，小嘎子巧胜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U105P28T3D8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179" name="WordArt 3" descr=""/>
          <p:cNvPicPr/>
          <p:nvPr/>
        </p:nvPicPr>
        <p:blipFill>
          <a:blip r:embed="rId2"/>
          <a:stretch/>
        </p:blipFill>
        <p:spPr>
          <a:xfrm>
            <a:off x="1189080" y="85680"/>
            <a:ext cx="2670120" cy="1036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250920" y="2205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以阅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兵张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或观看这部电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258511_0901520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182" name="WordArt 3" descr=""/>
          <p:cNvPicPr/>
          <p:nvPr/>
        </p:nvPicPr>
        <p:blipFill>
          <a:blip r:embed="rId2"/>
          <a:stretch/>
        </p:blipFill>
        <p:spPr>
          <a:xfrm>
            <a:off x="743040" y="895320"/>
            <a:ext cx="5676840" cy="854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11280" y="3933720"/>
            <a:ext cx="5976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临死前的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严监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333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小学语文五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763640" y="2924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（之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新购再版老连环画《儒林外史》封面欣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916280"/>
            <a:ext cx="3622680" cy="4647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儒林外史汇校汇评本（平）的封面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04640"/>
            <a:ext cx="3313080" cy="2953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258920" y="3860640"/>
            <a:ext cx="367344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儒林外史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代作家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吴敬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6514617"/>
          <p:cNvPicPr/>
          <p:nvPr/>
        </p:nvPicPr>
        <p:blipFill>
          <a:blip r:embed="rId1"/>
          <a:stretch/>
        </p:blipFill>
        <p:spPr>
          <a:xfrm>
            <a:off x="-250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124000" y="83664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音辨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2637000"/>
            <a:ext cx="12967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监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 flipV="1">
            <a:off x="1763640" y="2781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763640" y="3284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484360" y="2276640"/>
            <a:ext cx="554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ān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监考）（监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àn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监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627280" y="189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前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26920" y="1268280"/>
            <a:ext cx="676944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严监生是我国古典讽刺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儒林外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一个人物。在这部小说里，作家吴敬梓用讽刺的手法，描写了封建社会读书人对功名的追求，以及他们的生活状况。在小说里，严监生是一个很有钱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258511_0901520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3" descr=""/>
          <p:cNvPicPr/>
          <p:nvPr/>
        </p:nvPicPr>
        <p:blipFill>
          <a:blip r:embed="rId2"/>
          <a:stretch/>
        </p:blipFill>
        <p:spPr>
          <a:xfrm>
            <a:off x="743040" y="895320"/>
            <a:ext cx="5676840" cy="854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611280" y="3789360"/>
            <a:ext cx="5976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小嘎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胖墩儿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比赛摔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84360" y="33336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小学语文五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24000" y="28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24000" y="2781360"/>
            <a:ext cx="287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（之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116000" y="98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55640" y="620640"/>
            <a:ext cx="691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家有十多万两银子，钱过百斗，米烂陈仓，僮仆成群，牛马成行，良田万亩，铺面二十多间，经营典当，每日收入少有几百两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摘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儒林外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1116000" y="98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55640" y="620640"/>
            <a:ext cx="6912000" cy="13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95280" y="836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是一篇古代白话文，它和我们现代汉语的表达方式和用语言习惯不太一样，可能比较拗口。现在就请同学们放声读一读课文，注意读正确，读流畅！把难读、难懂的地方多读几遍，看看注释或查查工具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541440" y="1052640"/>
            <a:ext cx="323856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i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黑体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严  监  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156360" y="5392800"/>
            <a:ext cx="280836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黑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郎 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2637000"/>
            <a:ext cx="374508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ji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监  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140360" y="907920"/>
            <a:ext cx="403200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ă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声不倒一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643280" y="2565360"/>
            <a:ext cx="16574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黑体"/>
              </a:rPr>
              <a:t>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倒 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851280" y="5373720"/>
            <a:ext cx="26654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黑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吐 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68360" y="5300640"/>
            <a:ext cx="280836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侄   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61128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我会读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12"/>
          <p:cNvSpPr/>
          <p:nvPr/>
        </p:nvSpPr>
        <p:spPr>
          <a:xfrm flipH="1" flipV="1">
            <a:off x="1135800" y="2650320"/>
            <a:ext cx="214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4365720"/>
            <a:ext cx="734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诸亲六眷  穿梭   挑断一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52360" y="16794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文中称男孩子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称中医的医生为（     ），又叫（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所有的亲戚，叫  （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立即、马上叫（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来回跑叫（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插嘴叫（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因此、所以叫（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一根灯芯叫（　　　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牵挂、惦记叫（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404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08000" y="404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4"/>
                </a:solidFill>
                <a:latin typeface="Arial"/>
              </a:rPr>
              <a:t>诸亲六眷　郎中　哥子　医家　监生　穿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茎灯草　</a:t>
            </a:r>
            <a:r>
              <a:rPr b="1" lang="zh-CN" sz="3600" spc="-1" strike="noStrike">
                <a:solidFill>
                  <a:srgbClr val="000404"/>
                </a:solidFill>
                <a:latin typeface="Arial"/>
              </a:rPr>
              <a:t>插口     记念     登时     故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6728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40360" y="2205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郎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7502400" y="220500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500720" y="2787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诸亲六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635280" y="32925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登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916360" y="38671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穿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33680" y="44434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3564000" y="62164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记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3708360" y="494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故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276720" y="551664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茎灯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5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自读课文，想象画面，请把你脑海中浮现的严监生的形象介绍给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817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、他骨瘦如柴，气息奄奄地躺在病床上，望着两茎灯草，死不瞑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24000" y="3933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他不停地咳嗽，喉咙里的痰响得一声接一声，对于家人不着边儿的回答，他心里急得不得了，可又说不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自读课文，想象画面，请把你脑海中浮现的严监生的形象介绍给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39640" y="191628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严监生的脸干瘪干瘪的，一双眼睛竭力睁得滴溜溜的圆，望见床旁的烛台，使尽浑身的气力伸出两根手指，看见大家都不了解他的心思，他气得一声连一声地咳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8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体会句子，感悟严监生的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吝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7850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严监生喉咙里痰响得一进一出……摇了两三摇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1280" y="292428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读了这三句话，你能想到用哪些成语来形容严监生此时的病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900000" y="4724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奄奄一息、生命垂危、危在旦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6"/>
          <p:cNvSpPr/>
          <p:nvPr/>
        </p:nvSpPr>
        <p:spPr>
          <a:xfrm>
            <a:off x="539640" y="981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这三句话中，有几个关于严监生动作的描写，画出来，说说你从中体会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11280" y="335772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黑体"/>
              </a:rPr>
              <a:t>（两根灯芯，竟然让临死前的严监生把手从被单里拿出来，伸着两个指头。两根灯草在他的心中是这么的重要，可见他是多么吝啬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2"/>
          <p:cNvSpPr txBox="1"/>
          <p:nvPr/>
        </p:nvSpPr>
        <p:spPr>
          <a:xfrm>
            <a:off x="539640" y="476280"/>
            <a:ext cx="244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精彩回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341360"/>
          <a:ext cx="8713800" cy="4722840"/>
        </p:xfrm>
        <a:graphic>
          <a:graphicData uri="http://schemas.openxmlformats.org/drawingml/2006/table">
            <a:tbl>
              <a:tblPr/>
              <a:tblGrid>
                <a:gridCol w="1297080"/>
                <a:gridCol w="4824360"/>
                <a:gridCol w="2592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诸亲六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诸亲六眷的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严监生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WordArt 29"/>
          <p:cNvSpPr txBox="1"/>
          <p:nvPr/>
        </p:nvSpPr>
        <p:spPr>
          <a:xfrm>
            <a:off x="468360" y="1989000"/>
            <a:ext cx="83016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侄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3" name="WordArt 30"/>
          <p:cNvSpPr txBox="1"/>
          <p:nvPr/>
        </p:nvSpPr>
        <p:spPr>
          <a:xfrm>
            <a:off x="468360" y="2852640"/>
            <a:ext cx="83016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侄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4" name="WordArt 31"/>
          <p:cNvSpPr txBox="1"/>
          <p:nvPr/>
        </p:nvSpPr>
        <p:spPr>
          <a:xfrm>
            <a:off x="468360" y="3645000"/>
            <a:ext cx="8301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奶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5" name="WordArt 32"/>
          <p:cNvSpPr txBox="1"/>
          <p:nvPr/>
        </p:nvSpPr>
        <p:spPr>
          <a:xfrm>
            <a:off x="468360" y="4869000"/>
            <a:ext cx="8301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赵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6" name="WordArt 33"/>
          <p:cNvSpPr txBox="1"/>
          <p:nvPr/>
        </p:nvSpPr>
        <p:spPr>
          <a:xfrm>
            <a:off x="1547640" y="1989000"/>
            <a:ext cx="47530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叔，你莫不是还有两个亲人不曾见面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7" name="WordArt 34"/>
          <p:cNvSpPr txBox="1"/>
          <p:nvPr/>
        </p:nvSpPr>
        <p:spPr>
          <a:xfrm>
            <a:off x="1619280" y="2637000"/>
            <a:ext cx="45385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叔，莫不是还有两笔银子在那里，不曾吩咐明白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8" name="WordArt 35"/>
          <p:cNvSpPr txBox="1"/>
          <p:nvPr/>
        </p:nvSpPr>
        <p:spPr>
          <a:xfrm>
            <a:off x="1547640" y="3716280"/>
            <a:ext cx="4680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老爷想是因两位舅爷不在跟前，故此记念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59" name="WordArt 36" descr=""/>
          <p:cNvPicPr/>
          <p:nvPr/>
        </p:nvPicPr>
        <p:blipFill>
          <a:blip r:embed="rId1"/>
          <a:stretch/>
        </p:blipFill>
        <p:spPr>
          <a:xfrm>
            <a:off x="1536840" y="4572000"/>
            <a:ext cx="4771800" cy="1170000"/>
          </a:xfrm>
          <a:prstGeom prst="rect">
            <a:avLst/>
          </a:prstGeom>
          <a:ln w="0">
            <a:noFill/>
          </a:ln>
        </p:spPr>
      </p:pic>
      <p:sp>
        <p:nvSpPr>
          <p:cNvPr id="260" name="WordArt 37"/>
          <p:cNvSpPr txBox="1"/>
          <p:nvPr/>
        </p:nvSpPr>
        <p:spPr>
          <a:xfrm>
            <a:off x="6804000" y="1916280"/>
            <a:ext cx="1841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他就把头摇了两三摇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1" name="WordArt 38"/>
          <p:cNvSpPr txBox="1"/>
          <p:nvPr/>
        </p:nvSpPr>
        <p:spPr>
          <a:xfrm>
            <a:off x="6300720" y="2421000"/>
            <a:ext cx="2519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他把两眼睁的滴溜圆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把头又狠狠摇了几摇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越发指得紧了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2" name="WordArt 39"/>
          <p:cNvSpPr txBox="1"/>
          <p:nvPr/>
        </p:nvSpPr>
        <p:spPr>
          <a:xfrm>
            <a:off x="6372360" y="3500280"/>
            <a:ext cx="25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他听了这话，把眼闭着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头，那手只是指着不动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3" name="WordArt 40"/>
          <p:cNvSpPr txBox="1"/>
          <p:nvPr/>
        </p:nvSpPr>
        <p:spPr>
          <a:xfrm>
            <a:off x="6443640" y="4724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点一点头，把手垂下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时就没了气。   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6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8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再读课文，找出文中几处动作神态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484280"/>
          <a:ext cx="9144000" cy="4522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25"/>
          <p:cNvSpPr/>
          <p:nvPr/>
        </p:nvSpPr>
        <p:spPr>
          <a:xfrm>
            <a:off x="0" y="206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与大侄子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239220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305928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伸着两个指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6084720" y="198900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把头摇了两三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0" y="292428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与二侄子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313200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越发指得紧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6156360" y="2781360"/>
            <a:ext cx="29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眼睁的滴溜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把头又狠狠摇了几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0" y="414972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与奶妈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3132000" y="393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那手只是指着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4"/>
          <p:cNvSpPr/>
          <p:nvPr/>
        </p:nvSpPr>
        <p:spPr>
          <a:xfrm>
            <a:off x="6227640" y="4221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把眼闭着摇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5"/>
          <p:cNvSpPr/>
          <p:nvPr/>
        </p:nvSpPr>
        <p:spPr>
          <a:xfrm>
            <a:off x="0" y="5084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与赵氏的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34800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点一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6084720" y="522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把手垂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徐光耀"/>
          <p:cNvPicPr/>
          <p:nvPr/>
        </p:nvPicPr>
        <p:blipFill>
          <a:blip r:embed="rId1"/>
          <a:stretch/>
        </p:blipFill>
        <p:spPr>
          <a:xfrm>
            <a:off x="0" y="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11280" y="836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24000" y="18223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徐光耀 生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，  河北雄县人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4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毕业于华北联合大学文学系，中国当代著名作家、电影编剧家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8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任河北省文联主席、党组书记。中篇小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兵张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同名电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分别获第二届全国优秀儿童文学奖创作一等奖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出版的个人回忆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昨夜西风凋碧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获第二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迅文学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564000" y="549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1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488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再读再悟，根据严监生的动作、神态猜测出他临死前的心理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的两个侄子哟，你们怎么就不明白你二叔的心思呢？你看那灯盏里的两茎灯草正燃着呢，该费了多少油啊！这哪里燃的是油啊，分明燃的都是银子呀！这样白白地糟蹋钱财，叫我如何断得了这口气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407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奶妈，亏你还在我家呆了这么多年，竟连我的这点儿心思都不懂，真是气死我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68360" y="5373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6600cc"/>
                </a:solidFill>
                <a:latin typeface="Verdana"/>
                <a:ea typeface="黑体"/>
              </a:rPr>
              <a:t>赵氏啊，到底还是你明白我的心思！挑掉一茎，这下我就放心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1116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如果此时你就站在他的床前，你有什么话想对他说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68360" y="220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严监生啊严监生，你太吝啬了！你那么有钱，竟为了两茎灯草而死不瞑目，唉，你真是可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68360" y="4005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严监生，你真是个守财奴，你爱财竟胜过自己的生命。为区区两茎灯草而眼不闭，气不咽，如此贪婪，真令人可恨又可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悟写作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者抓住严监生死前伸着两个指头总不得断气的动作、神态描写来突出严监生的内心活动。刻画了一个爱财胜过生命的守财奴形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116000" y="5516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这就是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抱元宝跳井</a:t>
            </a:r>
            <a:r>
              <a:rPr b="1" lang="en-US" sz="3600" spc="-1" strike="noStrike">
                <a:solidFill>
                  <a:srgbClr val="ff5050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舍命不舍财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8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5653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140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临死前的严监生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651640" y="206064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4211640" y="220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6012000" y="18446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守财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5280" y="2852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>
            <a:off x="1979640" y="2565360"/>
            <a:ext cx="172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54764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两个指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78800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4859280" y="2637000"/>
            <a:ext cx="19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867280" y="321300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两茎灯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84360" y="4005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1908000" y="3933720"/>
            <a:ext cx="935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724360" y="386064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 flipH="1">
            <a:off x="6011640" y="386064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411280" y="4653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淋漓尽致    入木三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2258511_090152035_2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312" name="WordArt 3" descr=""/>
          <p:cNvPicPr/>
          <p:nvPr/>
        </p:nvPicPr>
        <p:blipFill>
          <a:blip r:embed="rId2"/>
          <a:stretch/>
        </p:blipFill>
        <p:spPr>
          <a:xfrm>
            <a:off x="743040" y="895320"/>
            <a:ext cx="5676840" cy="8542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395280" y="4149720"/>
            <a:ext cx="62658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凤辣子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见</a:t>
            </a:r>
            <a:r>
              <a:rPr b="1" lang="zh-CN" sz="4800" spc="-1" strike="noStrike">
                <a:solidFill>
                  <a:srgbClr val="ff6600"/>
                </a:solidFill>
                <a:latin typeface="Arial"/>
              </a:rPr>
              <a:t>林黛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84360" y="33336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小学语文五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124000" y="28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124000" y="2781360"/>
            <a:ext cx="287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（之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IMG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WordArt 3"/>
          <p:cNvSpPr txBox="1"/>
          <p:nvPr/>
        </p:nvSpPr>
        <p:spPr>
          <a:xfrm>
            <a:off x="1403280" y="26028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华文行楷"/>
              </a:rPr>
              <a:t>“</a:t>
            </a:r>
            <a:r>
              <a:rPr b="0" lang="zh-CN" sz="54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华文行楷"/>
              </a:rPr>
              <a:t>凤辣子”初见林黛玉</a:t>
            </a:r>
            <a:endParaRPr b="0" lang="en-US" sz="5400" spc="1" strike="noStrike">
              <a:ln w="381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19" name="《枉凝眉》洞箫曲.mp3" descr=""/>
          <p:cNvPicPr/>
          <p:nvPr/>
        </p:nvPicPr>
        <p:blipFill>
          <a:blip r:embed="rId2"/>
          <a:stretch/>
        </p:blipFill>
        <p:spPr>
          <a:xfrm>
            <a:off x="7451640" y="642636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163780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348000" y="33336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曹雪芹，名霑，字梦阮。他的一生经历了曹家由兴盛到衰败的过程，早年他过着豪华的公子生活，晚年却穷困潦倒，卖画度日，生活于贫困之中。这种天壤之别的生活变化，促使曹雪芹深刻地思考自己的经历，对社会上种种黑暗产生了不满，这就为创作《红楼梦》打下了基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cxq"/>
          <p:cNvPicPr/>
          <p:nvPr/>
        </p:nvPicPr>
        <p:blipFill>
          <a:blip r:embed="rId1"/>
          <a:stretch/>
        </p:blipFill>
        <p:spPr>
          <a:xfrm>
            <a:off x="179280" y="0"/>
            <a:ext cx="331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200651915611323"/>
          <p:cNvPicPr/>
          <p:nvPr/>
        </p:nvPicPr>
        <p:blipFill>
          <a:blip r:embed="rId1"/>
          <a:stretch/>
        </p:blipFill>
        <p:spPr>
          <a:xfrm>
            <a:off x="8267760" y="5013360"/>
            <a:ext cx="876240" cy="16952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3995640" y="476280"/>
            <a:ext cx="4897440" cy="6426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雪芹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楼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国古代四大名著之一，全书以男女主角贾宝玉和林黛玉的爱情悲剧为主要线索，塑造几百位性格鲜明的人物形象。通过贾家荣宁两府的兴衰败落，表现了社会生活的各个方面，被喻为中国古代的百科全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2880000" cy="568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3132000" y="1341360"/>
            <a:ext cx="64800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5_117575_7ef9b7ba74d0f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3276720" y="54936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楼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又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石头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是一部具有高度思想性和艺术性的伟大作品，在我国文学史和世界文学史上都占有重要的地位。揭露了封建统治阶级的罪恶和腐朽本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揭示了封建社会必然崩溃的历史发展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250920" y="2168280"/>
            <a:ext cx="8712000" cy="2378160"/>
          </a:xfrm>
          <a:prstGeom prst="rect">
            <a:avLst/>
          </a:prstGeom>
          <a:solidFill>
            <a:srgbClr val="80808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楼梦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的是一个大家族。这个家族的祖先曾随皇帝出过兵，兄弟二人都受封国公爵位。哥哥贾演封宁国公，弟弟贾源封荣国公，两家府第相连，就叫了宁国府和荣国府。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楼梦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篇时，第一代人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演、贾源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二代人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代化、贾代善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</a:t>
            </a: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已过世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只有贾代善的妻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贾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在。如今虽年事已高，把家政交给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儿媳王夫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孙媳妇王熙凤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，自己只带着孙儿辈寻开心，享清福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宁荣二府中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握有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高无上的权力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贾府的老祖宗贾母有两个儿子名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贾赦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贾政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个女儿名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贾敏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贾敏嫁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林如海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只有一个独生女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林黛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林黛玉母亲因病去世，外祖母想到黛玉年纪小没有人照顾，就派人把黛玉接进贾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文介绍的就是林黛玉初进贾府，王熙凤与其见面的情景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xsgs1-003"/>
          <p:cNvPicPr/>
          <p:nvPr/>
        </p:nvPicPr>
        <p:blipFill>
          <a:blip r:embed="rId1"/>
          <a:stretch/>
        </p:blipFill>
        <p:spPr>
          <a:xfrm>
            <a:off x="8459640" y="4952880"/>
            <a:ext cx="857520" cy="19051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U2398P28T3D2401870F329DT20090304155729"/>
          <p:cNvPicPr/>
          <p:nvPr/>
        </p:nvPicPr>
        <p:blipFill>
          <a:blip r:embed="rId1"/>
          <a:stretch/>
        </p:blipFill>
        <p:spPr>
          <a:xfrm>
            <a:off x="0" y="333360"/>
            <a:ext cx="4284720" cy="566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01300000042656121774376536720"/>
          <p:cNvPicPr/>
          <p:nvPr/>
        </p:nvPicPr>
        <p:blipFill>
          <a:blip r:embed="rId2"/>
          <a:stretch/>
        </p:blipFill>
        <p:spPr>
          <a:xfrm>
            <a:off x="4357800" y="333360"/>
            <a:ext cx="4570200" cy="5616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59500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小嘎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435640" y="602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胖墩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1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2" name="Line 2"/>
          <p:cNvSpPr/>
          <p:nvPr/>
        </p:nvSpPr>
        <p:spPr>
          <a:xfrm>
            <a:off x="4419720" y="1295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4267080" y="1295280"/>
            <a:ext cx="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3124080" y="1600200"/>
            <a:ext cx="25146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3657600" y="1600200"/>
            <a:ext cx="152388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362320" y="2286000"/>
            <a:ext cx="914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贾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962520" y="2286000"/>
            <a:ext cx="914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贾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5410080" y="2286000"/>
            <a:ext cx="9144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贾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286000" y="2895480"/>
            <a:ext cx="99072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邢夫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5334120" y="2895480"/>
            <a:ext cx="9903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林如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3962520" y="2895480"/>
            <a:ext cx="9903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王夫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4343400" y="3657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2133720" y="4952880"/>
            <a:ext cx="457200" cy="1008720"/>
          </a:xfrm>
          <a:prstGeom prst="rect">
            <a:avLst/>
          </a:prstGeom>
          <a:solidFill>
            <a:srgbClr val="ccffff"/>
          </a:soli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王熙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2819520" y="4191120"/>
            <a:ext cx="45720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99"/>
                </a:solidFill>
                <a:latin typeface="Arial"/>
              </a:rPr>
              <a:t>贾迎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33720" y="3276720"/>
            <a:ext cx="2743200" cy="1923120"/>
            <a:chOff x="2133720" y="3276720"/>
            <a:chExt cx="2743200" cy="1923120"/>
          </a:xfrm>
        </p:grpSpPr>
        <p:grpSp>
          <p:nvGrpSpPr>
            <p:cNvPr id="346" name=""/>
            <p:cNvGrpSpPr/>
            <p:nvPr/>
          </p:nvGrpSpPr>
          <p:grpSpPr>
            <a:xfrm>
              <a:off x="2286000" y="3276720"/>
              <a:ext cx="914400" cy="914400"/>
              <a:chOff x="2286000" y="3276720"/>
              <a:chExt cx="914400" cy="914400"/>
            </a:xfrm>
          </p:grpSpPr>
          <p:sp>
            <p:nvSpPr>
              <p:cNvPr id="347" name="Line 17"/>
              <p:cNvSpPr/>
              <p:nvPr/>
            </p:nvSpPr>
            <p:spPr>
              <a:xfrm>
                <a:off x="2362320" y="3657600"/>
                <a:ext cx="761760" cy="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8"/>
              <p:cNvSpPr/>
              <p:nvPr/>
            </p:nvSpPr>
            <p:spPr>
              <a:xfrm>
                <a:off x="2743200" y="3276720"/>
                <a:ext cx="0" cy="380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19"/>
              <p:cNvSpPr/>
              <p:nvPr/>
            </p:nvSpPr>
            <p:spPr>
              <a:xfrm>
                <a:off x="2971800" y="3657600"/>
                <a:ext cx="228600" cy="533520"/>
              </a:xfrm>
              <a:prstGeom prst="downArrow">
                <a:avLst>
                  <a:gd name="adj1" fmla="val 50000"/>
                  <a:gd name="adj2" fmla="val 58346"/>
                </a:avLst>
              </a:prstGeom>
              <a:solidFill>
                <a:srgbClr val="bbe0e3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0"/>
              <p:cNvSpPr/>
              <p:nvPr/>
            </p:nvSpPr>
            <p:spPr>
              <a:xfrm>
                <a:off x="2286000" y="3657600"/>
                <a:ext cx="228600" cy="533520"/>
              </a:xfrm>
              <a:prstGeom prst="downArrow">
                <a:avLst>
                  <a:gd name="adj1" fmla="val 50000"/>
                  <a:gd name="adj2" fmla="val 58346"/>
                </a:avLst>
              </a:prstGeom>
              <a:solidFill>
                <a:srgbClr val="bbe0e3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21"/>
            <p:cNvSpPr/>
            <p:nvPr/>
          </p:nvSpPr>
          <p:spPr>
            <a:xfrm>
              <a:off x="2133720" y="4191120"/>
              <a:ext cx="457200" cy="70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66cc"/>
                  </a:solidFill>
                  <a:latin typeface="Arial"/>
                </a:rPr>
                <a:t>贾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810240" y="3276720"/>
              <a:ext cx="1066680" cy="1923120"/>
              <a:chOff x="3810240" y="3276720"/>
              <a:chExt cx="1066680" cy="1923120"/>
            </a:xfrm>
          </p:grpSpPr>
          <p:sp>
            <p:nvSpPr>
              <p:cNvPr id="353" name="Text Box 23"/>
              <p:cNvSpPr/>
              <p:nvPr/>
            </p:nvSpPr>
            <p:spPr>
              <a:xfrm>
                <a:off x="3810240" y="4191120"/>
                <a:ext cx="457200" cy="1008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66cc"/>
                    </a:solidFill>
                    <a:latin typeface="Arial"/>
                  </a:rPr>
                  <a:t>贾宝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962520" y="3276720"/>
                <a:ext cx="914400" cy="914400"/>
                <a:chOff x="3962520" y="3276720"/>
                <a:chExt cx="914400" cy="914400"/>
              </a:xfrm>
            </p:grpSpPr>
            <p:sp>
              <p:nvSpPr>
                <p:cNvPr id="355" name="Line 25"/>
                <p:cNvSpPr/>
                <p:nvPr/>
              </p:nvSpPr>
              <p:spPr>
                <a:xfrm>
                  <a:off x="4038840" y="3657600"/>
                  <a:ext cx="761760" cy="0"/>
                </a:xfrm>
                <a:prstGeom prst="line">
                  <a:avLst/>
                </a:prstGeom>
                <a:ln w="7632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26"/>
                <p:cNvSpPr/>
                <p:nvPr/>
              </p:nvSpPr>
              <p:spPr>
                <a:xfrm>
                  <a:off x="4419720" y="3276720"/>
                  <a:ext cx="0" cy="380880"/>
                </a:xfrm>
                <a:prstGeom prst="line">
                  <a:avLst/>
                </a:prstGeom>
                <a:ln w="7632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27"/>
                <p:cNvSpPr/>
                <p:nvPr/>
              </p:nvSpPr>
              <p:spPr>
                <a:xfrm>
                  <a:off x="4648320" y="3657600"/>
                  <a:ext cx="228600" cy="533520"/>
                </a:xfrm>
                <a:prstGeom prst="downArrow">
                  <a:avLst>
                    <a:gd name="adj1" fmla="val 50000"/>
                    <a:gd name="adj2" fmla="val 58346"/>
                  </a:avLst>
                </a:prstGeom>
                <a:solidFill>
                  <a:srgbClr val="bbe0e3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28"/>
                <p:cNvSpPr/>
                <p:nvPr/>
              </p:nvSpPr>
              <p:spPr>
                <a:xfrm>
                  <a:off x="3962520" y="3657600"/>
                  <a:ext cx="228600" cy="533520"/>
                </a:xfrm>
                <a:prstGeom prst="downArrow">
                  <a:avLst>
                    <a:gd name="adj1" fmla="val 50000"/>
                    <a:gd name="adj2" fmla="val 58346"/>
                  </a:avLst>
                </a:prstGeom>
                <a:solidFill>
                  <a:srgbClr val="bbe0e3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9" name=""/>
          <p:cNvGrpSpPr/>
          <p:nvPr/>
        </p:nvGrpSpPr>
        <p:grpSpPr>
          <a:xfrm>
            <a:off x="5638680" y="3352680"/>
            <a:ext cx="457200" cy="1846800"/>
            <a:chOff x="5638680" y="3352680"/>
            <a:chExt cx="457200" cy="1846800"/>
          </a:xfrm>
        </p:grpSpPr>
        <p:sp>
          <p:nvSpPr>
            <p:cNvPr id="360" name="AutoShape 30"/>
            <p:cNvSpPr/>
            <p:nvPr/>
          </p:nvSpPr>
          <p:spPr>
            <a:xfrm>
              <a:off x="5715000" y="335268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31"/>
            <p:cNvSpPr/>
            <p:nvPr/>
          </p:nvSpPr>
          <p:spPr>
            <a:xfrm>
              <a:off x="5638680" y="4190760"/>
              <a:ext cx="457200" cy="100872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林黛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32"/>
          <p:cNvSpPr/>
          <p:nvPr/>
        </p:nvSpPr>
        <p:spPr>
          <a:xfrm>
            <a:off x="4724280" y="4191120"/>
            <a:ext cx="45720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99"/>
                </a:solidFill>
                <a:latin typeface="Arial"/>
              </a:rPr>
              <a:t>贾探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4267080" y="4191120"/>
            <a:ext cx="45720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99"/>
                </a:solidFill>
                <a:latin typeface="Arial"/>
              </a:rPr>
              <a:t>贾元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3635280" y="189000"/>
            <a:ext cx="160020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荣国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743200" y="1143000"/>
            <a:ext cx="3200400" cy="1143000"/>
            <a:chOff x="2743200" y="1143000"/>
            <a:chExt cx="3200400" cy="1143000"/>
          </a:xfrm>
        </p:grpSpPr>
        <p:sp>
          <p:nvSpPr>
            <p:cNvPr id="366" name="AutoShape 36"/>
            <p:cNvSpPr/>
            <p:nvPr/>
          </p:nvSpPr>
          <p:spPr>
            <a:xfrm>
              <a:off x="4267080" y="1143000"/>
              <a:ext cx="228600" cy="1143000"/>
            </a:xfrm>
            <a:prstGeom prst="down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5715000" y="1752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bbe0e3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8"/>
            <p:cNvSpPr/>
            <p:nvPr/>
          </p:nvSpPr>
          <p:spPr>
            <a:xfrm>
              <a:off x="2819520" y="1752480"/>
              <a:ext cx="3047760" cy="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39"/>
            <p:cNvSpPr/>
            <p:nvPr/>
          </p:nvSpPr>
          <p:spPr>
            <a:xfrm>
              <a:off x="2743200" y="1752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bbe0e3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40"/>
          <p:cNvSpPr/>
          <p:nvPr/>
        </p:nvSpPr>
        <p:spPr>
          <a:xfrm>
            <a:off x="3809880" y="838080"/>
            <a:ext cx="12193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20051230101918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b22e633c518680f73c6d9765"/>
          <p:cNvPicPr/>
          <p:nvPr/>
        </p:nvPicPr>
        <p:blipFill>
          <a:blip r:embed="rId2"/>
          <a:stretch/>
        </p:blipFill>
        <p:spPr>
          <a:xfrm>
            <a:off x="324000" y="907920"/>
            <a:ext cx="4032000" cy="4826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900000" y="595008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042920" y="5877000"/>
            <a:ext cx="208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贾宝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7" descr="1a5ab234e04d57a4d1a2d366"/>
          <p:cNvPicPr/>
          <p:nvPr/>
        </p:nvPicPr>
        <p:blipFill>
          <a:blip r:embed="rId3"/>
          <a:stretch/>
        </p:blipFill>
        <p:spPr>
          <a:xfrm>
            <a:off x="4572000" y="907920"/>
            <a:ext cx="4248000" cy="482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8"/>
          <p:cNvSpPr/>
          <p:nvPr/>
        </p:nvSpPr>
        <p:spPr>
          <a:xfrm>
            <a:off x="5724360" y="609300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50872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林黛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20051230101918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8917307"/>
          <p:cNvPicPr/>
          <p:nvPr/>
        </p:nvPicPr>
        <p:blipFill>
          <a:blip r:embed="rId2"/>
          <a:stretch/>
        </p:blipFill>
        <p:spPr>
          <a:xfrm>
            <a:off x="0" y="981000"/>
            <a:ext cx="3132000" cy="475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167b1cdc1ed5a5c08c10296d"/>
          <p:cNvPicPr/>
          <p:nvPr/>
        </p:nvPicPr>
        <p:blipFill>
          <a:blip r:embed="rId3"/>
          <a:stretch/>
        </p:blipFill>
        <p:spPr>
          <a:xfrm>
            <a:off x="3132000" y="981000"/>
            <a:ext cx="3240360" cy="47530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6300720" y="5805360"/>
            <a:ext cx="14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ca7fe31672da4513c83d6d9c"/>
          <p:cNvPicPr/>
          <p:nvPr/>
        </p:nvPicPr>
        <p:blipFill>
          <a:blip r:embed="rId4"/>
          <a:stretch/>
        </p:blipFill>
        <p:spPr>
          <a:xfrm>
            <a:off x="6300720" y="981000"/>
            <a:ext cx="2843280" cy="47545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8"/>
          <p:cNvSpPr/>
          <p:nvPr/>
        </p:nvSpPr>
        <p:spPr>
          <a:xfrm>
            <a:off x="61128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迎春           贾探春           贾惜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20051230101918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10b6d318a2ad1160dbb4bddc"/>
          <p:cNvPicPr/>
          <p:nvPr/>
        </p:nvPicPr>
        <p:blipFill>
          <a:blip r:embed="rId2"/>
          <a:stretch/>
        </p:blipFill>
        <p:spPr>
          <a:xfrm>
            <a:off x="395280" y="692280"/>
            <a:ext cx="6624720" cy="53290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7956720" y="494172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贾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2" descr="王熙凤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179280" y="47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自读课文，思考下列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20060905030523723"/>
          <p:cNvPicPr/>
          <p:nvPr/>
        </p:nvPicPr>
        <p:blipFill>
          <a:blip r:embed="rId2"/>
          <a:stretch/>
        </p:blipFill>
        <p:spPr>
          <a:xfrm>
            <a:off x="6640560" y="1700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20060905030523723"/>
          <p:cNvPicPr/>
          <p:nvPr/>
        </p:nvPicPr>
        <p:blipFill>
          <a:blip r:embed="rId3"/>
          <a:stretch/>
        </p:blipFill>
        <p:spPr>
          <a:xfrm>
            <a:off x="6156360" y="278136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20060905030523723"/>
          <p:cNvPicPr/>
          <p:nvPr/>
        </p:nvPicPr>
        <p:blipFill>
          <a:blip r:embed="rId4"/>
          <a:stretch/>
        </p:blipFill>
        <p:spPr>
          <a:xfrm>
            <a:off x="7956720" y="3716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20060905030523723"/>
          <p:cNvPicPr/>
          <p:nvPr/>
        </p:nvPicPr>
        <p:blipFill>
          <a:blip r:embed="rId5"/>
          <a:stretch/>
        </p:blipFill>
        <p:spPr>
          <a:xfrm>
            <a:off x="6877080" y="4724280"/>
            <a:ext cx="360360" cy="2066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3"/>
          <p:cNvSpPr/>
          <p:nvPr/>
        </p:nvSpPr>
        <p:spPr>
          <a:xfrm>
            <a:off x="611280" y="198900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将课文读通读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借助注释，读懂文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“凤辣子”给你留下了怎样的第一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539640" y="90792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罕    标致    打量    拭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539640" y="206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妃仙子  彩绣辉煌  放诞无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611280" y="4869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儿   泼皮破落户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539640" y="342900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悲为喜  敛声屏气  恭肃严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132000" y="33336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2005123010191869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324000" y="620640"/>
            <a:ext cx="8820000" cy="9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人打扮与众姑娘不同，彩绣辉煌，恍若神妃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仙子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头上戴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金丝八宝∕攒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珠髻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绾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á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阳五凤∕挂珠钗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项下戴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赤金盘螭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∕璎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珞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圈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裙边系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豆绿宫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āo) 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双鱼比目∕玫瑰佩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身上穿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缕金百蝶∕穿花大红洋缎∕窄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外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五彩刻丝∕石青银鼠褂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下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∕翡翠撒花∕洋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王熙凤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3"/>
          <p:cNvSpPr/>
          <p:nvPr/>
        </p:nvSpPr>
        <p:spPr>
          <a:xfrm>
            <a:off x="179280" y="476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交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20060905030523723"/>
          <p:cNvPicPr/>
          <p:nvPr/>
        </p:nvPicPr>
        <p:blipFill>
          <a:blip r:embed="rId2"/>
          <a:stretch/>
        </p:blipFill>
        <p:spPr>
          <a:xfrm>
            <a:off x="6640560" y="1700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20060905030523723"/>
          <p:cNvPicPr/>
          <p:nvPr/>
        </p:nvPicPr>
        <p:blipFill>
          <a:blip r:embed="rId3"/>
          <a:stretch/>
        </p:blipFill>
        <p:spPr>
          <a:xfrm>
            <a:off x="6156360" y="278136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20060905030523723"/>
          <p:cNvPicPr/>
          <p:nvPr/>
        </p:nvPicPr>
        <p:blipFill>
          <a:blip r:embed="rId4"/>
          <a:stretch/>
        </p:blipFill>
        <p:spPr>
          <a:xfrm>
            <a:off x="7956720" y="3716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20060905030523723"/>
          <p:cNvPicPr/>
          <p:nvPr/>
        </p:nvPicPr>
        <p:blipFill>
          <a:blip r:embed="rId5"/>
          <a:stretch/>
        </p:blipFill>
        <p:spPr>
          <a:xfrm>
            <a:off x="6877080" y="4724280"/>
            <a:ext cx="360360" cy="2066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8"/>
          <p:cNvSpPr/>
          <p:nvPr/>
        </p:nvSpPr>
        <p:spPr>
          <a:xfrm>
            <a:off x="611280" y="2565360"/>
            <a:ext cx="784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凤辣子”给你留下了怎样的第一印象？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468360" y="62064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语：王熙凤，是贾母的大儿子贾赦的儿子贾琏的妻子，贾母二儿子贾政的妻子王夫人的内侄女。长着一双丹凤三角眼，两弯柳叶吊梢眉，身量苗条，体格风骚。她精明强干，深得贾母和王夫人的信任，成为贾府的实际大管家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么，王熙凤具有怎样的性格特点呢？请同学们，再认真读课文，画出描写语言、外貌、动作的句子，仔细体会人物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"/>
          <p:cNvSpPr/>
          <p:nvPr/>
        </p:nvSpPr>
        <p:spPr>
          <a:xfrm>
            <a:off x="2916360" y="18900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品外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95280" y="1268280"/>
            <a:ext cx="8280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人打扮与众姑娘不同，彩绣辉煌，恍若神妃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仙子：头上戴着金丝八宝攒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珠髻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绾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着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á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阳五凤挂珠钗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；项下戴着赤金盘螭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璎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珞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圈；裙边系着豆绿宫绦双鱼比目玫瑰佩；身上穿着缕金百蝶穿花大红洋缎窄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袄，外罩五彩刻丝石青银鼠褂，下罩翡翠撒花洋绉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6430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00000" y="404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胖墩1"/>
          <p:cNvPicPr/>
          <p:nvPr/>
        </p:nvPicPr>
        <p:blipFill>
          <a:blip r:embed="rId2"/>
          <a:stretch/>
        </p:blipFill>
        <p:spPr>
          <a:xfrm>
            <a:off x="0" y="0"/>
            <a:ext cx="4356000" cy="544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小兵张嘎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544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403280" y="5661000"/>
            <a:ext cx="54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小嘎子和他的伙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人打扮与众姑娘不同，彩绣辉煌，恍若神妃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ēi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仙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头上戴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丝八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攒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á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髻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绾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wǎn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五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挂珠钗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i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项下戴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赤金盘螭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璎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īng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珞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u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裙边系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豆绿宫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o) 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鱼比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玫瑰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身上穿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缕金百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花大红洋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窄裉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彩刻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青银鼠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翡翠撒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洋绉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u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50920" y="558972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按从上到下的顺序介绍服饰，多而不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王熙凤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179280" y="476280"/>
            <a:ext cx="820908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容貌：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一双丹凤三角眼，两弯柳叶吊梢眉，身量苗条，体格风骚，粉面含春威不露，丹唇未启笑先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20060905030523723"/>
          <p:cNvPicPr/>
          <p:nvPr/>
        </p:nvPicPr>
        <p:blipFill>
          <a:blip r:embed="rId2"/>
          <a:stretch/>
        </p:blipFill>
        <p:spPr>
          <a:xfrm>
            <a:off x="6640560" y="1700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20060905030523723"/>
          <p:cNvPicPr/>
          <p:nvPr/>
        </p:nvPicPr>
        <p:blipFill>
          <a:blip r:embed="rId3"/>
          <a:stretch/>
        </p:blipFill>
        <p:spPr>
          <a:xfrm>
            <a:off x="6156360" y="278136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20060905030523723"/>
          <p:cNvPicPr/>
          <p:nvPr/>
        </p:nvPicPr>
        <p:blipFill>
          <a:blip r:embed="rId4"/>
          <a:stretch/>
        </p:blipFill>
        <p:spPr>
          <a:xfrm>
            <a:off x="7956720" y="371628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20060905030523723"/>
          <p:cNvPicPr/>
          <p:nvPr/>
        </p:nvPicPr>
        <p:blipFill>
          <a:blip r:embed="rId5"/>
          <a:stretch/>
        </p:blipFill>
        <p:spPr>
          <a:xfrm>
            <a:off x="6877080" y="4724280"/>
            <a:ext cx="360360" cy="2066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611280" y="2565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916360" y="3429000"/>
            <a:ext cx="3456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美中含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0" y="5877000"/>
            <a:ext cx="45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肖像描写的浓墨重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219640" y="5877000"/>
            <a:ext cx="39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貌似可喜，实则可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2"/>
          <p:cNvSpPr/>
          <p:nvPr/>
        </p:nvSpPr>
        <p:spPr>
          <a:xfrm>
            <a:off x="3780000" y="609300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"/>
          <p:cNvSpPr/>
          <p:nvPr/>
        </p:nvSpPr>
        <p:spPr>
          <a:xfrm>
            <a:off x="1441800" y="304920"/>
            <a:ext cx="1409400" cy="63244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两弯（　　　）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体格（　　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丹唇（　　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80080" y="304920"/>
            <a:ext cx="1409400" cy="63244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一双（　　　）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身量（　　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粉面（　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954360" y="304920"/>
            <a:ext cx="1896840" cy="63244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两弯柳叶吊梢眉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体格风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丹唇未启笑先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880080" y="304920"/>
            <a:ext cx="1409400" cy="63244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一双丹凤三角眼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身量苗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粉面含春威不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6588000" y="620640"/>
            <a:ext cx="86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我会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7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2"/>
          <p:cNvSpPr/>
          <p:nvPr/>
        </p:nvSpPr>
        <p:spPr>
          <a:xfrm>
            <a:off x="250920" y="5734080"/>
            <a:ext cx="3886200" cy="581400"/>
          </a:xfrm>
          <a:prstGeom prst="rect">
            <a:avLst/>
          </a:prstGeom>
          <a:solidFill>
            <a:srgbClr val="ff00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祖宗戏为“凤辣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4356000" y="5877000"/>
            <a:ext cx="936720" cy="288720"/>
          </a:xfrm>
          <a:prstGeom prst="rightArrow">
            <a:avLst>
              <a:gd name="adj1" fmla="val 50000"/>
              <a:gd name="adj2" fmla="val 81110"/>
            </a:avLst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5508720" y="5734080"/>
            <a:ext cx="316692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深受贾母宠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5"/>
          <p:cNvSpPr txBox="1"/>
          <p:nvPr/>
        </p:nvSpPr>
        <p:spPr>
          <a:xfrm>
            <a:off x="7308720" y="1557360"/>
            <a:ext cx="1224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受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宠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6" name="Picture 6" descr="20060905030523723"/>
          <p:cNvPicPr/>
          <p:nvPr/>
        </p:nvPicPr>
        <p:blipFill>
          <a:blip r:embed="rId2"/>
          <a:stretch/>
        </p:blipFill>
        <p:spPr>
          <a:xfrm>
            <a:off x="8604360" y="645336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王熙凤1"/>
          <p:cNvPicPr/>
          <p:nvPr/>
        </p:nvPicPr>
        <p:blipFill>
          <a:blip r:embed="rId3"/>
          <a:stretch/>
        </p:blipFill>
        <p:spPr>
          <a:xfrm>
            <a:off x="324000" y="26028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6" dur="3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1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284360" y="981000"/>
            <a:ext cx="4173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2323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dd2323"/>
                </a:solidFill>
                <a:latin typeface="楷体_GB2312"/>
                <a:ea typeface="楷体_GB2312"/>
              </a:rPr>
              <a:t>过渡：在《红楼梦》一书中，王熙凤被称为</a:t>
            </a:r>
            <a:r>
              <a:rPr b="1" lang="en-US" sz="4000" spc="-1" strike="noStrike">
                <a:solidFill>
                  <a:srgbClr val="dd2323"/>
                </a:solidFill>
                <a:latin typeface="Arial"/>
                <a:ea typeface="楷体_GB2312"/>
              </a:rPr>
              <a:t>“</a:t>
            </a:r>
            <a:r>
              <a:rPr b="1" lang="en-US" sz="4000" spc="-1" strike="noStrike">
                <a:solidFill>
                  <a:srgbClr val="dd2323"/>
                </a:solidFill>
                <a:latin typeface="楷体_GB2312"/>
                <a:ea typeface="楷体_GB2312"/>
              </a:rPr>
              <a:t>语言学家</a:t>
            </a:r>
            <a:r>
              <a:rPr b="1" lang="en-US" sz="4000" spc="-1" strike="noStrike">
                <a:solidFill>
                  <a:srgbClr val="dd2323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dd2323"/>
                </a:solidFill>
                <a:latin typeface="楷体_GB2312"/>
                <a:ea typeface="楷体_GB2312"/>
              </a:rPr>
              <a:t>，还善于察颜观色，下面就让咱们一起来领略一下她的说话艺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W020080704579169837401"/>
          <p:cNvPicPr/>
          <p:nvPr/>
        </p:nvPicPr>
        <p:blipFill>
          <a:blip r:embed="rId1"/>
          <a:stretch/>
        </p:blipFill>
        <p:spPr>
          <a:xfrm>
            <a:off x="-39528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8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WordArt 2"/>
          <p:cNvSpPr txBox="1"/>
          <p:nvPr/>
        </p:nvSpPr>
        <p:spPr>
          <a:xfrm>
            <a:off x="395280" y="189000"/>
            <a:ext cx="2665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隶书"/>
              </a:rPr>
              <a:t>课文探秘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隶书"/>
              <a:ea typeface="隶书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68360" y="1052640"/>
            <a:ext cx="7921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熙凤携着黛玉的手，上下细细的打量了一回，便仍送至贾母身边坐下，因笑道：“天下真有这样标致的人物，我今儿才算见了。况且这通身的气派，竟不像老祖宗的外孙女儿，竟是个嫡亲的孙女。怨不得老祖宗天天口头心头，一时不忘。只可怜我这妹妹这样命苦，怎么姑妈偏就去世了。”说着，便用帕拭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39640" y="2924280"/>
            <a:ext cx="7775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贾母笑道：“我才好了，你倒来招我。你妹妹远路才来，身子又弱，也才劝住了，快再休提前话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68360" y="3860640"/>
            <a:ext cx="7991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熙凤听了，忙转悲为喜道：“正是呢，我一见了妹妹，一心都在他身上了，又是喜欢，又是伤心，竟忘记了老祖宗，该打该打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68360" y="522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539640" y="4797360"/>
            <a:ext cx="7632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忙携黛玉之手，问：“妹妹几岁了？可也上过学？现吃什么药？在这里不要想家。要什么吃的，什么玩的，只管告诉我。丫头老婆们不好了，也只管告诉我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"/>
          <p:cNvSpPr/>
          <p:nvPr/>
        </p:nvSpPr>
        <p:spPr>
          <a:xfrm>
            <a:off x="914400" y="457200"/>
            <a:ext cx="7086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天下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真有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样标致的人物，我今儿才算见了！况且这通身的气派，竟不像老祖宗的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外孙女儿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竟是个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嫡亲的孙女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WordArt 3"/>
          <p:cNvSpPr txBox="1"/>
          <p:nvPr/>
        </p:nvSpPr>
        <p:spPr>
          <a:xfrm>
            <a:off x="324000" y="5445000"/>
            <a:ext cx="579096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一石三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1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2"/>
          <p:cNvSpPr/>
          <p:nvPr/>
        </p:nvSpPr>
        <p:spPr>
          <a:xfrm>
            <a:off x="7688880" y="189000"/>
            <a:ext cx="1155240" cy="541008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下真有这样标致的人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7667640" y="5589720"/>
            <a:ext cx="1062000" cy="934920"/>
          </a:xfrm>
          <a:custGeom>
            <a:avLst/>
            <a:gdLst>
              <a:gd name="textAreaLeft" fmla="*/ 151560 w 1062000"/>
              <a:gd name="textAreaRight" fmla="*/ 910440 w 1062000"/>
              <a:gd name="textAreaTop" fmla="*/ 534240 h 934920"/>
              <a:gd name="textAreaBottom" fmla="*/ 801360 h 934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1332000" y="3860640"/>
            <a:ext cx="223200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邀宠取幸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-364680" y="115920"/>
            <a:ext cx="1277640" cy="6553080"/>
          </a:xfrm>
          <a:prstGeom prst="rect">
            <a:avLst/>
          </a:prstGeom>
          <a:solidFill>
            <a:srgbClr val="ffff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只可怜我这妹妹这么命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611280" y="6237360"/>
            <a:ext cx="936360" cy="404640"/>
          </a:xfrm>
          <a:custGeom>
            <a:avLst/>
            <a:gdLst>
              <a:gd name="textAreaLeft" fmla="*/ 167040 w 936360"/>
              <a:gd name="textAreaRight" fmla="*/ 66312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07" hR="21600" stAng="10800000" swAng="-5400000"/>
                <a:lnTo>
                  <a:pt x="11441" y="21600"/>
                </a:lnTo>
                <a:arcTo wR="7707" hR="21600" stAng="5400000" swAng="-2904209"/>
                <a:lnTo>
                  <a:pt x="21240" y="6522"/>
                </a:lnTo>
                <a:lnTo>
                  <a:pt x="17280" y="0"/>
                </a:lnTo>
                <a:lnTo>
                  <a:pt x="12600" y="6522"/>
                </a:lnTo>
                <a:lnTo>
                  <a:pt x="15053" y="6522"/>
                </a:lnTo>
                <a:arcTo wR="7707" hR="21600" stAng="2495791" swAng="2598749"/>
                <a:lnTo>
                  <a:pt x="9574" y="20957"/>
                </a:lnTo>
                <a:arcTo wR="7707" hR="21600" stAng="5705459" swAng="5094541"/>
                <a:close/>
              </a:path>
              <a:path fill="darkenLess" w="21600" h="21600">
                <a:moveTo>
                  <a:pt x="0" y="0"/>
                </a:moveTo>
                <a:arcTo wR="7707" hR="21600" stAng="10800000" swAng="-5400000"/>
                <a:lnTo>
                  <a:pt x="11441" y="21600"/>
                </a:lnTo>
                <a:arcTo wR="7707" hR="21600" stAng="5400000" swAng="305459"/>
                <a:lnTo>
                  <a:pt x="9574" y="20957"/>
                </a:lnTo>
                <a:arcTo wR="7707" hR="21600" stAng="5705459" swAng="509454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1240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1763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5219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0" descr="20060905030523723"/>
          <p:cNvPicPr/>
          <p:nvPr/>
        </p:nvPicPr>
        <p:blipFill>
          <a:blip r:embed="rId2"/>
          <a:stretch/>
        </p:blipFill>
        <p:spPr>
          <a:xfrm>
            <a:off x="8604360" y="645336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王熙凤1"/>
          <p:cNvPicPr/>
          <p:nvPr/>
        </p:nvPicPr>
        <p:blipFill>
          <a:blip r:embed="rId3"/>
          <a:stretch/>
        </p:blipFill>
        <p:spPr>
          <a:xfrm>
            <a:off x="2700360" y="90792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"/>
          <p:cNvSpPr/>
          <p:nvPr/>
        </p:nvSpPr>
        <p:spPr>
          <a:xfrm>
            <a:off x="179280" y="4365720"/>
            <a:ext cx="8748720" cy="13842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先恭维，再拭泪，后转悲为喜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视贾母态度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39640" y="1484280"/>
            <a:ext cx="8604360" cy="855720"/>
            <a:chOff x="539640" y="1484280"/>
            <a:chExt cx="8604360" cy="855720"/>
          </a:xfrm>
        </p:grpSpPr>
        <p:sp>
          <p:nvSpPr>
            <p:cNvPr id="475" name="Text Box 4"/>
            <p:cNvSpPr/>
            <p:nvPr/>
          </p:nvSpPr>
          <p:spPr>
            <a:xfrm>
              <a:off x="539640" y="1484280"/>
              <a:ext cx="261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察颜观色，</a:t>
              </a:r>
              <a:br>
                <a:rPr sz="3200"/>
              </a:b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>
              <a:off x="6804000" y="1484280"/>
              <a:ext cx="23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机应变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Picture 7" descr="王熙凤1"/>
          <p:cNvPicPr/>
          <p:nvPr/>
        </p:nvPicPr>
        <p:blipFill>
          <a:blip r:embed="rId2"/>
          <a:stretch/>
        </p:blipFill>
        <p:spPr>
          <a:xfrm>
            <a:off x="2627280" y="90792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684360" y="476280"/>
            <a:ext cx="761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表面上是称赞了林黛玉的风姿，实际上却是在阿谀贾母，又不忘安慰迎春等那些嫡亲的孙女，真是面面俱到，圆滑至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4"/>
          <p:cNvSpPr txBox="1"/>
          <p:nvPr/>
        </p:nvSpPr>
        <p:spPr>
          <a:xfrm>
            <a:off x="324000" y="5445000"/>
            <a:ext cx="579096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一石三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50920" y="836640"/>
            <a:ext cx="864216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       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咕咚  破绽  合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裆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扳不动 别住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i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n                   s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ǒ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u          zhuài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公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鹐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架   精神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擞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推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拽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膀大腰粗   动转不灵    仗恃  门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把脚别住   手疾眼快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三抓两挠    冷绊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468360" y="260280"/>
            <a:ext cx="16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4"/>
          <p:cNvSpPr/>
          <p:nvPr/>
        </p:nvSpPr>
        <p:spPr>
          <a:xfrm>
            <a:off x="395280" y="189000"/>
            <a:ext cx="84247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只可怜我这妹妹这样命苦，怎么姑妈偏就去世了。”说着，便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用帕拭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贾母笑道：“我才好了，你倒来招我。你妹妹远路才来，身子又弱，也才劝住了，快再休提前话。”这熙凤听了，忙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转悲为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道：“正是呢，我一见了妹妹，一心都在他身上了，又是喜欢，又是伤心，竟忘记了老祖宗，该打该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539640" y="2924280"/>
            <a:ext cx="7775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468360" y="522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539640" y="4292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先是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用帕拭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继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转悲为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提到黛玉的母亲，贾母定会伤心，所以抢先用帕拭泪，最后又转悲为喜，是因为她见贾母笑了，这种情感瞬变，把王熙凤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善于察言观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见风使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形象刻画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"/>
          <p:cNvSpPr/>
          <p:nvPr/>
        </p:nvSpPr>
        <p:spPr>
          <a:xfrm>
            <a:off x="577800" y="304920"/>
            <a:ext cx="8185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又忙携黛玉之手，问她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妹妹几岁了？可也上过学？现吃什么药？在这里不要想家，想要什么吃的，什么玩的，</a:t>
            </a: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只管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告诉我；丫头老婆们不好了，也</a:t>
            </a: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只管</a:t>
            </a: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告诉我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533520" y="46036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熙凤连问三句真是关心黛玉吗？两个只管是为了炫耀自己的特殊地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2"/>
          <p:cNvSpPr txBox="1"/>
          <p:nvPr/>
        </p:nvSpPr>
        <p:spPr>
          <a:xfrm rot="5400000">
            <a:off x="4536360" y="3294000"/>
            <a:ext cx="633564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王熙凤形象分析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90" name="Picture 4" descr="王熙凤1"/>
          <p:cNvPicPr/>
          <p:nvPr/>
        </p:nvPicPr>
        <p:blipFill>
          <a:blip r:embed="rId1"/>
          <a:stretch/>
        </p:blipFill>
        <p:spPr>
          <a:xfrm>
            <a:off x="684360" y="620640"/>
            <a:ext cx="590364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man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1332000" y="380880"/>
          <a:ext cx="7507080" cy="5562720"/>
        </p:xfrm>
        <a:graphic>
          <a:graphicData uri="http://schemas.openxmlformats.org/drawingml/2006/table">
            <a:tbl>
              <a:tblPr/>
              <a:tblGrid>
                <a:gridCol w="1563480"/>
                <a:gridCol w="2971800"/>
                <a:gridCol w="297180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写层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法或角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的身份性格地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93" name="Text Box 33"/>
          <p:cNvSpPr/>
          <p:nvPr/>
        </p:nvSpPr>
        <p:spPr>
          <a:xfrm>
            <a:off x="1371600" y="1066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写出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4"/>
          <p:cNvSpPr/>
          <p:nvPr/>
        </p:nvSpPr>
        <p:spPr>
          <a:xfrm>
            <a:off x="2971800" y="914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未见其人先闻其声、烘云托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5"/>
          <p:cNvSpPr/>
          <p:nvPr/>
        </p:nvSpPr>
        <p:spPr>
          <a:xfrm>
            <a:off x="5796000" y="930240"/>
            <a:ext cx="29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少奶奶、放诞无礼、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位特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6"/>
          <p:cNvSpPr/>
          <p:nvPr/>
        </p:nvSpPr>
        <p:spPr>
          <a:xfrm>
            <a:off x="1371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绘肖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7"/>
          <p:cNvSpPr/>
          <p:nvPr/>
        </p:nvSpPr>
        <p:spPr>
          <a:xfrm>
            <a:off x="31240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肖像描写（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8"/>
          <p:cNvSpPr/>
          <p:nvPr/>
        </p:nvSpPr>
        <p:spPr>
          <a:xfrm>
            <a:off x="5867280" y="1905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雍容华贵、威而不露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城府极深、热情泼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9"/>
          <p:cNvSpPr/>
          <p:nvPr/>
        </p:nvSpPr>
        <p:spPr>
          <a:xfrm>
            <a:off x="137160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方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0"/>
          <p:cNvSpPr/>
          <p:nvPr/>
        </p:nvSpPr>
        <p:spPr>
          <a:xfrm>
            <a:off x="34290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1"/>
          <p:cNvSpPr/>
          <p:nvPr/>
        </p:nvSpPr>
        <p:spPr>
          <a:xfrm>
            <a:off x="60199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泼辣、深得贾母赏识的少奶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2"/>
          <p:cNvSpPr/>
          <p:nvPr/>
        </p:nvSpPr>
        <p:spPr>
          <a:xfrm>
            <a:off x="1371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见黛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3"/>
          <p:cNvSpPr/>
          <p:nvPr/>
        </p:nvSpPr>
        <p:spPr>
          <a:xfrm>
            <a:off x="3048120" y="3809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语言、动作、神态（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4"/>
          <p:cNvSpPr/>
          <p:nvPr/>
        </p:nvSpPr>
        <p:spPr>
          <a:xfrm>
            <a:off x="5867280" y="3657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能说会道、八面玲珑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老于世道、善于逢迎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明果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48"/>
          <p:cNvSpPr txBox="1"/>
          <p:nvPr/>
        </p:nvSpPr>
        <p:spPr>
          <a:xfrm rot="5400000">
            <a:off x="-898560" y="1627200"/>
            <a:ext cx="30700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王熙凤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1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533520" y="533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肖像描写（丹凤三角眼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柳叶吊梢眉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粉面含春威不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84360" y="177336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华贵富艳，美丽中蕴藏着威严、狡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68360" y="2421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动作描写（人未至笑先闻，携手、打谅、拭泪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转悲为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611280" y="328464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格泼辣，有恃无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逢场作戏，做作恭维，察言观色，见风使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68360" y="458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语言描写（标致、嫡亲孙女、该打、只管告诉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68360" y="522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逢迎讨好，八面玲珑，邀宠表功、喜欢使权弄势，炫耀特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别人眼里的“凤辣子”的“辣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香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让人听了很舒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麻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使人麻痹大意，信以为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泼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干事风风火火，才干过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酸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因吃醋而受委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毒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因吃醋而害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"/>
          <p:cNvSpPr/>
          <p:nvPr/>
        </p:nvSpPr>
        <p:spPr>
          <a:xfrm>
            <a:off x="1447920" y="1752480"/>
            <a:ext cx="678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模样又极标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言谈又极爽利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心机又极深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竟是个男人万不及一的。</a:t>
            </a:r>
            <a:r>
              <a:rPr b="0" lang="zh-CN" sz="44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116000" y="404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别人眼里的王熙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20063125840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2"/>
          <p:cNvSpPr/>
          <p:nvPr/>
        </p:nvSpPr>
        <p:spPr>
          <a:xfrm>
            <a:off x="1295280" y="1371600"/>
            <a:ext cx="678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嘴甜心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两面三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上头一脸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脚下使绊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明是一盆火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　暗是一把刀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258920" y="33336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黑体"/>
              </a:rPr>
              <a:t>别人眼里的王熙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0" y="2492280"/>
            <a:ext cx="5040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轻貌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明能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伪泼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变逢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于奉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高受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-250920" y="1413000"/>
            <a:ext cx="647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林黛玉眼中的王熙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王熙凤1"/>
          <p:cNvPicPr/>
          <p:nvPr/>
        </p:nvPicPr>
        <p:blipFill>
          <a:blip r:embed="rId2"/>
          <a:stretch/>
        </p:blipFill>
        <p:spPr>
          <a:xfrm>
            <a:off x="4788000" y="2565360"/>
            <a:ext cx="338292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"/>
          <p:cNvSpPr/>
          <p:nvPr/>
        </p:nvSpPr>
        <p:spPr>
          <a:xfrm>
            <a:off x="685800" y="1905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203640" y="1268280"/>
            <a:ext cx="236196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肖像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6300720" y="119700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348000" y="249228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行动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6156360" y="249228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1835280" y="4724280"/>
            <a:ext cx="236196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侧面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448920" y="1268280"/>
            <a:ext cx="546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826920" y="26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黑体"/>
                <a:ea typeface="黑体"/>
              </a:rPr>
              <a:t>领悟表达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1332000" y="1268280"/>
            <a:ext cx="86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正面描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9"/>
          <p:cNvSpPr/>
          <p:nvPr/>
        </p:nvSpPr>
        <p:spPr>
          <a:xfrm>
            <a:off x="1908000" y="2565360"/>
            <a:ext cx="1440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 flipV="1">
            <a:off x="1908000" y="1699920"/>
            <a:ext cx="1295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2124000" y="328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既表明贾母对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宠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也概括了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性格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428472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黛玉的纳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6804000" y="4653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贾母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1366920" y="5661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反衬出王熙凤在贾府中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黑体"/>
              </a:rPr>
              <a:t>有特殊身份和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{F63FA76D-4D43-492F-92C3-E0C91D6B23A5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755640" y="2565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</a:rPr>
              <a:t>猴儿    虎势儿   牛劲儿  单褂儿  一点儿  小胖墩儿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395280" y="692280"/>
            <a:ext cx="266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还会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2"/>
          <p:cNvSpPr/>
          <p:nvPr/>
        </p:nvSpPr>
        <p:spPr>
          <a:xfrm>
            <a:off x="53352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面描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7432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700360" y="198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肖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700360" y="3141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言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539640" y="50846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侧面介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05120" y="212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3733920" y="1143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见其人，先闻其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3851280" y="198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服饰      容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43564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贾母的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2195640" y="50846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黛玉的纳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" action="ppaction://hlinkshowjump?jump=previousslide"/>
          </p:cNvPr>
          <p:cNvSpPr/>
          <p:nvPr/>
        </p:nvSpPr>
        <p:spPr>
          <a:xfrm>
            <a:off x="3505320" y="304920"/>
            <a:ext cx="1295280" cy="533160"/>
          </a:xfrm>
          <a:custGeom>
            <a:avLst/>
            <a:gdLst>
              <a:gd name="textAreaLeft" fmla="*/ 33120 w 1295280"/>
              <a:gd name="textAreaRight" fmla="*/ 1262160 w 12952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105" y="1350"/>
                </a:lnTo>
                <a:lnTo>
                  <a:pt x="1350" y="135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105" y="20250"/>
                </a:lnTo>
                <a:lnTo>
                  <a:pt x="51105" y="135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1105" y="2025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80000" y="2997360"/>
            <a:ext cx="4724280" cy="1351800"/>
            <a:chOff x="3780000" y="2997360"/>
            <a:chExt cx="4724280" cy="1351800"/>
          </a:xfrm>
        </p:grpSpPr>
        <p:sp>
          <p:nvSpPr>
            <p:cNvPr id="555" name="Text Box 14"/>
            <p:cNvSpPr/>
            <p:nvPr/>
          </p:nvSpPr>
          <p:spPr>
            <a:xfrm>
              <a:off x="3780000" y="2997360"/>
              <a:ext cx="472428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出场亮相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初见黛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3780000" y="31417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Rectangle 16"/>
          <p:cNvSpPr/>
          <p:nvPr/>
        </p:nvSpPr>
        <p:spPr>
          <a:xfrm>
            <a:off x="971640" y="5661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衬出王熙凤在贾府中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有特殊身份和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1258920" y="4365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既表明贾母对她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宠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也概括了她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性格特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6317640" y="23702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美丽俊俏，却狡猾刁钻。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6689160" y="285264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察言观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机巧善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邀宠取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2916360" y="5516640"/>
            <a:ext cx="0" cy="2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1"/>
          <p:cNvSpPr/>
          <p:nvPr/>
        </p:nvSpPr>
        <p:spPr>
          <a:xfrm flipV="1">
            <a:off x="6156360" y="4797360"/>
            <a:ext cx="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3"/>
          <p:cNvSpPr/>
          <p:nvPr/>
        </p:nvSpPr>
        <p:spPr>
          <a:xfrm>
            <a:off x="39528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领悟表达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4229280" y="315756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2323"/>
                </a:solidFill>
                <a:latin typeface="Times New Roman"/>
                <a:ea typeface="黑体"/>
              </a:rPr>
              <a:t>人物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851280" y="1557360"/>
            <a:ext cx="23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肖像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外貌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神态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服饰等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933640" y="27687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476440" y="2776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476440" y="43005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039680" y="35384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正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6743880" y="35384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侧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686480" y="285264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0"/>
          <p:cNvSpPr/>
          <p:nvPr/>
        </p:nvSpPr>
        <p:spPr>
          <a:xfrm>
            <a:off x="2263680" y="2674800"/>
            <a:ext cx="76320" cy="2376720"/>
          </a:xfrm>
          <a:custGeom>
            <a:avLst/>
            <a:gdLst>
              <a:gd name="textAreaLeft" fmla="*/ 22320 w 76320"/>
              <a:gd name="textAreaRight" fmla="*/ 76320 w 76320"/>
              <a:gd name="textAreaTop" fmla="*/ 99000 h 2376720"/>
              <a:gd name="textAreaBottom" fmla="*/ 22777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476440" y="3614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392640" y="2700360"/>
            <a:ext cx="3046320" cy="2514600"/>
            <a:chOff x="3392640" y="2700360"/>
            <a:chExt cx="3046320" cy="2514600"/>
          </a:xfrm>
        </p:grpSpPr>
        <p:sp>
          <p:nvSpPr>
            <p:cNvPr id="575" name="AutoShape 13"/>
            <p:cNvSpPr/>
            <p:nvPr/>
          </p:nvSpPr>
          <p:spPr>
            <a:xfrm>
              <a:off x="4610160" y="270036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4"/>
            <p:cNvSpPr/>
            <p:nvPr/>
          </p:nvSpPr>
          <p:spPr>
            <a:xfrm>
              <a:off x="5753160" y="3614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5"/>
            <p:cNvSpPr/>
            <p:nvPr/>
          </p:nvSpPr>
          <p:spPr>
            <a:xfrm>
              <a:off x="5067360" y="468144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6"/>
            <p:cNvSpPr/>
            <p:nvPr/>
          </p:nvSpPr>
          <p:spPr>
            <a:xfrm rot="1543800">
              <a:off x="3467160" y="315756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7"/>
            <p:cNvSpPr/>
            <p:nvPr/>
          </p:nvSpPr>
          <p:spPr>
            <a:xfrm rot="20227800">
              <a:off x="3392280" y="4252680"/>
              <a:ext cx="684360" cy="137880"/>
            </a:xfrm>
            <a:prstGeom prst="rightArrow">
              <a:avLst>
                <a:gd name="adj1" fmla="val 50000"/>
                <a:gd name="adj2" fmla="val 124086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8"/>
            <p:cNvSpPr/>
            <p:nvPr/>
          </p:nvSpPr>
          <p:spPr>
            <a:xfrm>
              <a:off x="3467160" y="376704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393000" y="2700360"/>
            <a:ext cx="3121920" cy="2514600"/>
            <a:chOff x="3393000" y="2700360"/>
            <a:chExt cx="3121920" cy="2514600"/>
          </a:xfrm>
        </p:grpSpPr>
        <p:sp>
          <p:nvSpPr>
            <p:cNvPr id="582" name="AutoShape 20"/>
            <p:cNvSpPr/>
            <p:nvPr/>
          </p:nvSpPr>
          <p:spPr>
            <a:xfrm rot="1593600">
              <a:off x="3390840" y="3309480"/>
              <a:ext cx="703440" cy="157320"/>
            </a:xfrm>
            <a:prstGeom prst="leftArrow">
              <a:avLst>
                <a:gd name="adj1" fmla="val 50000"/>
                <a:gd name="adj2" fmla="val 111785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21"/>
            <p:cNvSpPr/>
            <p:nvPr/>
          </p:nvSpPr>
          <p:spPr>
            <a:xfrm flipV="1" rot="20146200">
              <a:off x="3467160" y="4452840"/>
              <a:ext cx="669960" cy="152280"/>
            </a:xfrm>
            <a:prstGeom prst="leftArrow">
              <a:avLst>
                <a:gd name="adj1" fmla="val 50000"/>
                <a:gd name="adj2" fmla="val 109988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22"/>
            <p:cNvSpPr/>
            <p:nvPr/>
          </p:nvSpPr>
          <p:spPr>
            <a:xfrm flipH="1">
              <a:off x="4609440" y="4681440"/>
              <a:ext cx="228600" cy="533520"/>
            </a:xfrm>
            <a:prstGeom prst="upArrow">
              <a:avLst>
                <a:gd name="adj1" fmla="val 44444"/>
                <a:gd name="adj2" fmla="val 55418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23"/>
            <p:cNvSpPr/>
            <p:nvPr/>
          </p:nvSpPr>
          <p:spPr>
            <a:xfrm>
              <a:off x="5753160" y="38433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24"/>
            <p:cNvSpPr/>
            <p:nvPr/>
          </p:nvSpPr>
          <p:spPr>
            <a:xfrm>
              <a:off x="5067360" y="270036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5"/>
            <p:cNvSpPr/>
            <p:nvPr/>
          </p:nvSpPr>
          <p:spPr>
            <a:xfrm>
              <a:off x="3467160" y="391968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cc0099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26"/>
          <p:cNvSpPr/>
          <p:nvPr/>
        </p:nvSpPr>
        <p:spPr>
          <a:xfrm>
            <a:off x="4229280" y="5291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主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6732720" y="155736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典型 具体 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9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2"/>
          <p:cNvSpPr/>
          <p:nvPr/>
        </p:nvSpPr>
        <p:spPr>
          <a:xfrm>
            <a:off x="160020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2096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84360" y="1341360"/>
            <a:ext cx="7772400" cy="2654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貌虽小，举止不俗，身体面庞虽怯懦不胜却有一段自然的风流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众人眼中的黛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两弯似蹙非蹙罥烟眉 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双似喜非喜含情目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态生两靥之态，  娇袭一身之病。泪光点点， 娇喘微微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闲静时如姣花照水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行动处似弱柳扶风．心较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宝玉眼中的黛玉</a:t>
            </a:r>
            <a:r>
              <a:rPr b="0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684360" y="4941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是属于什么描写？说明黛玉的什么样的性格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692360" y="59500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肖像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468360" y="549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阅读下列两段文字，回答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348000" y="5950080"/>
            <a:ext cx="55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美貌）多情、（体弱）多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0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"/>
          <p:cNvSpPr/>
          <p:nvPr/>
        </p:nvSpPr>
        <p:spPr>
          <a:xfrm>
            <a:off x="900000" y="47628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林黛玉形象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4431960" y="2781360"/>
            <a:ext cx="729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三   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5291280" y="1413000"/>
            <a:ext cx="152280" cy="4267080"/>
          </a:xfrm>
          <a:custGeom>
            <a:avLst/>
            <a:gdLst>
              <a:gd name="textAreaLeft" fmla="*/ 97200 w 152280"/>
              <a:gd name="textAreaRight" fmla="*/ 152640 w 15228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364000" y="1413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美貌）多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5364000" y="3141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体弱）多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5291280" y="47973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言行）多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xsgs487"/>
          <p:cNvPicPr/>
          <p:nvPr/>
        </p:nvPicPr>
        <p:blipFill>
          <a:blip r:embed="rId2"/>
          <a:stretch/>
        </p:blipFill>
        <p:spPr>
          <a:xfrm>
            <a:off x="0" y="476280"/>
            <a:ext cx="70488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未命名1"/>
          <p:cNvPicPr/>
          <p:nvPr/>
        </p:nvPicPr>
        <p:blipFill>
          <a:blip r:embed="rId3"/>
          <a:stretch/>
        </p:blipFill>
        <p:spPr>
          <a:xfrm>
            <a:off x="1042920" y="1341360"/>
            <a:ext cx="2379600" cy="4508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1" dur="3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3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1" dur="3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2"/>
          <p:cNvSpPr/>
          <p:nvPr/>
        </p:nvSpPr>
        <p:spPr>
          <a:xfrm>
            <a:off x="755640" y="620640"/>
            <a:ext cx="74674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的外貌描写各写的是谁？分别表现了每个人怎样的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若中秋之月，色如春晓之花，鬓若刀裁，眉如墨画，面如桃瓣，目若秋波。虽怒时而若笑，即瞋视而有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双丹凤三角眼，两弯柳叶吊梢眉，身量苗条，体格风骚，粉面含春威不露，丹唇未启笑先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泪光点点，娇喘微微。娴静时如姣花照水，行动处似弱柳扶风。心如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1143000" y="5029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219320" y="5181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900000" y="475776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答案：  ①贾宝玉：潇洒英俊、善良多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②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王熙凤：刁钻狡黠、谄上欺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③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林黛玉：聪慧灵秀，体弱多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2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5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2"/>
          <p:cNvSpPr/>
          <p:nvPr/>
        </p:nvSpPr>
        <p:spPr>
          <a:xfrm>
            <a:off x="179280" y="189000"/>
            <a:ext cx="8315280" cy="47538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作业：</a:t>
            </a:r>
            <a:r>
              <a:rPr b="1" lang="zh-CN" sz="3200" spc="-1" strike="noStrike">
                <a:solidFill>
                  <a:srgbClr val="3366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从下列命题中任选一个，写一段文字。要求：写一个人；安排适当的场合让人物登场亮相，通过外貌描写、肖像描写等初步显示人物的身份和性格特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     ①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我的老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     ②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我的同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     ③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我的朋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     ④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我的父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3995640" y="3933720"/>
            <a:ext cx="438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猜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他</a:t>
            </a:r>
            <a:r>
              <a:rPr b="1" lang="en-US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她</a:t>
            </a:r>
            <a:r>
              <a:rPr b="1" lang="en-US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谁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xsgs130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2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5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8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1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4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7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7" dur="8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9" dur="8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2" dur="8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3" dur="8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8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7" dur="8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8" dur="8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8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2" dur="8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3" dur="8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8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7" dur="8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8" dur="8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9" dur="8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3120"/>
                            </p:stCondLst>
                            <p:childTnLst>
                              <p:par>
                                <p:cTn id="17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淡雅ppt背景（扒土梦幻馆搜集）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3"/>
          <p:cNvSpPr txBox="1"/>
          <p:nvPr/>
        </p:nvSpPr>
        <p:spPr>
          <a:xfrm>
            <a:off x="1187280" y="1484280"/>
            <a:ext cx="66978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2:43:33Z</dcterms:created>
  <dc:creator/>
  <dc:description/>
  <dc:language>en-US</dc:language>
  <cp:lastModifiedBy>Lenovo</cp:lastModifiedBy>
  <dcterms:modified xsi:type="dcterms:W3CDTF">2014-05-11T12:46:19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