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BA5-37BF-4E7E-9B90-C31FCE6F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87E-B923-4FE2-963D-7C4BA27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102-28A3-4F4E-AD8F-0DAEC68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CF5-CF15-44A2-B4AA-66F85E07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AD8-5368-4F57-A36F-17F7E3A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90A-1547-4373-977D-C6AAC2D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153-E2EB-4579-91CC-37CACFD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B2B-EFAE-4E1D-80A0-6E9E3F75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57B-E548-4C7B-B313-92577447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478-339D-4600-BB66-477C607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798-E961-44AA-88EA-05D4F28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843-6E02-4693-BE74-3D1B7D0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2C8C-9F16-4352-939A-EDC6C1826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41204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72400" y="3000240"/>
            <a:ext cx="63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2411280" y="771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3" descr="背景"/>
          <p:cNvPicPr/>
          <p:nvPr/>
        </p:nvPicPr>
        <p:blipFill>
          <a:blip r:embed="rId1">
            <a:lum contrast="6000"/>
          </a:blip>
          <a:srcRect l="0" t="0" r="0" b="953"/>
          <a:stretch/>
        </p:blipFill>
        <p:spPr>
          <a:xfrm>
            <a:off x="154764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5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84360" y="549360"/>
            <a:ext cx="3456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吴音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54.mid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56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醉里吴音相媚好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白发谁家翁媪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2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2000" y="3432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84360" y="609480"/>
            <a:ext cx="388764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 flipH="1">
            <a:off x="1676160" y="228600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1619280" y="184464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676160" y="274320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2743200" y="274320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1676160" y="32767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 flipH="1">
            <a:off x="1676160" y="41911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H="1">
            <a:off x="1676160" y="4724280"/>
            <a:ext cx="759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 flipH="1">
            <a:off x="1676160" y="5181480"/>
            <a:ext cx="759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H="1">
            <a:off x="1676160" y="571500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54.mid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568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背景"/>
          <p:cNvPicPr/>
          <p:nvPr/>
        </p:nvPicPr>
        <p:blipFill>
          <a:blip r:embed="rId1"/>
          <a:srcRect l="0" t="0" r="0" b="953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这真是一个＿＿＿＿的村居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　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二选一）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１、把这首词改编成一篇优美的记叙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２、用心观察乡村生活，写一首小诗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村居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2057400"/>
            <a:ext cx="62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谢谢大家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56:46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6T13:57:23Z</dcterms:modified>
  <cp:revision>64</cp:revision>
  <dc:subject>第一PPT模板网-WWW.1PPT.COM</dc:subject>
  <dc:title>第一PPT模板网-WWW.1PPT.COM</dc:title>
</cp:coreProperties>
</file>