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34D-64B0-46E5-ADB6-8D3E7D23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CFB-54F0-430F-8B87-5836607A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973-DF57-4DFB-B638-55BB6998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FB9-9882-4538-9F44-FB988311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44B-E4C9-4281-9060-88E193F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1D8-6AC0-4ACE-B924-EE710E2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8C9-A5C0-479C-93BE-5CB9B922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213-8954-4A66-B984-1EAEA35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BCA-4BA0-4A3E-AEB7-B2A92D7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1DC-8AD9-44BB-8E90-D7120AA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5A4-068F-4CA9-AA29-21DC955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866-EF0F-40B8-B1B0-6103DAE0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D70-7A7C-46AE-94AF-157A5E183A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1676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黑体"/>
              </a:rPr>
              <a:t>七月的天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48000" y="5734080"/>
            <a:ext cx="5143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伊通镇第五小学  闫新宇</a:t>
            </a:r>
            <a:endParaRPr b="1" lang="en-US" sz="2400" spc="1" strike="noStrike">
              <a:ln w="12600">
                <a:solidFill>
                  <a:srgbClr val="00ff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29200" y="5562720"/>
            <a:ext cx="3505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08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5029200"/>
            <a:ext cx="4190760" cy="1600200"/>
          </a:xfrm>
          <a:custGeom>
            <a:avLst/>
            <a:gdLst>
              <a:gd name="textAreaLeft" fmla="*/ 0 w 4190760"/>
              <a:gd name="textAreaRight" fmla="*/ 4191120 w 419076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24360" y="5589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隶书"/>
              </a:rPr>
              <a:t>七月的天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6640"/>
            <a:ext cx="79246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山在我国新疆维吾尔自治区中部，终年积雪，多冰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川，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长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千米，总面积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平方千米，是亚洲最大山系之一，山地平均海拔高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左右，把广阔的新疆分为南北两半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177336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虽然天山这时并不是春天，但是有哪一个春天的花园能比得过这时天山的无边繁花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44360"/>
            <a:ext cx="5864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54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-25560"/>
            <a:ext cx="860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，写一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040" y="1125360"/>
            <a:ext cx="900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缎　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涧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俯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视　　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绵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延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泻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无限　　撑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枝丫　　萦绕　　矫健　　幽静　　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皑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洄水涡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饮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马溪　　戈壁滩　　五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斑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五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缤纷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重重叠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4076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虽然天山这时不是春天，但是有哪一个春天的花园比得过这时天山的无边繁花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7680" y="782640"/>
            <a:ext cx="830232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雪峰　　（　　　　）的群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原始森林　　（　　　）的枝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　）的鲜花　　（　　　　）的锦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霞光　　　（　　　　）的彩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58920" y="1197000"/>
            <a:ext cx="722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请把你喜欢的优美语句找出来，并摘抄在单行本上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580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你能读准下面的字词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2000"/>
              </a:lnSpc>
              <a:spcBef>
                <a:spcPts val="799"/>
              </a:spcBef>
              <a:buClr>
                <a:srgbClr val="cc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戈壁滩    白缎     山涧    泻下来   洄水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2000"/>
              </a:lnSpc>
              <a:spcBef>
                <a:spcPts val="799"/>
              </a:spcBef>
              <a:buClr>
                <a:srgbClr val="cc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饮马      俯视    五彩斑斓    无限生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2000"/>
              </a:lnSpc>
              <a:spcBef>
                <a:spcPts val="799"/>
              </a:spcBef>
              <a:buClr>
                <a:srgbClr val="cc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白皑皑    撑开    重重叠叠    枝丫    马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2000"/>
              </a:lnSpc>
              <a:spcBef>
                <a:spcPts val="799"/>
              </a:spcBef>
              <a:buClr>
                <a:srgbClr val="cc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溅起      幽静    萦绕    五彩缤纷    绵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2000"/>
              </a:lnSpc>
              <a:spcBef>
                <a:spcPts val="799"/>
              </a:spcBef>
              <a:buClr>
                <a:srgbClr val="cc66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绚烂      矫健    马鞍    鳞光    峭壁断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929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105264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天衬着高高矗立的巨大的雪峰，在太阳下，雪峰间的云彩就像白缎上绣了几朵银灰色的暗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500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77080" y="228600"/>
            <a:ext cx="22669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那融化的雪水，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悬的山涧，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峭壁断崖上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飞泻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下来，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像千百条闪耀的银链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在山脚下汇成冲激的溪流，浪花往上抛，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成千万朵盛开的白莲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6705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5840" y="5486400"/>
            <a:ext cx="91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饮马溪边，你坐在马鞍上就可以俯视到那阳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透射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清澈的水底，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五彩斑斓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水石之间，鱼群闪闪的鳞光映着雪水清流，给寂静的天山增添了无限生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-1371600"/>
            <a:ext cx="7238880" cy="373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731520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4581360"/>
            <a:ext cx="7315200" cy="266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白皑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群峰的雪线以下，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蜿蜒无尽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翠绿的原始森林，密密的塔松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像撑天的巨伞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重重叠叠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枝丫，只漏下斑斑点点的细碎的日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4600" y="-103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再往里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9876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184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里溪流缓慢，萦绕着每一个山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280" y="12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天山深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1:06:29Z</dcterms:created>
  <dc:creator>凤岗中心小学</dc:creator>
  <dc:description/>
  <dc:language>en-US</dc:language>
  <cp:lastModifiedBy>999宝藏网</cp:lastModifiedBy>
  <dcterms:modified xsi:type="dcterms:W3CDTF">2011-04-21T12:45:50Z</dcterms:modified>
  <cp:revision>16</cp:revision>
  <dc:subject/>
  <dc:title>PowerPoint 演示文稿</dc:title>
</cp:coreProperties>
</file>