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252-52B6-4281-B8DC-C77057E8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426-CC20-45ED-B9CE-7F79EA75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3B5-AC29-4A33-9894-5C0D654C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45E-F44D-4608-95F4-696F6A62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DBE0-2B58-46AA-B8BE-358A4DEE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E689-2B3E-478B-B842-92F12D33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A257-92FF-4CAE-9AD4-169F68A1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2AA4-474E-4B31-8365-AAB07494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2095-49A6-4E32-8CAB-CD26F2C2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-762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ED4A-9AF1-483B-89ED-B1FDFDC9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68AA-438D-4E03-8C8E-A1D6089D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F27-8BF2-49A3-BD7C-E06C240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7DFD-960D-42AD-B155-8A7826E5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633E-04C6-4ADF-970C-62FC5E5F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2B46-3652-43B8-918F-C8AE3A66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5B9C-4B49-4E77-8AE5-647626A4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A187-E315-4010-AFB8-7AB68B04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B46-2CFE-46F3-A97C-EDB4EECF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A39-1F49-4064-B82E-C6C1A613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424-A69F-4F52-BA32-0C68B56B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-762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949-907F-46F5-A7A5-60DECFD0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D2D-768C-4693-AA1D-78561773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F81-5CCC-490A-8E06-7FD66746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ECE-0EDC-4BCC-80F4-60A3058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ordArt 36"/>
          <p:cNvSpPr txBox="1"/>
          <p:nvPr/>
        </p:nvSpPr>
        <p:spPr>
          <a:xfrm rot="20850600">
            <a:off x="-60480" y="231480"/>
            <a:ext cx="9058320" cy="587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ecff">
                    <a:alpha val="47000"/>
                  </a:srgbClr>
                </a:solidFill>
                <a:latin typeface="Symbol"/>
              </a:rPr>
              <a:t>6s</a:t>
            </a:r>
            <a:endParaRPr b="1" lang="en-US" sz="2400" spc="1" strike="noStrike">
              <a:ln w="0">
                <a:noFill/>
              </a:ln>
              <a:solidFill>
                <a:srgbClr val="ccecff">
                  <a:alpha val="47000"/>
                </a:srgbClr>
              </a:solidFill>
              <a:latin typeface="Symbol"/>
              <a:ea typeface="Symbol"/>
            </a:endParaRPr>
          </a:p>
        </p:txBody>
      </p:sp>
      <p:sp>
        <p:nvSpPr>
          <p:cNvPr id="1" name="Oval 33"/>
          <p:cNvSpPr/>
          <p:nvPr/>
        </p:nvSpPr>
        <p:spPr>
          <a:xfrm>
            <a:off x="-914400" y="-1295280"/>
            <a:ext cx="2666880" cy="2438280"/>
          </a:xfrm>
          <a:prstGeom prst="ellipse">
            <a:avLst/>
          </a:prstGeom>
          <a:solidFill>
            <a:srgbClr val="cccc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Oval 34"/>
          <p:cNvSpPr/>
          <p:nvPr/>
        </p:nvSpPr>
        <p:spPr>
          <a:xfrm>
            <a:off x="8077320" y="5638680"/>
            <a:ext cx="1752480" cy="1752840"/>
          </a:xfrm>
          <a:prstGeom prst="ellipse">
            <a:avLst/>
          </a:prstGeom>
          <a:solidFill>
            <a:srgbClr val="cccc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Oval 35"/>
          <p:cNvSpPr/>
          <p:nvPr/>
        </p:nvSpPr>
        <p:spPr>
          <a:xfrm>
            <a:off x="7467480" y="6343560"/>
            <a:ext cx="1067040" cy="1028880"/>
          </a:xfrm>
          <a:prstGeom prst="ellipse">
            <a:avLst/>
          </a:prstGeom>
          <a:solidFill>
            <a:srgbClr val="ff99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1A22-3DA1-4E5C-BDA7-183475F16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834984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729A-08FE-4887-A214-4A31AA7D06CE}" type="slidenum">
              <a:rPr b="0" lang="en-US" sz="1400" spc="-1" strike="noStrike">
                <a:solidFill>
                  <a:srgbClr val="000020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Rectangle 25"/>
          <p:cNvSpPr/>
          <p:nvPr/>
        </p:nvSpPr>
        <p:spPr>
          <a:xfrm>
            <a:off x="0" y="1523880"/>
            <a:ext cx="9144000" cy="152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27"/>
          <p:cNvSpPr/>
          <p:nvPr/>
        </p:nvSpPr>
        <p:spPr>
          <a:xfrm>
            <a:off x="0" y="1752480"/>
            <a:ext cx="6324480" cy="763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WordArt 32"/>
          <p:cNvSpPr txBox="1"/>
          <p:nvPr/>
        </p:nvSpPr>
        <p:spPr>
          <a:xfrm>
            <a:off x="152280" y="685800"/>
            <a:ext cx="4953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latin typeface="Arial Rounded MT Bold"/>
              </a:rPr>
              <a:t>D  M  A  I  C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latin typeface="Arial Rounded MT Bold"/>
              <a:ea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4"/>
          <p:cNvSpPr txBox="1"/>
          <p:nvPr/>
        </p:nvSpPr>
        <p:spPr>
          <a:xfrm rot="20850600">
            <a:off x="-60480" y="231480"/>
            <a:ext cx="9058320" cy="587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ecff">
                    <a:alpha val="91000"/>
                  </a:srgbClr>
                </a:solidFill>
                <a:latin typeface="Symbol"/>
              </a:rPr>
              <a:t>6s</a:t>
            </a:r>
            <a:endParaRPr b="1" lang="en-US" sz="2400" spc="1" strike="noStrike">
              <a:ln w="0">
                <a:noFill/>
              </a:ln>
              <a:solidFill>
                <a:srgbClr val="ccecff">
                  <a:alpha val="91000"/>
                </a:srgbClr>
              </a:solidFill>
              <a:latin typeface="Symbol"/>
              <a:ea typeface="Symbo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-1523880" y="-1600200"/>
            <a:ext cx="5638680" cy="5410080"/>
          </a:xfrm>
          <a:prstGeom prst="ellipse">
            <a:avLst/>
          </a:prstGeom>
          <a:solidFill>
            <a:srgbClr val="cccc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834984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868E-A510-4AD9-A6B9-FDD3E31E6BE0}" type="slidenum">
              <a:rPr b="0" lang="en-US" sz="1400" spc="-1" strike="noStrike">
                <a:solidFill>
                  <a:srgbClr val="000020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217188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2400480"/>
            <a:ext cx="6324480" cy="759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7010280" y="4343400"/>
            <a:ext cx="3124440" cy="3124080"/>
          </a:xfrm>
          <a:prstGeom prst="ellipse">
            <a:avLst/>
          </a:prstGeom>
          <a:solidFill>
            <a:srgbClr val="cccc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5638680" y="5600880"/>
            <a:ext cx="2362320" cy="2514600"/>
          </a:xfrm>
          <a:prstGeom prst="ellipse">
            <a:avLst/>
          </a:prstGeom>
          <a:solidFill>
            <a:srgbClr val="ff99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E6E-DE9A-467A-8F0E-778E979B7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666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(Project Title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A Six Sigma Black Belt Project by </a:t>
            </a:r>
            <a:endParaRPr b="0" lang="en-US" sz="2800" spc="-1" strike="noStrike">
              <a:solidFill>
                <a:srgbClr val="000020"/>
              </a:solidFill>
              <a:latin typeface="Arial Rounded MT Bol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20"/>
              </a:solidFill>
              <a:latin typeface="Arial Rounded MT Bol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(Name)</a:t>
            </a:r>
            <a:endParaRPr b="0" lang="en-US" sz="2800" spc="-1" strike="noStrike">
              <a:solidFill>
                <a:srgbClr val="000020"/>
              </a:solidFill>
              <a:latin typeface="Arial Rounded MT Bol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(Title)</a:t>
            </a:r>
            <a:endParaRPr b="0" lang="en-US" sz="2400" spc="-1" strike="noStrike">
              <a:solidFill>
                <a:srgbClr val="000020"/>
              </a:solidFill>
              <a:latin typeface="Arial Rounded MT Bol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(Company)</a:t>
            </a:r>
            <a:endParaRPr b="0" lang="en-US" sz="2400" spc="-1" strike="noStrike">
              <a:solidFill>
                <a:srgbClr val="000020"/>
              </a:solidFill>
              <a:latin typeface="Arial Rounded MT Bol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Define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  <a:ea typeface="宋体"/>
              </a:rPr>
              <a:t>Problem: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  <a:ea typeface="宋体"/>
              </a:rPr>
              <a:t>Scope: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  <a:ea typeface="宋体"/>
              </a:rPr>
              <a:t>Team Sponsor: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  <a:ea typeface="宋体"/>
              </a:rPr>
              <a:t>Team Members: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Rounded MT Bold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0"/>
                </a:solidFill>
                <a:latin typeface="Arial Rounded MT Bold"/>
                <a:ea typeface="宋体"/>
              </a:rPr>
              <a:t>Customers:</a:t>
            </a:r>
            <a:endParaRPr b="0" lang="en-US" sz="3200" spc="-1" strike="noStrike">
              <a:solidFill>
                <a:srgbClr val="000020"/>
              </a:solidFill>
              <a:latin typeface="Arial Rounded MT Bold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152280" y="685800"/>
            <a:ext cx="58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752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D</a:t>
            </a:r>
            <a:endParaRPr b="1" lang="en-US" sz="2400" spc="1" strike="noStrike">
              <a:ln w="4752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609480" y="1023840"/>
            <a:ext cx="77652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efine</a:t>
            </a:r>
            <a:endParaRPr b="1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20"/>
              </a:solidFill>
              <a:latin typeface="Arial Rounded MT Bold"/>
              <a:ea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Measure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5" name="WordArt 10"/>
          <p:cNvSpPr txBox="1"/>
          <p:nvPr/>
        </p:nvSpPr>
        <p:spPr>
          <a:xfrm>
            <a:off x="1295280" y="6858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752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M</a:t>
            </a:r>
            <a:endParaRPr b="1" lang="en-US" sz="2400" spc="1" strike="noStrike">
              <a:ln w="4752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06" name="WordArt 11"/>
          <p:cNvSpPr txBox="1"/>
          <p:nvPr/>
        </p:nvSpPr>
        <p:spPr>
          <a:xfrm>
            <a:off x="1928880" y="1104840"/>
            <a:ext cx="86040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easure</a:t>
            </a:r>
            <a:endParaRPr b="1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Analyze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  <a:ea typeface="宋体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2543040" y="685800"/>
            <a:ext cx="62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752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A</a:t>
            </a:r>
            <a:endParaRPr b="1" lang="en-US" sz="2400" spc="1" strike="noStrike">
              <a:ln w="4752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3071880" y="1065240"/>
            <a:ext cx="83808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nalyze</a:t>
            </a:r>
            <a:endParaRPr b="1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Analyze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20"/>
              </a:solidFill>
              <a:latin typeface="Arial Rounded MT Bold"/>
              <a:ea typeface="宋体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3733920" y="685800"/>
            <a:ext cx="16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752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I</a:t>
            </a:r>
            <a:endParaRPr b="1" lang="en-US" sz="2400" spc="1" strike="noStrike">
              <a:ln w="4752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3886200" y="1066680"/>
            <a:ext cx="83808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mprove</a:t>
            </a:r>
            <a:endParaRPr b="1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Control</a:t>
            </a:r>
            <a:endParaRPr b="0" lang="en-US" sz="4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0"/>
              </a:solidFill>
              <a:latin typeface="Arial Rounded MT Bold"/>
              <a:ea typeface="宋体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4514760" y="685800"/>
            <a:ext cx="600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752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C</a:t>
            </a:r>
            <a:endParaRPr b="1" lang="en-US" sz="2400" spc="1" strike="noStrike">
              <a:ln w="4752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5070600" y="1019160"/>
            <a:ext cx="83808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 Rounded MT Bold"/>
              </a:rPr>
              <a:t>ontrol</a:t>
            </a:r>
            <a:endParaRPr b="1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 Rounded MT Bold"/>
              <a:ea typeface="Arial Rounded MT Bold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  <a:ea typeface="宋体"/>
              </a:rPr>
              <a:t>Summary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2552760"/>
            <a:ext cx="693432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20"/>
              </a:solidFill>
              <a:latin typeface="Arial Rounded MT Bold"/>
              <a:ea typeface="宋体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7:07:40Z</dcterms:created>
  <dc:creator/>
  <dc:description/>
  <cp:keywords/>
  <dc:language>en-US</dc:language>
  <cp:lastModifiedBy>ABC</cp:lastModifiedBy>
  <dcterms:modified xsi:type="dcterms:W3CDTF">2013-08-29T02:48:55Z</dcterms:modified>
  <cp:revision>1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2000000000001024140</vt:lpwstr>
  </property>
  <property fmtid="{D5CDD505-2E9C-101B-9397-08002B2CF9AE}" pid="3" name="_TemplateID">
    <vt:lpwstr>TC300067071033</vt:lpwstr>
  </property>
</Properties>
</file>