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arrow.wav" ContentType="audio/x-wav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BD2-CCBE-4143-BD83-B30B6D1A29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9A0A-7F60-4A30-949B-57BA12A6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③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C9D-B40B-4032-B918-DF070249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3BE-2A89-47F8-B760-7854A77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E01-C1EC-4C3C-BFC4-1B1EF1E9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DB2-2187-4AAD-A016-9DCF16F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7BB-8560-471D-A423-C50B3CE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F7E-E381-48F8-A947-35D524E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777-B5E9-42CA-9B23-1B25B3A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08A-4193-4AF0-BFE6-076FF42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EE7-7EC8-4CD7-8F78-5197FD1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A19-EA45-4538-90CA-5ECD558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46E-A7EF-4289-B55D-1D9D5D9D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DE2-8C18-4029-807C-9FB5E113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DF25-A95F-462E-AA55-680E4B0D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2B0-EEAB-468F-B7E8-20F01EB2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A030-B245-4191-9000-264D32D3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91EB-653D-40AE-A4A5-D154EAEA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36DB-BAD1-41F8-97D0-067E3177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5E4B-0BE5-4C6F-8DF4-9C8D84C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BDC1-8BD3-48EC-B7B4-86FBAD8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74F7-D027-4499-A6B4-F31D5A7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6EE7-D0EF-4332-BEC1-619697B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A0A0-639C-41AB-826A-19112765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743C-99D5-4A14-B130-8BBE28B4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CF7-F0EF-469F-A09B-541C322E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1815840" y="6502320"/>
            <a:ext cx="6172200" cy="3556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飞雪资源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fxzyw.com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小学精品资源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txred.5d6d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E8D2-FD6F-4841-9B56-CC517B2F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D79-9622-401C-A8B2-86F76BD441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pic19.nipic.com/20120225/9448003_170835066316_2.jpg"/>
          <p:cNvPicPr/>
          <p:nvPr/>
        </p:nvPicPr>
        <p:blipFill>
          <a:blip r:embed="rId1"/>
          <a:srcRect l="5470" t="14684" r="468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28760" y="3357720"/>
            <a:ext cx="785808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汉仪秀英体简"/>
                <a:ea typeface="汉仪秀英体简"/>
              </a:rPr>
              <a:t>七律 长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汉仪秀英体简"/>
                <a:ea typeface="汉仪秀英体简"/>
              </a:rPr>
              <a:t>毛泽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16000" y="1268280"/>
            <a:ext cx="4906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五岭</a:t>
            </a:r>
            <a:r>
              <a:rPr b="1" lang="zh-CN" sz="4400" spc="-1" strike="noStrike">
                <a:solidFill>
                  <a:srgbClr val="8f1e0b"/>
                </a:solidFill>
                <a:latin typeface="Times New Roman"/>
              </a:rPr>
              <a:t>逶迤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细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乌蒙</a:t>
            </a:r>
            <a:r>
              <a:rPr b="1" lang="zh-CN" sz="4400" spc="-1" strike="noStrike">
                <a:solidFill>
                  <a:srgbClr val="8f1e0b"/>
                </a:solidFill>
                <a:latin typeface="Times New Roman"/>
              </a:rPr>
              <a:t>磅礴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泥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2771640" y="198900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2771640" y="393372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762200" y="270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形容绵延不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704960" y="455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形容巍峨高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5364000" y="1773360"/>
            <a:ext cx="1656000" cy="1150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V="1">
            <a:off x="5364000" y="2923920"/>
            <a:ext cx="1656000" cy="71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020000" y="2492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对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24000" y="1413000"/>
            <a:ext cx="97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f0101"/>
                </a:solidFill>
                <a:latin typeface="Arial"/>
                <a:ea typeface="华文新魏"/>
              </a:rPr>
              <a:t>承接“千山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692360" y="404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颔        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95280" y="836640"/>
            <a:ext cx="526716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五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逶迤腾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细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乌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磅礴走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泥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2124000" y="1773360"/>
            <a:ext cx="2362320" cy="1625400"/>
          </a:xfrm>
          <a:custGeom>
            <a:avLst/>
            <a:gdLst>
              <a:gd name="textAreaLeft" fmla="*/ 0 w 2362320"/>
              <a:gd name="textAreaRight" fmla="*/ 2362680 w 2362320"/>
              <a:gd name="textAreaTop" fmla="*/ 406440 h 1625400"/>
              <a:gd name="textAreaBottom" fmla="*/ 1219320 h 162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124000" y="2205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比喻、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03640" y="1052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f1e0b"/>
                </a:solidFill>
                <a:latin typeface="Times New Roman"/>
                <a:ea typeface="楷体_GB2312"/>
              </a:rPr>
              <a:t>突出表现红军敢于战胜一切困难的高大形象和伟大气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00000" y="1700280"/>
            <a:ext cx="3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39640" y="1844640"/>
            <a:ext cx="684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金沙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水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云崖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暖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大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横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铁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寒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533520"/>
            <a:ext cx="3809880" cy="70344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上承“万水”二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96720" y="2565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68320" y="25653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98764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282920" y="25653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49960" y="25653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形容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697040" y="4365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77720" y="4365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992320" y="43657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211640" y="4365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506920" y="4365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形容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7162920" y="2057400"/>
            <a:ext cx="380880" cy="3048120"/>
          </a:xfrm>
          <a:custGeom>
            <a:avLst/>
            <a:gdLst>
              <a:gd name="textAreaLeft" fmla="*/ 0 w 380880"/>
              <a:gd name="textAreaRight" fmla="*/ 13752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5"/>
          <p:cNvSpPr txBox="1"/>
          <p:nvPr/>
        </p:nvSpPr>
        <p:spPr>
          <a:xfrm rot="5400000">
            <a:off x="6972120" y="30099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对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284720" y="476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颈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0" y="1773360"/>
            <a:ext cx="9144000" cy="3962160"/>
          </a:xfrm>
          <a:prstGeom prst="cloudCallout">
            <a:avLst>
              <a:gd name="adj1" fmla="val -47083"/>
              <a:gd name="adj2" fmla="val 66546"/>
            </a:avLst>
          </a:pr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84360" y="836640"/>
            <a:ext cx="4679640" cy="764280"/>
          </a:xfrm>
          <a:prstGeom prst="rect">
            <a:avLst/>
          </a:prstGeom>
          <a:noFill/>
          <a:ln cap="rnd" w="1260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沙水拍云崖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暖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28760" y="2276640"/>
            <a:ext cx="80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暖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字写出了</a:t>
            </a:r>
            <a:r>
              <a:rPr b="1" lang="en-US" sz="4000" spc="-1" strike="noStrike">
                <a:solidFill>
                  <a:srgbClr val="99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月春暖的金沙江风高浪急、暖气蒸腾的实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烘托出红军战士渡江脱险的喜悦心情和一片沸腾的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金沙江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6"/>
          <p:cNvSpPr txBox="1"/>
          <p:nvPr/>
        </p:nvSpPr>
        <p:spPr>
          <a:xfrm>
            <a:off x="2771640" y="357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金沙水拍云崖暖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0" y="1752480"/>
            <a:ext cx="9144000" cy="4572000"/>
          </a:xfrm>
          <a:custGeom>
            <a:avLst/>
            <a:gdLst>
              <a:gd name="textAreaLeft" fmla="*/ 0 w 9144000"/>
              <a:gd name="textAreaRight" fmla="*/ 9144360 w 9144000"/>
              <a:gd name="textAreaTop" fmla="*/ 592560 h 4572000"/>
              <a:gd name="textAreaBottom" fmla="*/ 39794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676520" y="566640"/>
            <a:ext cx="4038480" cy="703440"/>
          </a:xfrm>
          <a:prstGeom prst="rect">
            <a:avLst/>
          </a:prstGeom>
          <a:noFill/>
          <a:ln w="8892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大渡桥横铁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9640" y="227664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0602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980602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980602"/>
                </a:solidFill>
                <a:latin typeface="Times New Roman"/>
                <a:ea typeface="隶书"/>
              </a:rPr>
              <a:t>寒”字既烘托出泸定桥险恶的形势，又描绘出红军战士浴血奋战，飞夺泸定，令敌人胆寒的壮烈情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68360" y="443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0602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980602"/>
                </a:solidFill>
                <a:latin typeface="隶书"/>
                <a:ea typeface="隶书"/>
              </a:rPr>
              <a:t>突出了红军克敌制胜、一往无前的大无畏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大渡桥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819440" y="138240"/>
            <a:ext cx="4038480" cy="703440"/>
          </a:xfrm>
          <a:prstGeom prst="rect">
            <a:avLst/>
          </a:prstGeom>
          <a:noFill/>
          <a:ln w="8892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大渡桥横铁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16360" y="404640"/>
            <a:ext cx="46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更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岷山千里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1763640" y="620640"/>
            <a:ext cx="990720" cy="360360"/>
          </a:xfrm>
          <a:prstGeom prst="leftArrow">
            <a:avLst>
              <a:gd name="adj1" fmla="val 50000"/>
              <a:gd name="adj2" fmla="val 68731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0280" y="228600"/>
            <a:ext cx="1399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承上启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57120" y="1981080"/>
            <a:ext cx="8215560" cy="449604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867280" y="1844640"/>
            <a:ext cx="358920" cy="71928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600200" y="304812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方面表现了红军战士在极其艰苦条件下的乐观主义精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方面表现了红军战士对革命前途的美好向往和自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391520" y="8809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尾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987640" y="112536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三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过后</a:t>
            </a:r>
            <a:r>
              <a:rPr b="1" lang="zh-CN" sz="4400" spc="-1" strike="noStrike">
                <a:solidFill>
                  <a:srgbClr val="cf0101"/>
                </a:solidFill>
                <a:latin typeface="Times New Roman"/>
              </a:rPr>
              <a:t>尽开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56000" y="1773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红一、二、四方面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爬     雪     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5"/>
          <p:cNvSpPr txBox="1"/>
          <p:nvPr/>
        </p:nvSpPr>
        <p:spPr>
          <a:xfrm>
            <a:off x="1908000" y="33336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过草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9"/>
          <p:cNvSpPr/>
          <p:nvPr/>
        </p:nvSpPr>
        <p:spPr>
          <a:xfrm>
            <a:off x="3600360" y="92088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毛泽东，字润之，笔名子任。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89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6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日生于湖南湘潭韶山冲一个农民家庭。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976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日在北京逝世。他是中国人民的领袖，马克思主义者，伟大的无产阶级革命家、战略家和理论家，中国共产党、中国人民解放军和中华人民共和国的主要缔造者和领导人，诗人，书法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{3A0D0AC6-1A7E-4086-BB2E-A249C8890207}"/>
          <p:cNvPicPr/>
          <p:nvPr/>
        </p:nvPicPr>
        <p:blipFill>
          <a:blip r:embed="rId1"/>
          <a:stretch/>
        </p:blipFill>
        <p:spPr>
          <a:xfrm>
            <a:off x="0" y="1428840"/>
            <a:ext cx="3386160" cy="50004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25"/>
          <p:cNvSpPr txBox="1"/>
          <p:nvPr/>
        </p:nvSpPr>
        <p:spPr>
          <a:xfrm>
            <a:off x="1622520" y="5716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介绍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长征地图"/>
          <p:cNvPicPr/>
          <p:nvPr/>
        </p:nvPicPr>
        <p:blipFill>
          <a:blip r:embed="rId1"/>
          <a:stretch/>
        </p:blipFill>
        <p:spPr>
          <a:xfrm>
            <a:off x="0" y="192240"/>
            <a:ext cx="9101160" cy="59007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3"/>
          <p:cNvSpPr/>
          <p:nvPr/>
        </p:nvSpPr>
        <p:spPr>
          <a:xfrm>
            <a:off x="7848720" y="6095880"/>
            <a:ext cx="838080" cy="457200"/>
          </a:xfrm>
          <a:prstGeom prst="wedgeRectCallout">
            <a:avLst>
              <a:gd name="adj1" fmla="val -85226"/>
              <a:gd name="adj2" fmla="val -4756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瑞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114800" y="5791320"/>
            <a:ext cx="838080" cy="457200"/>
          </a:xfrm>
          <a:prstGeom prst="wedgeRectCallout">
            <a:avLst>
              <a:gd name="adj1" fmla="val -53787"/>
              <a:gd name="adj2" fmla="val -1322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遵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362320" y="6248520"/>
            <a:ext cx="1143000" cy="457200"/>
          </a:xfrm>
          <a:prstGeom prst="wedgeRectCallout">
            <a:avLst>
              <a:gd name="adj1" fmla="val -47083"/>
              <a:gd name="adj2" fmla="val -14375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沙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2895480" y="3962520"/>
            <a:ext cx="1143000" cy="457200"/>
          </a:xfrm>
          <a:prstGeom prst="wedgeRectCallout">
            <a:avLst>
              <a:gd name="adj1" fmla="val -90277"/>
              <a:gd name="adj2" fmla="val -2812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渡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609480" y="3200400"/>
            <a:ext cx="1143000" cy="457200"/>
          </a:xfrm>
          <a:prstGeom prst="wedgeRectCallout">
            <a:avLst>
              <a:gd name="adj1" fmla="val 97361"/>
              <a:gd name="adj2" fmla="val 7187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雪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1066680" y="2438280"/>
            <a:ext cx="1143000" cy="457200"/>
          </a:xfrm>
          <a:prstGeom prst="wedgeRectCallout">
            <a:avLst>
              <a:gd name="adj1" fmla="val 97361"/>
              <a:gd name="adj2" fmla="val 7187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水草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5638680" y="1295280"/>
            <a:ext cx="1143000" cy="457200"/>
          </a:xfrm>
          <a:prstGeom prst="wedgeRectCallout">
            <a:avLst>
              <a:gd name="adj1" fmla="val -130277"/>
              <a:gd name="adj2" fmla="val -7812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吴起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2124000" y="1125360"/>
            <a:ext cx="838440" cy="457200"/>
          </a:xfrm>
          <a:prstGeom prst="wedgeRectCallout">
            <a:avLst>
              <a:gd name="adj1" fmla="val 109467"/>
              <a:gd name="adj2" fmla="val 7986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会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6781680" y="4724280"/>
            <a:ext cx="2362320" cy="609840"/>
          </a:xfrm>
          <a:prstGeom prst="wedgeEllipseCallout">
            <a:avLst>
              <a:gd name="adj1" fmla="val -19287"/>
              <a:gd name="adj2" fmla="val 17083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一方面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4495680" y="3581280"/>
            <a:ext cx="2362320" cy="533520"/>
          </a:xfrm>
          <a:prstGeom prst="wedgeEllipseCallout">
            <a:avLst>
              <a:gd name="adj1" fmla="val -19287"/>
              <a:gd name="adj2" fmla="val 14523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二方面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962520" y="2514600"/>
            <a:ext cx="2514600" cy="609480"/>
          </a:xfrm>
          <a:prstGeom prst="wedgeEllipseCallout">
            <a:avLst>
              <a:gd name="adj1" fmla="val -45393"/>
              <a:gd name="adj2" fmla="val 10833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四方面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4356000" y="4724280"/>
            <a:ext cx="1143000" cy="457200"/>
          </a:xfrm>
          <a:prstGeom prst="wedgeRectCallout">
            <a:avLst>
              <a:gd name="adj1" fmla="val -98333"/>
              <a:gd name="adj2" fmla="val -2187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赤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无标题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79280" y="620640"/>
            <a:ext cx="424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红军不怕远征难，万水千山只等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岭逶迤腾细浪，乌蒙磅礴走泥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金沙水拍云崖暖，大渡桥横铁索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喜岷山千里雪，三军过后尽开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红黄角束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643280" y="4762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哪两句总领了全诗，它们体现了红军怎样的精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图片111"/>
          <p:cNvPicPr/>
          <p:nvPr/>
        </p:nvPicPr>
        <p:blipFill>
          <a:blip r:embed="rId3"/>
          <a:stretch/>
        </p:blipFill>
        <p:spPr>
          <a:xfrm>
            <a:off x="5796000" y="3645000"/>
            <a:ext cx="1947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无标题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50920" y="1628640"/>
            <a:ext cx="442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军不怕远征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红黄角束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4572000" y="270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体现了红军的英雄气概和百折不挠的勇毅精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643280" y="4762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哪两句总领了全诗，它们体现了红军怎样的精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 文 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首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诗，提出全篇的中心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颔联：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代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颈联：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典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联：总结全诗，突出越过岷山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课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写下的一首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诗生动地概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的艰难历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热情洋溢地赞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畏艰险、英勇顽强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417680" y="114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284720" y="17064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岭、乌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284720" y="2349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金沙、大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215040" y="2921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喜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1285920" y="3564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071880" y="3635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军长征胜利结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5975280" y="413532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万五千里长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586480" y="4635360"/>
            <a:ext cx="31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国工农红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143240" y="51436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革命英雄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9050040" y="6589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84360" y="5877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68360" y="5643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革命乐观主义精神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990720" y="685800"/>
            <a:ext cx="342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4000" y="333360"/>
            <a:ext cx="54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感悟远征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85840" y="1773360"/>
            <a:ext cx="8501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幼圆"/>
                <a:ea typeface="幼圆"/>
              </a:rPr>
              <a:t>1</a:t>
            </a:r>
            <a:r>
              <a:rPr b="1" lang="en-US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诗中展示了红军在长征途中克服困难的五幅雄壮画面，你能一一概括吗？用动词加地名的方式概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选其中最喜欢的一幅，说说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3849840" y="836640"/>
            <a:ext cx="475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五岭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越城岭、都庞岭、萌渚岭、骑四岭、大庾岭，在江西、湖南、广东、广西四省边境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“乌蒙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即乌蒙山，在云南、贵州两省之间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“岷山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四川省北部，绵延四川、甘肃两省边境，海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左右，终年积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20"/>
          <p:cNvSpPr txBox="1"/>
          <p:nvPr/>
        </p:nvSpPr>
        <p:spPr>
          <a:xfrm>
            <a:off x="755640" y="571680"/>
            <a:ext cx="2592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80"/>
                </a:solidFill>
                <a:latin typeface="宋体"/>
              </a:rPr>
              <a:t>课外链接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pic>
        <p:nvPicPr>
          <p:cNvPr id="255" name="Picture 22" descr="bt66"/>
          <p:cNvPicPr/>
          <p:nvPr/>
        </p:nvPicPr>
        <p:blipFill>
          <a:blip r:embed="rId1"/>
          <a:stretch/>
        </p:blipFill>
        <p:spPr>
          <a:xfrm>
            <a:off x="324000" y="6093000"/>
            <a:ext cx="85690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5" descr="env30301b_pic"/>
          <p:cNvPicPr/>
          <p:nvPr/>
        </p:nvPicPr>
        <p:blipFill>
          <a:blip r:embed="rId2"/>
          <a:stretch/>
        </p:blipFill>
        <p:spPr>
          <a:xfrm>
            <a:off x="214200" y="1785960"/>
            <a:ext cx="3421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500280" y="999720"/>
            <a:ext cx="5143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红军巧渡金沙江。 金沙江形势险要，两岸都是悬崖峭壁，水流湍急，敌人戒备森严。但红军一面佯攻龙街，一面分兵到绞车渡奇袭守敌，缴获渡船，活捉了守卫在对岸的敌兵。结果不费一枪一弹夺取了对岸的阵地，使大部队巧渡成功。等敌人发觉赶来时，我军已安然到达江北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468360" y="571680"/>
            <a:ext cx="2798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巧渡金沙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9" name="Picture 6" descr="20061610195953923"/>
          <p:cNvPicPr/>
          <p:nvPr/>
        </p:nvPicPr>
        <p:blipFill>
          <a:blip r:embed="rId1"/>
          <a:stretch/>
        </p:blipFill>
        <p:spPr>
          <a:xfrm>
            <a:off x="214200" y="1785960"/>
            <a:ext cx="319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金沙江"/>
          <p:cNvPicPr/>
          <p:nvPr/>
        </p:nvPicPr>
        <p:blipFill>
          <a:blip r:embed="rId1"/>
          <a:srcRect l="0" t="0" r="0" b="9500"/>
          <a:stretch/>
        </p:blipFill>
        <p:spPr>
          <a:xfrm>
            <a:off x="0" y="9360"/>
            <a:ext cx="7696080" cy="6848640"/>
          </a:xfrm>
          <a:prstGeom prst="rect">
            <a:avLst/>
          </a:prstGeom>
          <a:ln w="0">
            <a:noFill/>
          </a:ln>
        </p:spPr>
      </p:pic>
      <p:sp>
        <p:nvSpPr>
          <p:cNvPr id="261" name="WordArt 3"/>
          <p:cNvSpPr txBox="1"/>
          <p:nvPr/>
        </p:nvSpPr>
        <p:spPr>
          <a:xfrm rot="5400000">
            <a:off x="5638320" y="289548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巧渡金沙江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079-2"/>
          <p:cNvPicPr/>
          <p:nvPr/>
        </p:nvPicPr>
        <p:blipFill>
          <a:blip r:embed="rId1"/>
          <a:stretch/>
        </p:blipFill>
        <p:spPr>
          <a:xfrm>
            <a:off x="468360" y="2000160"/>
            <a:ext cx="36147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4282920" y="120024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泸定桥高悬在大渡河上，当时桥上的木板已经被敌人抽掉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桥上只剩下十三根铁索，叫人看了心惊 胆寒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渡河的勇士们手攀铁索，冒着对岸敌人密集的枪林弹雨前进。不怕 流血牺牲，终于夺下了泸定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1049400" y="500040"/>
            <a:ext cx="3379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飞夺泸定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2"/>
          <p:cNvSpPr/>
          <p:nvPr/>
        </p:nvSpPr>
        <p:spPr>
          <a:xfrm>
            <a:off x="1571760" y="7128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金桥简魏碑"/>
              </a:rPr>
              <a:t>飞夺泸定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0" descr="http://images.takungpao.com/2012/1206/2012120610414241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{B2B740A2-DFC3-4EBE-8EB1-77ADC8174588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岷山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4"/>
          <p:cNvSpPr txBox="1"/>
          <p:nvPr/>
        </p:nvSpPr>
        <p:spPr>
          <a:xfrm>
            <a:off x="1676520" y="380880"/>
            <a:ext cx="5410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喜踏岷山雪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3456000" cy="396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首七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，每句七个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节奏上是每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顿。读时应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下节奏读出“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军不怕远征难”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英雄气概。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bt66"/>
          <p:cNvPicPr/>
          <p:nvPr/>
        </p:nvPicPr>
        <p:blipFill>
          <a:blip r:embed="rId1"/>
          <a:stretch/>
        </p:blipFill>
        <p:spPr>
          <a:xfrm>
            <a:off x="324000" y="6093000"/>
            <a:ext cx="8569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WordArt 5"/>
          <p:cNvSpPr txBox="1"/>
          <p:nvPr/>
        </p:nvSpPr>
        <p:spPr>
          <a:xfrm>
            <a:off x="2627280" y="836640"/>
            <a:ext cx="2521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00080"/>
                </a:solidFill>
                <a:latin typeface="宋体"/>
              </a:rPr>
              <a:t>朗读指导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924360" y="1886040"/>
            <a:ext cx="4895640" cy="3993480"/>
          </a:xfrm>
          <a:prstGeom prst="rect">
            <a:avLst/>
          </a:prstGeom>
          <a:gradFill rotWithShape="0">
            <a:gsLst>
              <a:gs pos="0">
                <a:srgbClr val="d6d5c8"/>
              </a:gs>
              <a:gs pos="100000">
                <a:srgbClr val="dbd6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红军／不怕／远征／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万水／千山／只／等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五岭／逶迤／腾／细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乌蒙／磅礴／走／泥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金沙／水拍／云崖／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大渡／桥横／铁索／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更喜／岷山／千里／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三军／过后／尽／开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0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3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6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9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2" dur="2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8" descr="050613wzzhzs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357440" y="213840"/>
            <a:ext cx="421164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天高云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望断南飞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不到长城非好汉，屈指行程两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六盘山上高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红旗漫卷西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今日长缨在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金桥简魏碑"/>
              </a:rPr>
              <a:t>何时缚住苍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23"/>
          <p:cNvSpPr txBox="1"/>
          <p:nvPr/>
        </p:nvSpPr>
        <p:spPr>
          <a:xfrm>
            <a:off x="755640" y="214200"/>
            <a:ext cx="23162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800080"/>
                </a:solidFill>
                <a:latin typeface="宋体"/>
              </a:rPr>
              <a:t>拓展练习</a:t>
            </a:r>
            <a:endParaRPr b="1" lang="en-US" sz="2400" spc="1" strike="noStrike">
              <a:ln w="0">
                <a:noFill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pic>
        <p:nvPicPr>
          <p:cNvPr id="279" name="WordArt 26" descr=""/>
          <p:cNvPicPr/>
          <p:nvPr/>
        </p:nvPicPr>
        <p:blipFill>
          <a:blip r:embed="rId2"/>
          <a:stretch/>
        </p:blipFill>
        <p:spPr>
          <a:xfrm>
            <a:off x="701640" y="1127160"/>
            <a:ext cx="3376800" cy="1427040"/>
          </a:xfrm>
          <a:prstGeom prst="rect">
            <a:avLst/>
          </a:prstGeom>
          <a:ln w="0">
            <a:noFill/>
          </a:ln>
        </p:spPr>
      </p:pic>
      <p:pic>
        <p:nvPicPr>
          <p:cNvPr id="280" name="WordArt 27" descr=""/>
          <p:cNvPicPr/>
          <p:nvPr/>
        </p:nvPicPr>
        <p:blipFill>
          <a:blip r:embed="rId3"/>
          <a:stretch/>
        </p:blipFill>
        <p:spPr>
          <a:xfrm>
            <a:off x="1274760" y="4200480"/>
            <a:ext cx="2352600" cy="5112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1571760" y="3071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背诵全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默写全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阅读或观看有关红军长征的故事书或电影电视片，有条件的同学，可以上互联网点击关键词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长征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，查找并阅读有关长征的故事，写一篇三百字左右的读后感或观后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无标题jjk"/>
          <p:cNvPicPr/>
          <p:nvPr/>
        </p:nvPicPr>
        <p:blipFill>
          <a:blip r:embed="rId1"/>
          <a:stretch/>
        </p:blipFill>
        <p:spPr>
          <a:xfrm>
            <a:off x="179280" y="214200"/>
            <a:ext cx="8964720" cy="664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920" y="1000080"/>
            <a:ext cx="8929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中国工农红军为北上抗日，粉碎国民党反动派的围剿，保存自己的实力，于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1934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月从江西瑞金出发，一路跋山涉水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指图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，翻过五岭，突破乌江天险，四渡赤水，越过气势磅礴的乌蒙山，接着又巧渡金沙江，强渡大渡河，飞夺沪定桥，然后爬雪山，过草地，最后翻过岷山，于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1935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月到达陕北。在这短短的一年时间里，红军战士开动每人的双脚，长驱二万余里，纵横十一个省，完成举世无双的二万五千里长征。这首诗就是毛泽东同志在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1935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月长征即将结束的时候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2340000" y="2811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时代背景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285560"/>
            <a:ext cx="885816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一首七言诗。所谓的七言诗就是七言八句。言，就是字，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行有七个字，一共有八句话。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七律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七律诗中间四句两两相对应，而且朗读的时候还有和谐的韵律与鲜明的节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这首诗一共有八句话，每两句子为一联，分别被称作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颔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颈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尾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1982880" y="14292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金桥简魏碑"/>
              </a:rPr>
              <a:t>诗歌体裁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金桥简魏碑"/>
              <a:ea typeface="金桥简魏碑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57120" y="1643040"/>
            <a:ext cx="845820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红军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怕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远征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难，万水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千山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等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五岭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逶迤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腾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细浪，乌蒙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磅礴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走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泥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金沙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水拍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云崖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暖，大渡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桥横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铁索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更喜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岷山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千里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雪，三军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过后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尽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开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638440" y="214200"/>
            <a:ext cx="3505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七律长征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52480" y="3429000"/>
            <a:ext cx="99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187280" y="2214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ēi y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072040" y="221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ng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42920" y="4214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1785600"/>
            <a:ext cx="78184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水千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逶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2195640" y="571680"/>
            <a:ext cx="251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800080"/>
                </a:solidFill>
                <a:latin typeface="金桥简魏碑"/>
              </a:rPr>
              <a:t>词语积累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latin typeface="金桥简魏碑"/>
              <a:ea typeface="金桥简魏碑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714680" y="1928880"/>
            <a:ext cx="5879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指红军的二万五千里长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28920" y="2554200"/>
            <a:ext cx="68040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无数的山、无数的水，实指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长征中遇到的无数艰难困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643040" y="37861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平平常常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571760" y="4500720"/>
            <a:ext cx="7024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弯弯曲曲连绵不绝的样子。常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用来形容道路、山脉、河流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85840" y="7365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357200" y="50004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气势）盛大、雄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气势）充满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：革命者大义凛然、正气磅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吓得敌人心惊胆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14280" y="271476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指陆军、海军、空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军队的统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本课指中国工农红军第一、 第二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第四方面军，也就是整个红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357200" y="50720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脸上现出高兴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24000" y="765000"/>
            <a:ext cx="442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军不怕远征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788000" y="54936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远征难”三个字怎么理解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643280" y="1773360"/>
            <a:ext cx="43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0602"/>
                </a:solidFill>
                <a:latin typeface="Times New Roman"/>
              </a:rPr>
              <a:t>远征：行程之远，历时之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0602"/>
                </a:solidFill>
                <a:latin typeface="Times New Roman"/>
              </a:rPr>
              <a:t>难：牺牲之大，经历之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85840" y="2637000"/>
            <a:ext cx="428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红军不怕万里长征路上的一切艰难困苦，把千山万水都看得极为平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071960" y="4343400"/>
            <a:ext cx="5072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f0101"/>
                </a:solidFill>
                <a:latin typeface="Times New Roman"/>
              </a:rPr>
              <a:t>远征难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总领全文，总括了红军长征途中所遇到的一切艰难困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403280" y="18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f0101"/>
                </a:solidFill>
                <a:latin typeface="Times New Roman"/>
                <a:ea typeface="华文行楷"/>
              </a:rPr>
              <a:t>首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01:53:45Z</dcterms:created>
  <dc:creator>微软中国</dc:creator>
  <dc:description/>
  <dc:language>en-US</dc:language>
  <cp:lastModifiedBy>马玲玲</cp:lastModifiedBy>
  <dcterms:modified xsi:type="dcterms:W3CDTF">2013-12-05T08:38:13Z</dcterms:modified>
  <cp:revision>97</cp:revision>
  <dc:subject/>
  <dc:title>幻灯片 1</dc:title>
</cp:coreProperties>
</file>