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jpeg" ContentType="image/jpeg"/>
  <Override PartName="/ppt/media/NOTIFY.WAV" ContentType="audio/x-wav"/>
  <Override PartName="/ppt/media/image3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12.jpeg" ContentType="image/jpeg"/>
  <Override PartName="/ppt/media/image6.png" ContentType="image/png"/>
  <Override PartName="/ppt/media/image16.png" ContentType="image/png"/>
  <Override PartName="/ppt/media/chimes.wav" ContentType="audio/x-wav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90A-0A08-475D-AED5-B775D20F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85E-0FFC-4DAF-87E0-F5D3DAEB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527-8600-4D33-AB36-380D85C5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F51-28F6-419E-85D8-00053FF6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3CB0-D376-459F-8696-3CFFD266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6F34-486E-41CB-8A26-3A62CA4D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B392-CD5C-445E-A961-E887678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61D9-D8E8-4E8D-B8A6-49509555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8101-7D33-4C29-876E-94C39261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4BCA-5E3A-4BF3-91F3-3303F8D4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BEFB-F08A-4D63-9736-9B9E6AA1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159-23E7-48E9-A766-7AC6C461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5BA4-F35B-4F46-B4EE-44D9820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0DA9-0893-42EA-B31D-597CED4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0683-D9F5-426A-99F4-F86D86C1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7D34-4048-423E-92CC-10275C78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82EF-C1A9-4BFE-A8F2-F35B7900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DD1A-BCB4-4243-8A2A-4EFAB4B4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F627-0BDC-40DA-BA80-AF6F9D51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3BCC-5A85-4443-8437-50EC61DF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1F392-B7B2-4B02-9BAF-61E54D8B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E893-4B89-499B-8D2D-452B4065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EE5-96D9-480C-9619-43C7B3C9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8C92-B65C-438B-8A30-A2B7D9D5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0449-837A-45E3-8617-7B435A89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C9EFE-D78D-4D68-84BB-7CB21BD8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18F8-E300-42BC-82C3-2E22A2FB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96F0-A15D-4051-AD45-9A1E324D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D1B8-A42A-4A3A-97A3-8C9C3A17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5B26-8059-4EA7-BEFC-EECD78CF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FDD7C-56DE-4F40-8DB1-6DA13617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66BB7-57FE-483F-B338-6E47F345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4CA14-CCDC-48DA-9A0C-4D215EC8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83E-F9DB-4AF8-B44D-701634D1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5641-D6BE-4047-B137-54962C3E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68D9-2334-41C7-81CA-5746BD30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5BD5C-B0B2-45C2-9540-1D11F97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1D8D-B69E-407D-AFCD-D723CB6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385D-79D6-439F-98DB-EF477732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3B1C-99BE-4DBE-A79E-FB6F98D4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F60D-231E-4015-996D-B3A20562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E0415-A510-470E-BF6C-57B3DDC6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DE93C-C9E3-426B-8F20-CAA1E0CB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49B78-4AEA-4B2D-9086-A328DAC9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ADD-FC53-42D8-BC0E-20FCE891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753B-1EA0-4B37-BDBA-533D82E4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5C450-3264-411D-95D9-CE2D1AEF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440E6-4DDF-4D5A-A25E-A9BFC220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38C12-41C9-4722-9234-D5A28709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C2737-0954-4CC9-9C0E-5D464F61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407AE-AB88-4176-AF32-DBBAE521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B4E5A-6A6A-4108-B0D5-F1E1E897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A40E-4900-409B-8A28-7D4B0BAC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8B2E1-95DB-48C9-B9D4-577AA98B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C6CD9-F6E5-4FBE-8FEC-72EB2AA4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342-ED52-4033-8FD3-EB4BD65F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FAC7C-B799-499B-832E-0180CCBC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C83FD-1DCB-4761-B84F-1B8EB11F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12C0F-749E-452C-8CCD-7A26DBD8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92D67-7737-4B94-A917-3786A3A0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E40C8-988F-466E-9D7D-49E82904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F7AAF-0191-4DDD-B17D-4EBF0917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E7DBC-27AF-48CF-893A-E1222F9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816ED-3B3C-4FBB-A3E7-DFE10C20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2AABF-A0B8-442B-A663-8004A934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4DB02-F213-4665-B180-7E2F5FC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026-1E19-418A-B40D-BAC3D1BF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297A7-E79A-4807-8A6B-F1898FCE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8A96-74D2-4F14-AA9F-97B091D7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1BE7F-DD81-4EB2-BE70-BB66C1A6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36F-8F35-41D2-ADC9-EEB62466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6D7-9B97-4992-A8CF-41BB2D6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537E-A4B8-4B16-871F-C3B0DD6C4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3FEC-67D0-4D68-8B17-9ABC5A551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8CB4-C329-4950-B18D-E4404207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5723-F4C1-4B3A-B727-B9A599F6D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DA69-9D37-45B2-9B5E-F20BB786F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C9EC-07EE-494C-8E0D-1C3D8764F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NOTIFY.WAV"/><Relationship Id="rId3" Type="http://schemas.openxmlformats.org/officeDocument/2006/relationships/audio" Target="../media/NOTIFY.WAV"/><Relationship Id="rId4" Type="http://schemas.openxmlformats.org/officeDocument/2006/relationships/audio" Target="../media/NOTIFY.WAV"/><Relationship Id="rId5" Type="http://schemas.openxmlformats.org/officeDocument/2006/relationships/audio" Target="../media/NOTIFY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642960" y="4665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八年级物理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上    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[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人教版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]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1882800" y="5062680"/>
            <a:ext cx="2016000" cy="1009440"/>
            <a:chOff x="1882800" y="5062680"/>
            <a:chExt cx="2016000" cy="1009440"/>
          </a:xfrm>
        </p:grpSpPr>
        <p:sp>
          <p:nvSpPr>
            <p:cNvPr id="248" name="Oval 5"/>
            <p:cNvSpPr/>
            <p:nvPr/>
          </p:nvSpPr>
          <p:spPr>
            <a:xfrm>
              <a:off x="1882800" y="5062680"/>
              <a:ext cx="1942920" cy="10094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1882800" y="526392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学习新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7"/>
          <p:cNvGrpSpPr/>
          <p:nvPr/>
        </p:nvGrpSpPr>
        <p:grpSpPr>
          <a:xfrm>
            <a:off x="5411880" y="4991040"/>
            <a:ext cx="2160360" cy="1009800"/>
            <a:chOff x="5411880" y="4991040"/>
            <a:chExt cx="2160360" cy="1009800"/>
          </a:xfrm>
        </p:grpSpPr>
        <p:sp>
          <p:nvSpPr>
            <p:cNvPr id="251" name="Oval 8"/>
            <p:cNvSpPr/>
            <p:nvPr/>
          </p:nvSpPr>
          <p:spPr>
            <a:xfrm>
              <a:off x="5411880" y="4991040"/>
              <a:ext cx="1942920" cy="1009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9"/>
            <p:cNvSpPr/>
            <p:nvPr/>
          </p:nvSpPr>
          <p:spPr>
            <a:xfrm>
              <a:off x="5556240" y="520848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检测反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9"/>
          <p:cNvSpPr/>
          <p:nvPr/>
        </p:nvSpPr>
        <p:spPr>
          <a:xfrm>
            <a:off x="1428840" y="3000240"/>
            <a:ext cx="614340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节  平面镜成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2265480" y="1635120"/>
            <a:ext cx="41637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章  光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18"/>
          <p:cNvSpPr/>
          <p:nvPr/>
        </p:nvSpPr>
        <p:spPr>
          <a:xfrm>
            <a:off x="611280" y="1512720"/>
            <a:ext cx="0" cy="57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611280" y="2084400"/>
            <a:ext cx="0" cy="447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2"/>
          <p:cNvSpPr/>
          <p:nvPr/>
        </p:nvSpPr>
        <p:spPr>
          <a:xfrm>
            <a:off x="611280" y="2532240"/>
            <a:ext cx="0" cy="447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4"/>
          <p:cNvSpPr/>
          <p:nvPr/>
        </p:nvSpPr>
        <p:spPr>
          <a:xfrm>
            <a:off x="611280" y="2979720"/>
            <a:ext cx="0" cy="45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6"/>
          <p:cNvSpPr/>
          <p:nvPr/>
        </p:nvSpPr>
        <p:spPr>
          <a:xfrm>
            <a:off x="611280" y="3430440"/>
            <a:ext cx="0" cy="44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>
            <a:off x="611280" y="3879720"/>
            <a:ext cx="0" cy="44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1619280" y="404640"/>
            <a:ext cx="41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见问题汇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95280" y="1197000"/>
            <a:ext cx="52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为什么在白纸上画一条竖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69920" y="2284560"/>
            <a:ext cx="476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2131560" y="263700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为什么只点燃一支蜡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468360" y="32846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点燃两只就分不清哪一个是对面点燃的蜡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1422000" y="407664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为什么用玻璃板而不用平面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4581360" y="4797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即可以成像又可以看到后面的物体，以便确定像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468360" y="1916280"/>
            <a:ext cx="51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答：便于固定平面镜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Line 18"/>
          <p:cNvSpPr/>
          <p:nvPr/>
        </p:nvSpPr>
        <p:spPr>
          <a:xfrm>
            <a:off x="611280" y="1512720"/>
            <a:ext cx="0" cy="57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0"/>
          <p:cNvSpPr/>
          <p:nvPr/>
        </p:nvSpPr>
        <p:spPr>
          <a:xfrm>
            <a:off x="611280" y="2084400"/>
            <a:ext cx="0" cy="447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611280" y="2532240"/>
            <a:ext cx="0" cy="447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4"/>
          <p:cNvSpPr/>
          <p:nvPr/>
        </p:nvSpPr>
        <p:spPr>
          <a:xfrm>
            <a:off x="611280" y="2979720"/>
            <a:ext cx="0" cy="45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6"/>
          <p:cNvSpPr/>
          <p:nvPr/>
        </p:nvSpPr>
        <p:spPr>
          <a:xfrm>
            <a:off x="611280" y="3430440"/>
            <a:ext cx="0" cy="44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8"/>
          <p:cNvSpPr/>
          <p:nvPr/>
        </p:nvSpPr>
        <p:spPr>
          <a:xfrm>
            <a:off x="611280" y="3879720"/>
            <a:ext cx="0" cy="44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258920" y="404640"/>
            <a:ext cx="41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见问题汇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69920" y="2355840"/>
            <a:ext cx="476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1206000" y="142884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用什么方法比较像与物的大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3911400" y="209880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等效替代法，用两根大小相同的蜡烛，让一根蜡烛与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根的像完全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108000" y="3070080"/>
            <a:ext cx="82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为什么玻璃板要竖直放置？如果倾斜会怎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250920" y="3646440"/>
            <a:ext cx="74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如果玻璃板不竖直，就无法使像与未点燃的蜡烛完全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209520" y="475308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若无论怎么移动平面镜后的蜡烛都无法与像重合，有可能是什么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252360" y="5734080"/>
            <a:ext cx="65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玻璃板放置倾斜，没有与桌面垂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标题 1"/>
          <p:cNvSpPr/>
          <p:nvPr/>
        </p:nvSpPr>
        <p:spPr>
          <a:xfrm>
            <a:off x="1116000" y="549360"/>
            <a:ext cx="475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二、平面镜成虚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55600" y="1628640"/>
            <a:ext cx="595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上面的实验中，平面镜后面并没有点燃的蜡烛，但是我们却看到平面镜后面好像有蜡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们知道，人眼之所以能看见物体，是因为有光射入眼睛，我们能看到物体在平面镜里成的像，成像的光是从哪里来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1" descr=""/>
          <p:cNvPicPr/>
          <p:nvPr/>
        </p:nvPicPr>
        <p:blipFill>
          <a:blip r:embed="rId1"/>
          <a:stretch/>
        </p:blipFill>
        <p:spPr>
          <a:xfrm>
            <a:off x="6156360" y="2276640"/>
            <a:ext cx="287964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6415200" y="1841400"/>
            <a:ext cx="75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6491160" y="3213000"/>
            <a:ext cx="1447920" cy="1447920"/>
            <a:chOff x="6491160" y="3213000"/>
            <a:chExt cx="1447920" cy="1447920"/>
          </a:xfrm>
        </p:grpSpPr>
        <p:sp>
          <p:nvSpPr>
            <p:cNvPr id="350" name="Line 6"/>
            <p:cNvSpPr/>
            <p:nvPr/>
          </p:nvSpPr>
          <p:spPr>
            <a:xfrm>
              <a:off x="6491160" y="3213000"/>
              <a:ext cx="1447920" cy="1447920"/>
            </a:xfrm>
            <a:prstGeom prst="line">
              <a:avLst/>
            </a:prstGeom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7"/>
            <p:cNvSpPr/>
            <p:nvPr/>
          </p:nvSpPr>
          <p:spPr>
            <a:xfrm flipH="1" flipV="1">
              <a:off x="6932520" y="3654360"/>
              <a:ext cx="503280" cy="50328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8"/>
          <p:cNvGrpSpPr/>
          <p:nvPr/>
        </p:nvGrpSpPr>
        <p:grpSpPr>
          <a:xfrm>
            <a:off x="6508800" y="1846440"/>
            <a:ext cx="1371600" cy="1371600"/>
            <a:chOff x="6508800" y="1846440"/>
            <a:chExt cx="1371600" cy="1371600"/>
          </a:xfrm>
        </p:grpSpPr>
        <p:sp>
          <p:nvSpPr>
            <p:cNvPr id="353" name="Line 9"/>
            <p:cNvSpPr/>
            <p:nvPr/>
          </p:nvSpPr>
          <p:spPr>
            <a:xfrm flipV="1">
              <a:off x="6508800" y="1846440"/>
              <a:ext cx="1371600" cy="1371600"/>
            </a:xfrm>
            <a:prstGeom prst="line">
              <a:avLst/>
            </a:prstGeom>
            <a:ln w="22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"/>
            <p:cNvSpPr/>
            <p:nvPr/>
          </p:nvSpPr>
          <p:spPr>
            <a:xfrm flipV="1">
              <a:off x="6800760" y="2403360"/>
              <a:ext cx="522360" cy="522360"/>
            </a:xfrm>
            <a:prstGeom prst="line">
              <a:avLst/>
            </a:prstGeom>
            <a:ln w="648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Line 11"/>
          <p:cNvSpPr/>
          <p:nvPr/>
        </p:nvSpPr>
        <p:spPr>
          <a:xfrm flipH="1">
            <a:off x="5043240" y="3213000"/>
            <a:ext cx="144756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2"/>
          <p:cNvGrpSpPr/>
          <p:nvPr/>
        </p:nvGrpSpPr>
        <p:grpSpPr>
          <a:xfrm>
            <a:off x="5043600" y="4660920"/>
            <a:ext cx="2895480" cy="0"/>
            <a:chOff x="5043600" y="4660920"/>
            <a:chExt cx="2895480" cy="0"/>
          </a:xfrm>
        </p:grpSpPr>
        <p:sp>
          <p:nvSpPr>
            <p:cNvPr id="357" name="Line 13"/>
            <p:cNvSpPr/>
            <p:nvPr/>
          </p:nvSpPr>
          <p:spPr>
            <a:xfrm>
              <a:off x="6491520" y="4660920"/>
              <a:ext cx="1447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4"/>
            <p:cNvSpPr/>
            <p:nvPr/>
          </p:nvSpPr>
          <p:spPr>
            <a:xfrm>
              <a:off x="5043600" y="466092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Line 15"/>
          <p:cNvSpPr/>
          <p:nvPr/>
        </p:nvSpPr>
        <p:spPr>
          <a:xfrm flipV="1">
            <a:off x="5043600" y="3670200"/>
            <a:ext cx="144756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6"/>
          <p:cNvGrpSpPr/>
          <p:nvPr/>
        </p:nvGrpSpPr>
        <p:grpSpPr>
          <a:xfrm>
            <a:off x="6491160" y="2451240"/>
            <a:ext cx="1828800" cy="1218960"/>
            <a:chOff x="6491160" y="2451240"/>
            <a:chExt cx="1828800" cy="1218960"/>
          </a:xfrm>
        </p:grpSpPr>
        <p:sp>
          <p:nvSpPr>
            <p:cNvPr id="361" name="Line 17"/>
            <p:cNvSpPr/>
            <p:nvPr/>
          </p:nvSpPr>
          <p:spPr>
            <a:xfrm flipV="1">
              <a:off x="6491160" y="2451240"/>
              <a:ext cx="1828800" cy="1218960"/>
            </a:xfrm>
            <a:prstGeom prst="line">
              <a:avLst/>
            </a:prstGeom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8"/>
            <p:cNvSpPr/>
            <p:nvPr/>
          </p:nvSpPr>
          <p:spPr>
            <a:xfrm flipV="1">
              <a:off x="6948360" y="2817360"/>
              <a:ext cx="838080" cy="54396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9"/>
          <p:cNvGrpSpPr/>
          <p:nvPr/>
        </p:nvGrpSpPr>
        <p:grpSpPr>
          <a:xfrm>
            <a:off x="6491160" y="3670200"/>
            <a:ext cx="1447920" cy="990720"/>
            <a:chOff x="6491160" y="3670200"/>
            <a:chExt cx="1447920" cy="990720"/>
          </a:xfrm>
        </p:grpSpPr>
        <p:sp>
          <p:nvSpPr>
            <p:cNvPr id="364" name="Line 20"/>
            <p:cNvSpPr/>
            <p:nvPr/>
          </p:nvSpPr>
          <p:spPr>
            <a:xfrm flipH="1" flipV="1">
              <a:off x="6491160" y="3670200"/>
              <a:ext cx="1447920" cy="990720"/>
            </a:xfrm>
            <a:prstGeom prst="line">
              <a:avLst/>
            </a:prstGeom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1"/>
            <p:cNvSpPr/>
            <p:nvPr/>
          </p:nvSpPr>
          <p:spPr>
            <a:xfrm flipH="1" flipV="1">
              <a:off x="6813000" y="3898800"/>
              <a:ext cx="685800" cy="45720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22"/>
          <p:cNvGrpSpPr/>
          <p:nvPr/>
        </p:nvGrpSpPr>
        <p:grpSpPr>
          <a:xfrm>
            <a:off x="5729400" y="4584600"/>
            <a:ext cx="1447200" cy="228600"/>
            <a:chOff x="5729400" y="4584600"/>
            <a:chExt cx="1447200" cy="228600"/>
          </a:xfrm>
        </p:grpSpPr>
        <p:grpSp>
          <p:nvGrpSpPr>
            <p:cNvPr id="367" name="Group 23"/>
            <p:cNvGrpSpPr/>
            <p:nvPr/>
          </p:nvGrpSpPr>
          <p:grpSpPr>
            <a:xfrm>
              <a:off x="5729400" y="4584600"/>
              <a:ext cx="151920" cy="228600"/>
              <a:chOff x="5729400" y="4584600"/>
              <a:chExt cx="151920" cy="228600"/>
            </a:xfrm>
          </p:grpSpPr>
          <p:sp>
            <p:nvSpPr>
              <p:cNvPr id="368" name="Line 24"/>
              <p:cNvSpPr/>
              <p:nvPr/>
            </p:nvSpPr>
            <p:spPr>
              <a:xfrm>
                <a:off x="5729400" y="45846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>
                <a:off x="5881320" y="45846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7024320" y="4584600"/>
              <a:ext cx="152280" cy="228600"/>
              <a:chOff x="7024320" y="4584600"/>
              <a:chExt cx="152280" cy="22860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7024320" y="45846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>
                <a:off x="7176600" y="45846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Text Box 29"/>
          <p:cNvSpPr/>
          <p:nvPr/>
        </p:nvSpPr>
        <p:spPr>
          <a:xfrm>
            <a:off x="8007840" y="4432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30"/>
          <p:cNvSpPr/>
          <p:nvPr/>
        </p:nvSpPr>
        <p:spPr>
          <a:xfrm flipV="1">
            <a:off x="7897680" y="4626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31"/>
          <p:cNvGrpSpPr/>
          <p:nvPr/>
        </p:nvGrpSpPr>
        <p:grpSpPr>
          <a:xfrm>
            <a:off x="4567680" y="4510080"/>
            <a:ext cx="545760" cy="459720"/>
            <a:chOff x="4567680" y="4510080"/>
            <a:chExt cx="545760" cy="459720"/>
          </a:xfrm>
        </p:grpSpPr>
        <p:sp>
          <p:nvSpPr>
            <p:cNvPr id="376" name="Text Box 32"/>
            <p:cNvSpPr/>
            <p:nvPr/>
          </p:nvSpPr>
          <p:spPr>
            <a:xfrm>
              <a:off x="4567680" y="451008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S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3"/>
            <p:cNvSpPr/>
            <p:nvPr/>
          </p:nvSpPr>
          <p:spPr>
            <a:xfrm flipV="1">
              <a:off x="5037120" y="466236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" name="Picture 35" descr="未标题-1 副本"/>
          <p:cNvPicPr/>
          <p:nvPr/>
        </p:nvPicPr>
        <p:blipFill>
          <a:blip r:embed="rId1"/>
          <a:stretch/>
        </p:blipFill>
        <p:spPr>
          <a:xfrm>
            <a:off x="8020080" y="13842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6"/>
          <p:cNvSpPr/>
          <p:nvPr/>
        </p:nvSpPr>
        <p:spPr>
          <a:xfrm>
            <a:off x="6491160" y="4660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标题 1"/>
          <p:cNvSpPr/>
          <p:nvPr/>
        </p:nvSpPr>
        <p:spPr>
          <a:xfrm>
            <a:off x="971640" y="476280"/>
            <a:ext cx="475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平面镜成虚像原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328680" y="1536840"/>
            <a:ext cx="44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如右图，光源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向四处发光，一些光经平面镜反射后进入人的眼睛，引起视觉。由于有光沿直线传播的经验，人会感觉到这些光好像是从进入人眼光线的反向延长线的交点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S′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处发出的。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S′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就是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在平面镜中的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252360" y="530064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由于平面镜后并不存在光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进入人眼的光并非真正来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所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叫做虚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4861080" y="2147760"/>
            <a:ext cx="371772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e0e3"/>
                </a:solidFill>
                <a:latin typeface="宋体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bbe0e3"/>
                </a:solidFill>
                <a:latin typeface="宋体"/>
                <a:ea typeface="微软雅黑"/>
              </a:rPr>
              <a:t>水里的“月亮”是真实的吗？它是怎么形成的</a:t>
            </a:r>
            <a:r>
              <a:rPr b="0" lang="en-US" sz="2800" spc="-1" strike="noStrike">
                <a:solidFill>
                  <a:srgbClr val="bbe0e3"/>
                </a:solidFill>
                <a:latin typeface="宋体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e0e3"/>
                </a:solidFill>
                <a:latin typeface="宋体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201527kzxozwvj0n1wlhh0"/>
          <p:cNvPicPr/>
          <p:nvPr/>
        </p:nvPicPr>
        <p:blipFill>
          <a:blip r:embed="rId1"/>
          <a:stretch/>
        </p:blipFill>
        <p:spPr>
          <a:xfrm>
            <a:off x="611280" y="1700280"/>
            <a:ext cx="4216320" cy="4456080"/>
          </a:xfrm>
          <a:prstGeom prst="rect">
            <a:avLst/>
          </a:prstGeom>
          <a:ln w="0">
            <a:noFill/>
          </a:ln>
        </p:spPr>
      </p:pic>
      <p:sp>
        <p:nvSpPr>
          <p:cNvPr id="385" name="标题 1"/>
          <p:cNvSpPr/>
          <p:nvPr/>
        </p:nvSpPr>
        <p:spPr>
          <a:xfrm>
            <a:off x="1143000" y="285840"/>
            <a:ext cx="475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平面镜成虚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5"/>
          <p:cNvSpPr/>
          <p:nvPr/>
        </p:nvSpPr>
        <p:spPr>
          <a:xfrm>
            <a:off x="928800" y="357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平面镜成像的作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299880" y="1197000"/>
            <a:ext cx="83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平面镜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镜前的物体，根据平面镜成像的特点作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7"/>
          <p:cNvGrpSpPr/>
          <p:nvPr/>
        </p:nvGrpSpPr>
        <p:grpSpPr>
          <a:xfrm>
            <a:off x="2287800" y="2743200"/>
            <a:ext cx="2229480" cy="4041000"/>
            <a:chOff x="2287800" y="2743200"/>
            <a:chExt cx="2229480" cy="4041000"/>
          </a:xfrm>
        </p:grpSpPr>
        <p:grpSp>
          <p:nvGrpSpPr>
            <p:cNvPr id="389" name="Group 8"/>
            <p:cNvGrpSpPr/>
            <p:nvPr/>
          </p:nvGrpSpPr>
          <p:grpSpPr>
            <a:xfrm>
              <a:off x="4040280" y="2743200"/>
              <a:ext cx="477000" cy="4041000"/>
              <a:chOff x="4040280" y="2743200"/>
              <a:chExt cx="477000" cy="4041000"/>
            </a:xfrm>
          </p:grpSpPr>
          <p:sp>
            <p:nvSpPr>
              <p:cNvPr id="390" name="Text Box 9"/>
              <p:cNvSpPr/>
              <p:nvPr/>
            </p:nvSpPr>
            <p:spPr>
              <a:xfrm>
                <a:off x="4040280" y="27432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0"/>
              <p:cNvSpPr/>
              <p:nvPr/>
            </p:nvSpPr>
            <p:spPr>
              <a:xfrm>
                <a:off x="4116960" y="6324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1"/>
            <p:cNvGrpSpPr/>
            <p:nvPr/>
          </p:nvGrpSpPr>
          <p:grpSpPr>
            <a:xfrm>
              <a:off x="2287800" y="3124080"/>
              <a:ext cx="2207520" cy="3276720"/>
              <a:chOff x="2287800" y="3124080"/>
              <a:chExt cx="2207520" cy="3276720"/>
            </a:xfrm>
          </p:grpSpPr>
          <p:sp>
            <p:nvSpPr>
              <p:cNvPr id="393" name="Text Box 12"/>
              <p:cNvSpPr/>
              <p:nvPr/>
            </p:nvSpPr>
            <p:spPr>
              <a:xfrm>
                <a:off x="3048120" y="312408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3"/>
              <p:cNvSpPr/>
              <p:nvPr/>
            </p:nvSpPr>
            <p:spPr>
              <a:xfrm>
                <a:off x="2287800" y="5562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Group 14"/>
              <p:cNvGrpSpPr/>
              <p:nvPr/>
            </p:nvGrpSpPr>
            <p:grpSpPr>
              <a:xfrm>
                <a:off x="2362320" y="3124080"/>
                <a:ext cx="2133000" cy="3276720"/>
                <a:chOff x="2362320" y="3124080"/>
                <a:chExt cx="2133000" cy="3276720"/>
              </a:xfrm>
            </p:grpSpPr>
            <p:sp>
              <p:nvSpPr>
                <p:cNvPr id="396" name="Line 15"/>
                <p:cNvSpPr/>
                <p:nvPr/>
              </p:nvSpPr>
              <p:spPr>
                <a:xfrm flipV="1">
                  <a:off x="2362320" y="3580920"/>
                  <a:ext cx="837720" cy="2057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16"/>
                <p:cNvGrpSpPr/>
                <p:nvPr/>
              </p:nvGrpSpPr>
              <p:grpSpPr>
                <a:xfrm>
                  <a:off x="4267080" y="3124080"/>
                  <a:ext cx="228240" cy="3276720"/>
                  <a:chOff x="4267080" y="3124080"/>
                  <a:chExt cx="228240" cy="3276720"/>
                </a:xfrm>
              </p:grpSpPr>
              <p:sp>
                <p:nvSpPr>
                  <p:cNvPr id="398" name="Line 17"/>
                  <p:cNvSpPr/>
                  <p:nvPr/>
                </p:nvSpPr>
                <p:spPr>
                  <a:xfrm>
                    <a:off x="4267080" y="3124080"/>
                    <a:ext cx="0" cy="312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18"/>
                  <p:cNvSpPr/>
                  <p:nvPr/>
                </p:nvSpPr>
                <p:spPr>
                  <a:xfrm>
                    <a:off x="4267080" y="320040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19"/>
                  <p:cNvSpPr/>
                  <p:nvPr/>
                </p:nvSpPr>
                <p:spPr>
                  <a:xfrm>
                    <a:off x="4267080" y="335268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20"/>
                  <p:cNvSpPr/>
                  <p:nvPr/>
                </p:nvSpPr>
                <p:spPr>
                  <a:xfrm>
                    <a:off x="4267080" y="3504960"/>
                    <a:ext cx="22824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21"/>
                  <p:cNvSpPr/>
                  <p:nvPr/>
                </p:nvSpPr>
                <p:spPr>
                  <a:xfrm>
                    <a:off x="4267080" y="365760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22"/>
                  <p:cNvSpPr/>
                  <p:nvPr/>
                </p:nvSpPr>
                <p:spPr>
                  <a:xfrm>
                    <a:off x="4267080" y="380988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23"/>
                  <p:cNvSpPr/>
                  <p:nvPr/>
                </p:nvSpPr>
                <p:spPr>
                  <a:xfrm>
                    <a:off x="4267080" y="3962160"/>
                    <a:ext cx="22824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24"/>
                  <p:cNvSpPr/>
                  <p:nvPr/>
                </p:nvSpPr>
                <p:spPr>
                  <a:xfrm>
                    <a:off x="4267080" y="411480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25"/>
                  <p:cNvSpPr/>
                  <p:nvPr/>
                </p:nvSpPr>
                <p:spPr>
                  <a:xfrm>
                    <a:off x="4267080" y="426708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26"/>
                  <p:cNvSpPr/>
                  <p:nvPr/>
                </p:nvSpPr>
                <p:spPr>
                  <a:xfrm>
                    <a:off x="4267080" y="4419360"/>
                    <a:ext cx="22824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27"/>
                  <p:cNvSpPr/>
                  <p:nvPr/>
                </p:nvSpPr>
                <p:spPr>
                  <a:xfrm>
                    <a:off x="4267080" y="457200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28"/>
                  <p:cNvSpPr/>
                  <p:nvPr/>
                </p:nvSpPr>
                <p:spPr>
                  <a:xfrm>
                    <a:off x="4267080" y="472428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29"/>
                  <p:cNvSpPr/>
                  <p:nvPr/>
                </p:nvSpPr>
                <p:spPr>
                  <a:xfrm>
                    <a:off x="4267080" y="4876560"/>
                    <a:ext cx="22824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30"/>
                  <p:cNvSpPr/>
                  <p:nvPr/>
                </p:nvSpPr>
                <p:spPr>
                  <a:xfrm>
                    <a:off x="4267080" y="502920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31"/>
                  <p:cNvSpPr/>
                  <p:nvPr/>
                </p:nvSpPr>
                <p:spPr>
                  <a:xfrm>
                    <a:off x="4267080" y="518148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Line 32"/>
                  <p:cNvSpPr/>
                  <p:nvPr/>
                </p:nvSpPr>
                <p:spPr>
                  <a:xfrm>
                    <a:off x="4267080" y="5333760"/>
                    <a:ext cx="22824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33"/>
                  <p:cNvSpPr/>
                  <p:nvPr/>
                </p:nvSpPr>
                <p:spPr>
                  <a:xfrm>
                    <a:off x="4267080" y="548640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34"/>
                  <p:cNvSpPr/>
                  <p:nvPr/>
                </p:nvSpPr>
                <p:spPr>
                  <a:xfrm>
                    <a:off x="4267080" y="563868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35"/>
                  <p:cNvSpPr/>
                  <p:nvPr/>
                </p:nvSpPr>
                <p:spPr>
                  <a:xfrm>
                    <a:off x="4267080" y="5790960"/>
                    <a:ext cx="22824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Line 36"/>
                  <p:cNvSpPr/>
                  <p:nvPr/>
                </p:nvSpPr>
                <p:spPr>
                  <a:xfrm>
                    <a:off x="4267080" y="594360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37"/>
                  <p:cNvSpPr/>
                  <p:nvPr/>
                </p:nvSpPr>
                <p:spPr>
                  <a:xfrm>
                    <a:off x="4267080" y="6095880"/>
                    <a:ext cx="2282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38"/>
                  <p:cNvSpPr/>
                  <p:nvPr/>
                </p:nvSpPr>
                <p:spPr>
                  <a:xfrm>
                    <a:off x="4267080" y="6248160"/>
                    <a:ext cx="22824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20" name="Line 39"/>
          <p:cNvSpPr/>
          <p:nvPr/>
        </p:nvSpPr>
        <p:spPr>
          <a:xfrm flipV="1">
            <a:off x="3200400" y="3573360"/>
            <a:ext cx="2092320" cy="7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0"/>
          <p:cNvSpPr/>
          <p:nvPr/>
        </p:nvSpPr>
        <p:spPr>
          <a:xfrm flipV="1">
            <a:off x="2286000" y="5589720"/>
            <a:ext cx="3870360" cy="48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1"/>
          <p:cNvSpPr/>
          <p:nvPr/>
        </p:nvSpPr>
        <p:spPr>
          <a:xfrm flipH="1" flipV="1">
            <a:off x="5334120" y="3580920"/>
            <a:ext cx="838080" cy="20574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42"/>
          <p:cNvSpPr/>
          <p:nvPr/>
        </p:nvSpPr>
        <p:spPr>
          <a:xfrm>
            <a:off x="5257800" y="3505320"/>
            <a:ext cx="763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43"/>
          <p:cNvSpPr/>
          <p:nvPr/>
        </p:nvSpPr>
        <p:spPr>
          <a:xfrm>
            <a:off x="6095880" y="5562720"/>
            <a:ext cx="763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4"/>
          <p:cNvSpPr/>
          <p:nvPr/>
        </p:nvSpPr>
        <p:spPr>
          <a:xfrm>
            <a:off x="5245920" y="301320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5"/>
          <p:cNvSpPr/>
          <p:nvPr/>
        </p:nvSpPr>
        <p:spPr>
          <a:xfrm>
            <a:off x="6007680" y="56800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4114800" y="3581280"/>
            <a:ext cx="152280" cy="152280"/>
            <a:chOff x="4114800" y="3581280"/>
            <a:chExt cx="152280" cy="152280"/>
          </a:xfrm>
        </p:grpSpPr>
        <p:sp>
          <p:nvSpPr>
            <p:cNvPr id="428" name="Line 47"/>
            <p:cNvSpPr/>
            <p:nvPr/>
          </p:nvSpPr>
          <p:spPr>
            <a:xfrm>
              <a:off x="411480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48"/>
            <p:cNvSpPr/>
            <p:nvPr/>
          </p:nvSpPr>
          <p:spPr>
            <a:xfrm>
              <a:off x="4114800" y="3733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49"/>
          <p:cNvGrpSpPr/>
          <p:nvPr/>
        </p:nvGrpSpPr>
        <p:grpSpPr>
          <a:xfrm>
            <a:off x="4114440" y="5486400"/>
            <a:ext cx="152280" cy="152280"/>
            <a:chOff x="4114440" y="5486400"/>
            <a:chExt cx="152280" cy="152280"/>
          </a:xfrm>
        </p:grpSpPr>
        <p:sp>
          <p:nvSpPr>
            <p:cNvPr id="431" name="Line 50"/>
            <p:cNvSpPr/>
            <p:nvPr/>
          </p:nvSpPr>
          <p:spPr>
            <a:xfrm flipH="1">
              <a:off x="4114440" y="548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51"/>
            <p:cNvSpPr/>
            <p:nvPr/>
          </p:nvSpPr>
          <p:spPr>
            <a:xfrm>
              <a:off x="4114440" y="5486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2"/>
          <p:cNvGrpSpPr/>
          <p:nvPr/>
        </p:nvGrpSpPr>
        <p:grpSpPr>
          <a:xfrm>
            <a:off x="3505320" y="3429000"/>
            <a:ext cx="1523880" cy="228600"/>
            <a:chOff x="3505320" y="3429000"/>
            <a:chExt cx="1523880" cy="228600"/>
          </a:xfrm>
        </p:grpSpPr>
        <p:grpSp>
          <p:nvGrpSpPr>
            <p:cNvPr id="434" name="Group 53"/>
            <p:cNvGrpSpPr/>
            <p:nvPr/>
          </p:nvGrpSpPr>
          <p:grpSpPr>
            <a:xfrm>
              <a:off x="4800600" y="3429000"/>
              <a:ext cx="228600" cy="228600"/>
              <a:chOff x="4800600" y="3429000"/>
              <a:chExt cx="228600" cy="228600"/>
            </a:xfrm>
          </p:grpSpPr>
          <p:sp>
            <p:nvSpPr>
              <p:cNvPr id="435" name="Line 54"/>
              <p:cNvSpPr/>
              <p:nvPr/>
            </p:nvSpPr>
            <p:spPr>
              <a:xfrm>
                <a:off x="4800600" y="34290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55"/>
              <p:cNvSpPr/>
              <p:nvPr/>
            </p:nvSpPr>
            <p:spPr>
              <a:xfrm>
                <a:off x="4876920" y="34290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6"/>
            <p:cNvGrpSpPr/>
            <p:nvPr/>
          </p:nvGrpSpPr>
          <p:grpSpPr>
            <a:xfrm>
              <a:off x="3505320" y="3429000"/>
              <a:ext cx="228600" cy="228600"/>
              <a:chOff x="3505320" y="3429000"/>
              <a:chExt cx="228600" cy="228600"/>
            </a:xfrm>
          </p:grpSpPr>
          <p:sp>
            <p:nvSpPr>
              <p:cNvPr id="438" name="Line 57"/>
              <p:cNvSpPr/>
              <p:nvPr/>
            </p:nvSpPr>
            <p:spPr>
              <a:xfrm>
                <a:off x="3505320" y="34290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58"/>
              <p:cNvSpPr/>
              <p:nvPr/>
            </p:nvSpPr>
            <p:spPr>
              <a:xfrm>
                <a:off x="3581640" y="34290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Group 59"/>
          <p:cNvGrpSpPr/>
          <p:nvPr/>
        </p:nvGrpSpPr>
        <p:grpSpPr>
          <a:xfrm>
            <a:off x="3352680" y="5486400"/>
            <a:ext cx="1828800" cy="304920"/>
            <a:chOff x="3352680" y="5486400"/>
            <a:chExt cx="1828800" cy="304920"/>
          </a:xfrm>
        </p:grpSpPr>
        <p:grpSp>
          <p:nvGrpSpPr>
            <p:cNvPr id="441" name="Group 60"/>
            <p:cNvGrpSpPr/>
            <p:nvPr/>
          </p:nvGrpSpPr>
          <p:grpSpPr>
            <a:xfrm>
              <a:off x="4952880" y="5562720"/>
              <a:ext cx="228600" cy="228600"/>
              <a:chOff x="4952880" y="5562720"/>
              <a:chExt cx="228600" cy="228600"/>
            </a:xfrm>
          </p:grpSpPr>
          <p:sp>
            <p:nvSpPr>
              <p:cNvPr id="442" name="Line 61"/>
              <p:cNvSpPr/>
              <p:nvPr/>
            </p:nvSpPr>
            <p:spPr>
              <a:xfrm>
                <a:off x="4952880" y="556272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62"/>
              <p:cNvSpPr/>
              <p:nvPr/>
            </p:nvSpPr>
            <p:spPr>
              <a:xfrm>
                <a:off x="5029200" y="556272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63"/>
            <p:cNvGrpSpPr/>
            <p:nvPr/>
          </p:nvGrpSpPr>
          <p:grpSpPr>
            <a:xfrm>
              <a:off x="3352680" y="5486400"/>
              <a:ext cx="228600" cy="228600"/>
              <a:chOff x="3352680" y="5486400"/>
              <a:chExt cx="228600" cy="228600"/>
            </a:xfrm>
          </p:grpSpPr>
          <p:sp>
            <p:nvSpPr>
              <p:cNvPr id="445" name="Line 64"/>
              <p:cNvSpPr/>
              <p:nvPr/>
            </p:nvSpPr>
            <p:spPr>
              <a:xfrm>
                <a:off x="3352680" y="54864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65"/>
              <p:cNvSpPr/>
              <p:nvPr/>
            </p:nvSpPr>
            <p:spPr>
              <a:xfrm>
                <a:off x="3429000" y="5486400"/>
                <a:ext cx="15228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Text Box 67"/>
          <p:cNvSpPr/>
          <p:nvPr/>
        </p:nvSpPr>
        <p:spPr>
          <a:xfrm>
            <a:off x="6264360" y="2203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１、作垂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２、取等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３、画虚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116000" y="3333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3"/>
          <p:cNvGrpSpPr/>
          <p:nvPr/>
        </p:nvGrpSpPr>
        <p:grpSpPr>
          <a:xfrm>
            <a:off x="2340000" y="1700280"/>
            <a:ext cx="1278000" cy="1692360"/>
            <a:chOff x="2340000" y="1700280"/>
            <a:chExt cx="1278000" cy="1692360"/>
          </a:xfrm>
        </p:grpSpPr>
        <p:sp>
          <p:nvSpPr>
            <p:cNvPr id="450" name="Line 4"/>
            <p:cNvSpPr/>
            <p:nvPr/>
          </p:nvSpPr>
          <p:spPr>
            <a:xfrm>
              <a:off x="2435400" y="1716120"/>
              <a:ext cx="0" cy="1676520"/>
            </a:xfrm>
            <a:prstGeom prst="line">
              <a:avLst/>
            </a:prstGeom>
            <a:ln w="38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5"/>
            <p:cNvSpPr/>
            <p:nvPr/>
          </p:nvSpPr>
          <p:spPr>
            <a:xfrm>
              <a:off x="2340000" y="1792440"/>
              <a:ext cx="76320" cy="1600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6"/>
            <p:cNvSpPr/>
            <p:nvPr/>
          </p:nvSpPr>
          <p:spPr>
            <a:xfrm>
              <a:off x="2949480" y="1944720"/>
              <a:ext cx="304920" cy="11430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7"/>
            <p:cNvSpPr/>
            <p:nvPr/>
          </p:nvSpPr>
          <p:spPr>
            <a:xfrm>
              <a:off x="2968200" y="17002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8"/>
            <p:cNvSpPr/>
            <p:nvPr/>
          </p:nvSpPr>
          <p:spPr>
            <a:xfrm>
              <a:off x="3271320" y="28591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9"/>
          <p:cNvGrpSpPr/>
          <p:nvPr/>
        </p:nvGrpSpPr>
        <p:grpSpPr>
          <a:xfrm>
            <a:off x="4932360" y="1700280"/>
            <a:ext cx="2040120" cy="2164320"/>
            <a:chOff x="4932360" y="1700280"/>
            <a:chExt cx="2040120" cy="2164320"/>
          </a:xfrm>
        </p:grpSpPr>
        <p:grpSp>
          <p:nvGrpSpPr>
            <p:cNvPr id="456" name="Group 10"/>
            <p:cNvGrpSpPr/>
            <p:nvPr/>
          </p:nvGrpSpPr>
          <p:grpSpPr>
            <a:xfrm>
              <a:off x="4932360" y="1700280"/>
              <a:ext cx="2040120" cy="1692360"/>
              <a:chOff x="4932360" y="1700280"/>
              <a:chExt cx="2040120" cy="1692360"/>
            </a:xfrm>
          </p:grpSpPr>
          <p:sp>
            <p:nvSpPr>
              <p:cNvPr id="457" name="Line 11"/>
              <p:cNvSpPr/>
              <p:nvPr/>
            </p:nvSpPr>
            <p:spPr>
              <a:xfrm>
                <a:off x="5789520" y="1716120"/>
                <a:ext cx="0" cy="1676520"/>
              </a:xfrm>
              <a:prstGeom prst="line">
                <a:avLst/>
              </a:prstGeom>
              <a:ln w="381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2"/>
              <p:cNvSpPr/>
              <p:nvPr/>
            </p:nvSpPr>
            <p:spPr>
              <a:xfrm>
                <a:off x="5694480" y="1792440"/>
                <a:ext cx="75960" cy="1600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13"/>
              <p:cNvSpPr/>
              <p:nvPr/>
            </p:nvSpPr>
            <p:spPr>
              <a:xfrm>
                <a:off x="6303960" y="1944720"/>
                <a:ext cx="304920" cy="1143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14"/>
              <p:cNvSpPr/>
              <p:nvPr/>
            </p:nvSpPr>
            <p:spPr>
              <a:xfrm>
                <a:off x="6322320" y="17002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15"/>
              <p:cNvSpPr/>
              <p:nvPr/>
            </p:nvSpPr>
            <p:spPr>
              <a:xfrm>
                <a:off x="6625800" y="285912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Black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6"/>
              <p:cNvSpPr/>
              <p:nvPr/>
            </p:nvSpPr>
            <p:spPr>
              <a:xfrm>
                <a:off x="4932360" y="30877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7"/>
              <p:cNvSpPr/>
              <p:nvPr/>
            </p:nvSpPr>
            <p:spPr>
              <a:xfrm>
                <a:off x="5237280" y="194472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未知"/>
              <p:cNvSpPr/>
              <p:nvPr/>
            </p:nvSpPr>
            <p:spPr>
              <a:xfrm>
                <a:off x="5799240" y="194940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48" y="48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未知"/>
              <p:cNvSpPr/>
              <p:nvPr/>
            </p:nvSpPr>
            <p:spPr>
              <a:xfrm flipV="1">
                <a:off x="5799240" y="301140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48" y="48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Text Box 20"/>
            <p:cNvSpPr/>
            <p:nvPr/>
          </p:nvSpPr>
          <p:spPr>
            <a:xfrm>
              <a:off x="5568840" y="34657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第一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21"/>
          <p:cNvSpPr/>
          <p:nvPr/>
        </p:nvSpPr>
        <p:spPr>
          <a:xfrm>
            <a:off x="1187280" y="1125360"/>
            <a:ext cx="574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22"/>
          <p:cNvGrpSpPr/>
          <p:nvPr/>
        </p:nvGrpSpPr>
        <p:grpSpPr>
          <a:xfrm>
            <a:off x="1205640" y="4076280"/>
            <a:ext cx="2434680" cy="2199240"/>
            <a:chOff x="1205640" y="4076280"/>
            <a:chExt cx="2434680" cy="2199240"/>
          </a:xfrm>
        </p:grpSpPr>
        <p:grpSp>
          <p:nvGrpSpPr>
            <p:cNvPr id="469" name="Group 23"/>
            <p:cNvGrpSpPr/>
            <p:nvPr/>
          </p:nvGrpSpPr>
          <p:grpSpPr>
            <a:xfrm>
              <a:off x="1205640" y="4124160"/>
              <a:ext cx="2434680" cy="2151360"/>
              <a:chOff x="1205640" y="4124160"/>
              <a:chExt cx="2434680" cy="2151360"/>
            </a:xfrm>
          </p:grpSpPr>
          <p:grpSp>
            <p:nvGrpSpPr>
              <p:cNvPr id="470" name="Group 24"/>
              <p:cNvGrpSpPr/>
              <p:nvPr/>
            </p:nvGrpSpPr>
            <p:grpSpPr>
              <a:xfrm>
                <a:off x="1205640" y="4124160"/>
                <a:ext cx="2434680" cy="1692360"/>
                <a:chOff x="1205640" y="4124160"/>
                <a:chExt cx="2434680" cy="1692360"/>
              </a:xfrm>
            </p:grpSpPr>
            <p:sp>
              <p:nvSpPr>
                <p:cNvPr id="471" name="Line 25"/>
                <p:cNvSpPr/>
                <p:nvPr/>
              </p:nvSpPr>
              <p:spPr>
                <a:xfrm>
                  <a:off x="2457360" y="4140000"/>
                  <a:ext cx="0" cy="167652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Rectangle 26"/>
                <p:cNvSpPr/>
                <p:nvPr/>
              </p:nvSpPr>
              <p:spPr>
                <a:xfrm>
                  <a:off x="2361960" y="4216320"/>
                  <a:ext cx="76320" cy="16002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7"/>
                <p:cNvSpPr/>
                <p:nvPr/>
              </p:nvSpPr>
              <p:spPr>
                <a:xfrm>
                  <a:off x="2971800" y="4368600"/>
                  <a:ext cx="304560" cy="1143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Text Box 28"/>
                <p:cNvSpPr/>
                <p:nvPr/>
              </p:nvSpPr>
              <p:spPr>
                <a:xfrm>
                  <a:off x="2990160" y="412416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Black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Text Box 29"/>
                <p:cNvSpPr/>
                <p:nvPr/>
              </p:nvSpPr>
              <p:spPr>
                <a:xfrm>
                  <a:off x="3293640" y="5283000"/>
                  <a:ext cx="34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Black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"/>
                <p:cNvSpPr/>
                <p:nvPr/>
              </p:nvSpPr>
              <p:spPr>
                <a:xfrm>
                  <a:off x="1600200" y="55116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1"/>
                <p:cNvSpPr/>
                <p:nvPr/>
              </p:nvSpPr>
              <p:spPr>
                <a:xfrm>
                  <a:off x="1904760" y="4368600"/>
                  <a:ext cx="106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Oval 32"/>
                <p:cNvSpPr/>
                <p:nvPr/>
              </p:nvSpPr>
              <p:spPr>
                <a:xfrm>
                  <a:off x="1857240" y="4333680"/>
                  <a:ext cx="76320" cy="76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Oval 33"/>
                <p:cNvSpPr/>
                <p:nvPr/>
              </p:nvSpPr>
              <p:spPr>
                <a:xfrm>
                  <a:off x="1562040" y="5476680"/>
                  <a:ext cx="75960" cy="76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34"/>
                <p:cNvSpPr/>
                <p:nvPr/>
              </p:nvSpPr>
              <p:spPr>
                <a:xfrm>
                  <a:off x="1505520" y="4124160"/>
                  <a:ext cx="474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Black"/>
                    </a:rPr>
                    <a:t>A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 ′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35"/>
                <p:cNvSpPr/>
                <p:nvPr/>
              </p:nvSpPr>
              <p:spPr>
                <a:xfrm>
                  <a:off x="1205640" y="5251320"/>
                  <a:ext cx="47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Black"/>
                    </a:rPr>
                    <a:t>B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 ′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未知"/>
                <p:cNvSpPr/>
                <p:nvPr/>
              </p:nvSpPr>
              <p:spPr>
                <a:xfrm>
                  <a:off x="2476440" y="437184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48" y="48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未知"/>
                <p:cNvSpPr/>
                <p:nvPr/>
              </p:nvSpPr>
              <p:spPr>
                <a:xfrm flipV="1">
                  <a:off x="2476440" y="542376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48" y="48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Text Box 38"/>
              <p:cNvSpPr/>
              <p:nvPr/>
            </p:nvSpPr>
            <p:spPr>
              <a:xfrm>
                <a:off x="2173320" y="587664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第二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Text Box 39"/>
            <p:cNvSpPr/>
            <p:nvPr/>
          </p:nvSpPr>
          <p:spPr>
            <a:xfrm>
              <a:off x="2426400" y="407628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0"/>
            <p:cNvSpPr/>
            <p:nvPr/>
          </p:nvSpPr>
          <p:spPr>
            <a:xfrm>
              <a:off x="2444040" y="5250960"/>
              <a:ext cx="37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O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41"/>
          <p:cNvGrpSpPr/>
          <p:nvPr/>
        </p:nvGrpSpPr>
        <p:grpSpPr>
          <a:xfrm>
            <a:off x="4518720" y="4149360"/>
            <a:ext cx="2434320" cy="2196000"/>
            <a:chOff x="4518720" y="4149360"/>
            <a:chExt cx="2434320" cy="2196000"/>
          </a:xfrm>
        </p:grpSpPr>
        <p:grpSp>
          <p:nvGrpSpPr>
            <p:cNvPr id="488" name="Group 42"/>
            <p:cNvGrpSpPr/>
            <p:nvPr/>
          </p:nvGrpSpPr>
          <p:grpSpPr>
            <a:xfrm>
              <a:off x="4518720" y="4194000"/>
              <a:ext cx="2434320" cy="2151360"/>
              <a:chOff x="4518720" y="4194000"/>
              <a:chExt cx="2434320" cy="2151360"/>
            </a:xfrm>
          </p:grpSpPr>
          <p:grpSp>
            <p:nvGrpSpPr>
              <p:cNvPr id="489" name="Group 43"/>
              <p:cNvGrpSpPr/>
              <p:nvPr/>
            </p:nvGrpSpPr>
            <p:grpSpPr>
              <a:xfrm>
                <a:off x="4518720" y="4194000"/>
                <a:ext cx="2434320" cy="1692360"/>
                <a:chOff x="4518720" y="4194000"/>
                <a:chExt cx="2434320" cy="1692360"/>
              </a:xfrm>
            </p:grpSpPr>
            <p:sp>
              <p:nvSpPr>
                <p:cNvPr id="490" name="Line 44"/>
                <p:cNvSpPr/>
                <p:nvPr/>
              </p:nvSpPr>
              <p:spPr>
                <a:xfrm>
                  <a:off x="5770440" y="4209840"/>
                  <a:ext cx="0" cy="1676520"/>
                </a:xfrm>
                <a:prstGeom prst="line">
                  <a:avLst/>
                </a:prstGeom>
                <a:ln w="3816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Rectangle 45"/>
                <p:cNvSpPr/>
                <p:nvPr/>
              </p:nvSpPr>
              <p:spPr>
                <a:xfrm>
                  <a:off x="5675040" y="4286160"/>
                  <a:ext cx="75960" cy="16002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46"/>
                <p:cNvSpPr/>
                <p:nvPr/>
              </p:nvSpPr>
              <p:spPr>
                <a:xfrm>
                  <a:off x="6284880" y="4438440"/>
                  <a:ext cx="304200" cy="1143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47"/>
                <p:cNvSpPr/>
                <p:nvPr/>
              </p:nvSpPr>
              <p:spPr>
                <a:xfrm>
                  <a:off x="6303240" y="419400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Black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Text Box 48"/>
                <p:cNvSpPr/>
                <p:nvPr/>
              </p:nvSpPr>
              <p:spPr>
                <a:xfrm>
                  <a:off x="6606360" y="5352840"/>
                  <a:ext cx="34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Black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Line 49"/>
                <p:cNvSpPr/>
                <p:nvPr/>
              </p:nvSpPr>
              <p:spPr>
                <a:xfrm>
                  <a:off x="4913280" y="5581440"/>
                  <a:ext cx="1675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50"/>
                <p:cNvSpPr/>
                <p:nvPr/>
              </p:nvSpPr>
              <p:spPr>
                <a:xfrm>
                  <a:off x="5217840" y="443844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Oval 51"/>
                <p:cNvSpPr/>
                <p:nvPr/>
              </p:nvSpPr>
              <p:spPr>
                <a:xfrm>
                  <a:off x="5170320" y="4403520"/>
                  <a:ext cx="75960" cy="76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Oval 52"/>
                <p:cNvSpPr/>
                <p:nvPr/>
              </p:nvSpPr>
              <p:spPr>
                <a:xfrm>
                  <a:off x="4875120" y="5546520"/>
                  <a:ext cx="75600" cy="76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53"/>
                <p:cNvSpPr/>
                <p:nvPr/>
              </p:nvSpPr>
              <p:spPr>
                <a:xfrm>
                  <a:off x="4818240" y="4194000"/>
                  <a:ext cx="474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Black"/>
                    </a:rPr>
                    <a:t>A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 ′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54"/>
                <p:cNvSpPr/>
                <p:nvPr/>
              </p:nvSpPr>
              <p:spPr>
                <a:xfrm>
                  <a:off x="4518720" y="5321160"/>
                  <a:ext cx="47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Black"/>
                    </a:rPr>
                    <a:t>B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 ′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Line 55"/>
                <p:cNvSpPr/>
                <p:nvPr/>
              </p:nvSpPr>
              <p:spPr>
                <a:xfrm flipH="1">
                  <a:off x="4903560" y="4451040"/>
                  <a:ext cx="304560" cy="1143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未知"/>
                <p:cNvSpPr/>
                <p:nvPr/>
              </p:nvSpPr>
              <p:spPr>
                <a:xfrm>
                  <a:off x="5789520" y="443700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48" y="48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未知"/>
                <p:cNvSpPr/>
                <p:nvPr/>
              </p:nvSpPr>
              <p:spPr>
                <a:xfrm flipV="1">
                  <a:off x="5784480" y="549360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48" y="48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Text Box 58"/>
              <p:cNvSpPr/>
              <p:nvPr/>
            </p:nvSpPr>
            <p:spPr>
              <a:xfrm>
                <a:off x="5447880" y="59464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第三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 Box 59"/>
            <p:cNvSpPr/>
            <p:nvPr/>
          </p:nvSpPr>
          <p:spPr>
            <a:xfrm>
              <a:off x="5721840" y="414936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60"/>
            <p:cNvSpPr/>
            <p:nvPr/>
          </p:nvSpPr>
          <p:spPr>
            <a:xfrm>
              <a:off x="5739120" y="5324040"/>
              <a:ext cx="37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O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Text Box 62"/>
          <p:cNvSpPr/>
          <p:nvPr/>
        </p:nvSpPr>
        <p:spPr>
          <a:xfrm>
            <a:off x="1516320" y="404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根据平面镜成像特点作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250920" y="1644480"/>
            <a:ext cx="2736720" cy="2448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2"/>
          <a:stretch/>
        </p:blipFill>
        <p:spPr>
          <a:xfrm>
            <a:off x="3114720" y="1644480"/>
            <a:ext cx="2736720" cy="2519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6666"/>
          <p:cNvPicPr/>
          <p:nvPr/>
        </p:nvPicPr>
        <p:blipFill>
          <a:blip r:embed="rId3"/>
          <a:stretch/>
        </p:blipFill>
        <p:spPr>
          <a:xfrm>
            <a:off x="6008760" y="1728720"/>
            <a:ext cx="2879640" cy="24354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10"/>
          <p:cNvSpPr/>
          <p:nvPr/>
        </p:nvSpPr>
        <p:spPr>
          <a:xfrm>
            <a:off x="1619280" y="4581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面镜的应用之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平面镜能成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标题 1"/>
          <p:cNvSpPr/>
          <p:nvPr/>
        </p:nvSpPr>
        <p:spPr>
          <a:xfrm>
            <a:off x="1116000" y="404640"/>
            <a:ext cx="4753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三、平面镜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3" descr="1121527000"/>
          <p:cNvPicPr/>
          <p:nvPr/>
        </p:nvPicPr>
        <p:blipFill>
          <a:blip r:embed="rId1"/>
          <a:stretch/>
        </p:blipFill>
        <p:spPr>
          <a:xfrm>
            <a:off x="3067200" y="1539720"/>
            <a:ext cx="3033720" cy="2697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潜望镜美图"/>
          <p:cNvPicPr/>
          <p:nvPr/>
        </p:nvPicPr>
        <p:blipFill>
          <a:blip r:embed="rId2"/>
          <a:stretch/>
        </p:blipFill>
        <p:spPr>
          <a:xfrm>
            <a:off x="239760" y="1909800"/>
            <a:ext cx="2700360" cy="23256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塔式太阳能0"/>
          <p:cNvPicPr/>
          <p:nvPr/>
        </p:nvPicPr>
        <p:blipFill>
          <a:blip r:embed="rId3"/>
          <a:stretch/>
        </p:blipFill>
        <p:spPr>
          <a:xfrm>
            <a:off x="6243480" y="1574640"/>
            <a:ext cx="2498760" cy="27003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2"/>
          <p:cNvSpPr/>
          <p:nvPr/>
        </p:nvSpPr>
        <p:spPr>
          <a:xfrm>
            <a:off x="1042920" y="494172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面镜的应用之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平面镜能改变光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标题 1"/>
          <p:cNvSpPr/>
          <p:nvPr/>
        </p:nvSpPr>
        <p:spPr>
          <a:xfrm>
            <a:off x="1187280" y="476280"/>
            <a:ext cx="475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平面镜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3"/>
          <p:cNvGrpSpPr/>
          <p:nvPr/>
        </p:nvGrpSpPr>
        <p:grpSpPr>
          <a:xfrm>
            <a:off x="4932360" y="115920"/>
            <a:ext cx="3960720" cy="936720"/>
            <a:chOff x="4932360" y="115920"/>
            <a:chExt cx="3960720" cy="936720"/>
          </a:xfrm>
        </p:grpSpPr>
        <p:sp>
          <p:nvSpPr>
            <p:cNvPr id="519" name="AutoShape 4"/>
            <p:cNvSpPr/>
            <p:nvPr/>
          </p:nvSpPr>
          <p:spPr>
            <a:xfrm>
              <a:off x="5003640" y="187200"/>
              <a:ext cx="3889440" cy="865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5"/>
            <p:cNvSpPr/>
            <p:nvPr/>
          </p:nvSpPr>
          <p:spPr>
            <a:xfrm>
              <a:off x="4932360" y="115920"/>
              <a:ext cx="396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  </a:t>
              </a:r>
              <a:r>
                <a:rPr b="0" lang="zh-CN" sz="4800" spc="-1" strike="noStrike">
                  <a:solidFill>
                    <a:srgbClr val="ff6600"/>
                  </a:solidFill>
                  <a:latin typeface="华文行楷"/>
                  <a:ea typeface="华文行楷"/>
                </a:rPr>
                <a:t>检测反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TextBox 24"/>
          <p:cNvSpPr/>
          <p:nvPr/>
        </p:nvSpPr>
        <p:spPr>
          <a:xfrm>
            <a:off x="5429160" y="15717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5"/>
          <p:cNvSpPr/>
          <p:nvPr/>
        </p:nvSpPr>
        <p:spPr>
          <a:xfrm>
            <a:off x="500040" y="1071720"/>
            <a:ext cx="76327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静湖面的上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只鸟正冲向水面捕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在湖水中的像是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“虚”或“实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在向下俯冲的过程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的大小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  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“逐渐变大”“逐渐变小”或“不变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"/>
          <p:cNvSpPr/>
          <p:nvPr/>
        </p:nvSpPr>
        <p:spPr>
          <a:xfrm>
            <a:off x="2000160" y="271476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不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7"/>
          <p:cNvSpPr/>
          <p:nvPr/>
        </p:nvSpPr>
        <p:spPr>
          <a:xfrm>
            <a:off x="285840" y="392904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题主要考查对平面镜成像特点的理解和掌握</a:t>
            </a:r>
            <a:r>
              <a:rPr b="0" i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只鸟正冲向水面捕食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水面上出现的鸟的倒影就是鸟在水面上成的虚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鸟向下俯冲靠近水面的过程中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鸟与水面的距离变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但鸟在水中所成的像始终不改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鸟的大小相等</a:t>
            </a:r>
            <a:r>
              <a:rPr b="0" i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答案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虚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"/>
          <p:cNvSpPr/>
          <p:nvPr/>
        </p:nvSpPr>
        <p:spPr>
          <a:xfrm>
            <a:off x="1835280" y="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    </a:t>
            </a:r>
            <a:r>
              <a:rPr b="0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新课导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小猫照镜子.wmv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466040" cy="3959280"/>
          </a:xfrm>
          <a:prstGeom prst="rect">
            <a:avLst/>
          </a:prstGeom>
          <a:ln w="0">
            <a:noFill/>
          </a:ln>
        </p:spPr>
      </p:pic>
      <p:sp>
        <p:nvSpPr>
          <p:cNvPr id="257" name="矩形 4"/>
          <p:cNvSpPr/>
          <p:nvPr/>
        </p:nvSpPr>
        <p:spPr>
          <a:xfrm>
            <a:off x="1686600" y="765000"/>
            <a:ext cx="27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视频动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猫咪的担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348000" y="5300640"/>
            <a:ext cx="647640" cy="368280"/>
          </a:xfrm>
          <a:prstGeom prst="rect">
            <a:avLst/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播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5796000" y="5300640"/>
            <a:ext cx="647640" cy="368280"/>
          </a:xfrm>
          <a:prstGeom prst="rect">
            <a:avLst/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8497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30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th50.jpg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824360" cy="241272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2527560" y="4301640"/>
            <a:ext cx="464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棋子在平面镜中成的是实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棋子在平面镜中成的像比实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棋子与它的像关于镜面对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棋子移近平面镜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会远离平面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1042920" y="692280"/>
            <a:ext cx="7274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观察平面镜成像的实验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叙述正确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1"/>
          <p:cNvSpPr/>
          <p:nvPr/>
        </p:nvSpPr>
        <p:spPr>
          <a:xfrm>
            <a:off x="428760" y="1214280"/>
            <a:ext cx="7858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解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平面镜所成的像是与物体等大的虚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A,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平面镜成的像和物体各对应点到平面镜的距离相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并且像和物体各对应点的连线与平面镜垂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以棋子与它的像关于镜面对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棋子移近平面镜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像会靠近平面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错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故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th50.jpg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824360" cy="2412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2527560" y="4301640"/>
            <a:ext cx="464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棋子在平面镜中成的是实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棋子在平面镜中成的像比实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棋子与它的像关于镜面对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棋子移近平面镜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会远离平面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5"/>
          <p:cNvSpPr/>
          <p:nvPr/>
        </p:nvSpPr>
        <p:spPr>
          <a:xfrm>
            <a:off x="1042920" y="692280"/>
            <a:ext cx="7274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观察平面镜成像的实验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叙述正确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6"/>
          <p:cNvSpPr/>
          <p:nvPr/>
        </p:nvSpPr>
        <p:spPr>
          <a:xfrm>
            <a:off x="6227640" y="12175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869480" y="664200"/>
            <a:ext cx="56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所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根据平面镜成像的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出物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平面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所成的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107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2232000" cy="2305080"/>
          </a:xfrm>
          <a:prstGeom prst="rect">
            <a:avLst/>
          </a:prstGeom>
          <a:ln w="0">
            <a:noFill/>
          </a:ln>
        </p:spPr>
      </p:pic>
      <p:sp>
        <p:nvSpPr>
          <p:cNvPr id="535" name="矩形 3"/>
          <p:cNvSpPr/>
          <p:nvPr/>
        </p:nvSpPr>
        <p:spPr>
          <a:xfrm>
            <a:off x="755640" y="4292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平面镜成像的特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像与物大小相等、像与物到镜面的距离相等、像与物连线与镜面垂直、左右互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像物关于平面镜对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这一对称性作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别作出物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端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于平面镜的对称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虚线连接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'B'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平面镜中的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4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252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1619280" y="58608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探究平面镜成像特点”的实验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竖立的茶色玻璃板下方放置一把刻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支相同的蜡烛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别竖立于玻璃板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蜡烛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成像物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539640" y="2904840"/>
            <a:ext cx="75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茶色玻璃板代替平面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的是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　　　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燃蜡烛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侧观察蜡烛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缓慢移动蜡烛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到与蜡烛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像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　   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得知像与物大小相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刻度尺和笔将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在的位置连接起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现像和物的连线与玻璃板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和物到玻璃板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在蜡烛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位置上放一光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论怎样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光屏上都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填“能”或“不能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承接到蜡烛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平面镜所成的像是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113" descr=""/>
          <p:cNvPicPr/>
          <p:nvPr/>
        </p:nvPicPr>
        <p:blipFill>
          <a:blip r:embed="rId1"/>
          <a:stretch/>
        </p:blipFill>
        <p:spPr>
          <a:xfrm>
            <a:off x="7020000" y="476280"/>
            <a:ext cx="1963800" cy="1790640"/>
          </a:xfrm>
          <a:prstGeom prst="rect">
            <a:avLst/>
          </a:prstGeom>
          <a:ln w="0">
            <a:noFill/>
          </a:ln>
        </p:spPr>
      </p:pic>
      <p:sp>
        <p:nvSpPr>
          <p:cNvPr id="540" name="TextBox 6"/>
          <p:cNvSpPr/>
          <p:nvPr/>
        </p:nvSpPr>
        <p:spPr>
          <a:xfrm>
            <a:off x="5715000" y="2519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便于确定像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2735280" y="3240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完全重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9"/>
          <p:cNvSpPr/>
          <p:nvPr/>
        </p:nvSpPr>
        <p:spPr>
          <a:xfrm>
            <a:off x="2979720" y="398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1187280" y="4365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1"/>
          <p:cNvSpPr/>
          <p:nvPr/>
        </p:nvSpPr>
        <p:spPr>
          <a:xfrm>
            <a:off x="1979640" y="50562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2"/>
          <p:cNvSpPr/>
          <p:nvPr/>
        </p:nvSpPr>
        <p:spPr>
          <a:xfrm>
            <a:off x="4859280" y="544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4103b80e4d2eb1d87acbe176"/>
          <p:cNvPicPr/>
          <p:nvPr/>
        </p:nvPicPr>
        <p:blipFill>
          <a:blip r:embed="rId1"/>
          <a:stretch/>
        </p:blipFill>
        <p:spPr>
          <a:xfrm>
            <a:off x="1403280" y="1413000"/>
            <a:ext cx="4824360" cy="4616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61" name="Text Box 7"/>
          <p:cNvSpPr/>
          <p:nvPr/>
        </p:nvSpPr>
        <p:spPr>
          <a:xfrm>
            <a:off x="2484360" y="328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922560" y="39304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0"/>
          <p:cNvGrpSpPr/>
          <p:nvPr/>
        </p:nvGrpSpPr>
        <p:grpSpPr>
          <a:xfrm>
            <a:off x="5651640" y="2060640"/>
            <a:ext cx="3313080" cy="2027160"/>
            <a:chOff x="5651640" y="2060640"/>
            <a:chExt cx="3313080" cy="2027160"/>
          </a:xfrm>
        </p:grpSpPr>
        <p:sp>
          <p:nvSpPr>
            <p:cNvPr id="264" name="AutoShape 11"/>
            <p:cNvSpPr/>
            <p:nvPr/>
          </p:nvSpPr>
          <p:spPr>
            <a:xfrm>
              <a:off x="5651640" y="2060640"/>
              <a:ext cx="3313080" cy="2027160"/>
            </a:xfrm>
            <a:prstGeom prst="cloudCallout">
              <a:avLst>
                <a:gd name="adj1" fmla="val -31379"/>
                <a:gd name="adj2" fmla="val 81254"/>
              </a:avLst>
            </a:prstGeom>
            <a:solidFill>
              <a:srgbClr val="bbe0e3"/>
            </a:solidFill>
            <a:ln w="9360">
              <a:solidFill>
                <a:srgbClr val="3d8f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6137280" y="2135160"/>
              <a:ext cx="2665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平面镜所成的像与物体之间有什么关系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标题 1"/>
          <p:cNvSpPr/>
          <p:nvPr/>
        </p:nvSpPr>
        <p:spPr>
          <a:xfrm>
            <a:off x="1428840" y="285840"/>
            <a:ext cx="554508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一、平面镜成像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标题 1"/>
          <p:cNvSpPr/>
          <p:nvPr/>
        </p:nvSpPr>
        <p:spPr>
          <a:xfrm>
            <a:off x="857160" y="714240"/>
            <a:ext cx="53294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探究平面镜成像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  <a:ea typeface="微软雅黑"/>
              </a:rPr>
              <a:t>提出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平面镜成像有什么特点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像与物有什么关系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标题 1"/>
          <p:cNvSpPr/>
          <p:nvPr/>
        </p:nvSpPr>
        <p:spPr>
          <a:xfrm>
            <a:off x="541440" y="260280"/>
            <a:ext cx="53290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探究平面镜成像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66560" y="1413000"/>
            <a:ext cx="24591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 Black"/>
                <a:ea typeface="微软雅黑"/>
              </a:rPr>
              <a:t>猜想与假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568440" y="2303640"/>
            <a:ext cx="738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猜想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：像与物到镜面的距离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猜想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：像与物体大小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猜想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：像的虚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9"/>
          <p:cNvSpPr/>
          <p:nvPr/>
        </p:nvSpPr>
        <p:spPr>
          <a:xfrm>
            <a:off x="500040" y="1285920"/>
            <a:ext cx="51436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材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薄玻璃板、支架、两个完全相同的蜡烛、火柴、白纸刻度尺、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方法：等效替代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步骤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0" descr="07704002"/>
          <p:cNvPicPr/>
          <p:nvPr/>
        </p:nvPicPr>
        <p:blipFill>
          <a:blip r:embed="rId1"/>
          <a:stretch/>
        </p:blipFill>
        <p:spPr>
          <a:xfrm>
            <a:off x="5254560" y="1052640"/>
            <a:ext cx="3638520" cy="2798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1" descr=""/>
          <p:cNvPicPr/>
          <p:nvPr/>
        </p:nvPicPr>
        <p:blipFill>
          <a:blip r:embed="rId2"/>
          <a:stretch/>
        </p:blipFill>
        <p:spPr>
          <a:xfrm>
            <a:off x="4786200" y="4071960"/>
            <a:ext cx="2880000" cy="2424240"/>
          </a:xfrm>
          <a:prstGeom prst="rect">
            <a:avLst/>
          </a:prstGeom>
          <a:ln w="0">
            <a:noFill/>
          </a:ln>
        </p:spPr>
      </p:pic>
      <p:sp>
        <p:nvSpPr>
          <p:cNvPr id="275" name="标题 1"/>
          <p:cNvSpPr/>
          <p:nvPr/>
        </p:nvSpPr>
        <p:spPr>
          <a:xfrm>
            <a:off x="928800" y="214200"/>
            <a:ext cx="53290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探究平面镜成像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285840" y="928800"/>
            <a:ext cx="2458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 Black"/>
                <a:ea typeface="微软雅黑"/>
              </a:rPr>
              <a:t>设计实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3537000" y="140328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据记录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4176720" y="3879720"/>
            <a:ext cx="1189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2941560" y="3879720"/>
            <a:ext cx="1235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800360" y="3879720"/>
            <a:ext cx="11412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4176720" y="3430440"/>
            <a:ext cx="1189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2941560" y="3430440"/>
            <a:ext cx="1235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4176720" y="2979720"/>
            <a:ext cx="1189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2941560" y="2979720"/>
            <a:ext cx="1235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800360" y="2979720"/>
            <a:ext cx="1141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4176720" y="2532240"/>
            <a:ext cx="1189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2941560" y="2532240"/>
            <a:ext cx="12351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1835280" y="25653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5365800" y="2084400"/>
            <a:ext cx="1189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4176720" y="2084400"/>
            <a:ext cx="1189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2941560" y="2084400"/>
            <a:ext cx="123516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1800360" y="2084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8"/>
          <p:cNvSpPr/>
          <p:nvPr/>
        </p:nvSpPr>
        <p:spPr>
          <a:xfrm>
            <a:off x="611280" y="1512720"/>
            <a:ext cx="0" cy="57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9"/>
          <p:cNvSpPr/>
          <p:nvPr/>
        </p:nvSpPr>
        <p:spPr>
          <a:xfrm>
            <a:off x="7743960" y="1512720"/>
            <a:ext cx="0" cy="57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>
            <a:off x="611280" y="2084400"/>
            <a:ext cx="0" cy="447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7743960" y="2084400"/>
            <a:ext cx="0" cy="447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2"/>
          <p:cNvSpPr/>
          <p:nvPr/>
        </p:nvSpPr>
        <p:spPr>
          <a:xfrm>
            <a:off x="611280" y="2532240"/>
            <a:ext cx="0" cy="447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3"/>
          <p:cNvSpPr/>
          <p:nvPr/>
        </p:nvSpPr>
        <p:spPr>
          <a:xfrm>
            <a:off x="7743960" y="2532240"/>
            <a:ext cx="0" cy="447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4"/>
          <p:cNvSpPr/>
          <p:nvPr/>
        </p:nvSpPr>
        <p:spPr>
          <a:xfrm>
            <a:off x="611280" y="2979720"/>
            <a:ext cx="0" cy="45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"/>
          <p:cNvSpPr/>
          <p:nvPr/>
        </p:nvSpPr>
        <p:spPr>
          <a:xfrm>
            <a:off x="7743960" y="2979720"/>
            <a:ext cx="0" cy="45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6"/>
          <p:cNvSpPr/>
          <p:nvPr/>
        </p:nvSpPr>
        <p:spPr>
          <a:xfrm>
            <a:off x="611280" y="3430440"/>
            <a:ext cx="0" cy="44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7"/>
          <p:cNvSpPr/>
          <p:nvPr/>
        </p:nvSpPr>
        <p:spPr>
          <a:xfrm>
            <a:off x="7743960" y="3430440"/>
            <a:ext cx="0" cy="44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8"/>
          <p:cNvSpPr/>
          <p:nvPr/>
        </p:nvSpPr>
        <p:spPr>
          <a:xfrm>
            <a:off x="611280" y="3879720"/>
            <a:ext cx="0" cy="44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9"/>
          <p:cNvSpPr/>
          <p:nvPr/>
        </p:nvSpPr>
        <p:spPr>
          <a:xfrm>
            <a:off x="7743960" y="3879720"/>
            <a:ext cx="0" cy="44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Group 30" descr=""/>
          <p:cNvPicPr/>
          <p:nvPr/>
        </p:nvPicPr>
        <p:blipFill>
          <a:blip r:embed="rId1"/>
          <a:stretch/>
        </p:blipFill>
        <p:spPr>
          <a:xfrm>
            <a:off x="501480" y="2041560"/>
            <a:ext cx="7709040" cy="3824280"/>
          </a:xfrm>
          <a:prstGeom prst="rect">
            <a:avLst/>
          </a:prstGeom>
          <a:ln w="0">
            <a:noFill/>
          </a:ln>
        </p:spPr>
      </p:pic>
      <p:sp>
        <p:nvSpPr>
          <p:cNvPr id="306" name="标题 1"/>
          <p:cNvSpPr/>
          <p:nvPr/>
        </p:nvSpPr>
        <p:spPr>
          <a:xfrm>
            <a:off x="542880" y="262080"/>
            <a:ext cx="5472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探究平面镜成像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6"/>
          <p:cNvSpPr/>
          <p:nvPr/>
        </p:nvSpPr>
        <p:spPr>
          <a:xfrm>
            <a:off x="2027880" y="2347920"/>
            <a:ext cx="29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的大小与物的大小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2034360" y="3146400"/>
            <a:ext cx="29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和物到镜面的距离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2034360" y="3930480"/>
            <a:ext cx="29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和物的连线与镜面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标题 1"/>
          <p:cNvSpPr/>
          <p:nvPr/>
        </p:nvSpPr>
        <p:spPr>
          <a:xfrm>
            <a:off x="542880" y="262080"/>
            <a:ext cx="5688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探究平面镜成像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108000" y="1341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Arial"/>
              </a:rPr>
              <a:t>平面镜成像的特点</a:t>
            </a: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8"/>
          <p:cNvSpPr/>
          <p:nvPr/>
        </p:nvSpPr>
        <p:spPr>
          <a:xfrm>
            <a:off x="1944720" y="4775040"/>
            <a:ext cx="26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面镜所成的像是虚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标题 1"/>
          <p:cNvSpPr/>
          <p:nvPr/>
        </p:nvSpPr>
        <p:spPr>
          <a:xfrm>
            <a:off x="1042920" y="549360"/>
            <a:ext cx="5688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探究平面镜成像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44560" y="1603440"/>
            <a:ext cx="69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765000" y="1641600"/>
            <a:ext cx="6759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利用数学课中有关对称的知识，平面镜成像的规律可以表述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平面镜所成的像关于镜面对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物理备课大师【全免费】</dc:creator>
  <dc:description>物理备课大师【全免费】</dc:description>
  <dc:language>en-US</dc:language>
  <cp:lastModifiedBy>Administrator</cp:lastModifiedBy>
  <dcterms:modified xsi:type="dcterms:W3CDTF">2017-11-12T08:37:35Z</dcterms:modified>
  <cp:revision>5</cp:revision>
  <dc:subject/>
  <dc:title>物理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5</vt:lpwstr>
  </property>
  <property fmtid="{D5CDD505-2E9C-101B-9397-08002B2CF9AE}" pid="3" name="Version">
    <vt:r8>1</vt:r8>
  </property>
</Properties>
</file>