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605-2F64-4429-946E-ED938425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738-4F03-4851-9A6F-9AF81502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812-0497-4092-B53B-56D67779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F54-D34E-45C0-9A25-A09BDF23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82B-E640-45BE-8CF5-794D7F4B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87120"/>
            <a:ext cx="82072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478-5F33-4416-8D54-286EC70C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4AA-B439-496D-BFC0-517816F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7A0-89B0-436C-B48D-9F587C14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C8A-69F0-4909-9164-09F01E53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330-9E3C-414B-965F-0EF6F19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5A4-F337-4F37-A840-FCB91554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84F-478E-4168-B0F3-EE2825DC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87120"/>
            <a:ext cx="82072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324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12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6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324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12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68360" y="87120"/>
            <a:ext cx="82072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4324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18120" y="73512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6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4324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18120" y="2840400"/>
            <a:ext cx="264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87120"/>
            <a:ext cx="82072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284040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70560"/>
            <a:ext cx="820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735120"/>
            <a:ext cx="4005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2840400"/>
            <a:ext cx="820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4CA1-6418-470B-AB4F-CEEB7AA8B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hyperlink" Target="http://weibo.com/pptlove" TargetMode="External"/><Relationship Id="rId4" Type="http://schemas.openxmlformats.org/officeDocument/2006/relationships/hyperlink" Target="http://t.sina.com.cn/pptlove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495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蓝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@PP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精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4240" y="2142720"/>
            <a:ext cx="495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8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61" name="副标题 2"/>
          <p:cNvSpPr/>
          <p:nvPr/>
        </p:nvSpPr>
        <p:spPr>
          <a:xfrm>
            <a:off x="714240" y="3214800"/>
            <a:ext cx="3786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——</a:t>
            </a:r>
            <a:r>
              <a:rPr b="1" lang="zh-CN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访问</a:t>
            </a: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www.80ppt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6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88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89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0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292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3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97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8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300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3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-139680" y="-139680"/>
            <a:ext cx="9426600" cy="5283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99ff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324000" y="34052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</a:t>
            </a:r>
            <a:r>
              <a:rPr b="0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80PPT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COM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7500960" y="4429080"/>
            <a:ext cx="158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2" name="Picture 7" descr="LOGO_24x24"/>
          <p:cNvPicPr/>
          <p:nvPr/>
        </p:nvPicPr>
        <p:blipFill>
          <a:blip r:embed="rId1"/>
          <a:stretch/>
        </p:blipFill>
        <p:spPr>
          <a:xfrm>
            <a:off x="7236000" y="4462560"/>
            <a:ext cx="23472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5"/>
          <p:cNvSpPr/>
          <p:nvPr/>
        </p:nvSpPr>
        <p:spPr>
          <a:xfrm>
            <a:off x="457200" y="3543480"/>
            <a:ext cx="3887640" cy="1134720"/>
          </a:xfrm>
          <a:prstGeom prst="rect">
            <a:avLst/>
          </a:prstGeom>
          <a:solidFill>
            <a:srgbClr val="ffffff"/>
          </a:solidFill>
          <a:ln w="64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353240" y="359892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800600" y="3543480"/>
            <a:ext cx="3887640" cy="1134720"/>
          </a:xfrm>
          <a:prstGeom prst="rect">
            <a:avLst/>
          </a:prstGeom>
          <a:solidFill>
            <a:srgbClr val="ffffff"/>
          </a:solidFill>
          <a:ln w="64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6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369576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317" name="矩形 12"/>
          <p:cNvSpPr/>
          <p:nvPr/>
        </p:nvSpPr>
        <p:spPr>
          <a:xfrm>
            <a:off x="3048120" y="119844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8" name="矩形 13"/>
          <p:cNvSpPr/>
          <p:nvPr/>
        </p:nvSpPr>
        <p:spPr>
          <a:xfrm>
            <a:off x="3048120" y="857160"/>
            <a:ext cx="3124080" cy="355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分享精品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9" name="矩形 14"/>
          <p:cNvSpPr/>
          <p:nvPr/>
        </p:nvSpPr>
        <p:spPr>
          <a:xfrm>
            <a:off x="4398120" y="48006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20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1542960"/>
            <a:ext cx="1514520" cy="1086120"/>
          </a:xfrm>
          <a:prstGeom prst="rect">
            <a:avLst/>
          </a:prstGeom>
          <a:ln w="0">
            <a:noFill/>
          </a:ln>
        </p:spPr>
      </p:pic>
      <p:sp>
        <p:nvSpPr>
          <p:cNvPr id="321" name="矩形 16"/>
          <p:cNvSpPr/>
          <p:nvPr/>
        </p:nvSpPr>
        <p:spPr>
          <a:xfrm>
            <a:off x="788040" y="4113360"/>
            <a:ext cx="3067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欢迎访问：</a:t>
            </a: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www.80ppt.com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22" name="矩形 17"/>
          <p:cNvSpPr/>
          <p:nvPr/>
        </p:nvSpPr>
        <p:spPr>
          <a:xfrm>
            <a:off x="6127560" y="37576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23" name="矩形 19"/>
          <p:cNvSpPr/>
          <p:nvPr/>
        </p:nvSpPr>
        <p:spPr>
          <a:xfrm>
            <a:off x="6019920" y="406404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Arial"/>
                <a:ea typeface="微软雅黑"/>
                <a:hlinkClick r:id="rId3"/>
              </a:rPr>
              <a:t>http://weibo.com/pptlove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2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6720" y="3608280"/>
            <a:ext cx="781200" cy="17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166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7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8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9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170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171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2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3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4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8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9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1689120" y="1058760"/>
            <a:ext cx="2514600" cy="1252800"/>
            <a:chOff x="1689120" y="1058760"/>
            <a:chExt cx="2514600" cy="1252800"/>
          </a:xfrm>
        </p:grpSpPr>
        <p:sp>
          <p:nvSpPr>
            <p:cNvPr id="181" name="圆角矩形 6"/>
            <p:cNvSpPr/>
            <p:nvPr/>
          </p:nvSpPr>
          <p:spPr>
            <a:xfrm>
              <a:off x="2073240" y="1180080"/>
              <a:ext cx="204336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2" name="TextBox 7"/>
            <p:cNvSpPr/>
            <p:nvPr/>
          </p:nvSpPr>
          <p:spPr>
            <a:xfrm>
              <a:off x="1689120" y="10587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3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4857840" y="1058760"/>
            <a:ext cx="2516040" cy="1252800"/>
            <a:chOff x="4857840" y="1058760"/>
            <a:chExt cx="2516040" cy="1252800"/>
          </a:xfrm>
        </p:grpSpPr>
        <p:sp>
          <p:nvSpPr>
            <p:cNvPr id="186" name="圆角矩形 32"/>
            <p:cNvSpPr/>
            <p:nvPr/>
          </p:nvSpPr>
          <p:spPr>
            <a:xfrm>
              <a:off x="5242320" y="1180080"/>
              <a:ext cx="204480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7" name="TextBox 33"/>
            <p:cNvSpPr/>
            <p:nvPr/>
          </p:nvSpPr>
          <p:spPr>
            <a:xfrm>
              <a:off x="4857840" y="10587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8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4857840" y="2878560"/>
            <a:ext cx="2516040" cy="1253880"/>
            <a:chOff x="4857840" y="2878560"/>
            <a:chExt cx="2516040" cy="1253880"/>
          </a:xfrm>
        </p:grpSpPr>
        <p:sp>
          <p:nvSpPr>
            <p:cNvPr id="191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4857840" y="28785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5" name="Group 21"/>
          <p:cNvGrpSpPr/>
          <p:nvPr/>
        </p:nvGrpSpPr>
        <p:grpSpPr>
          <a:xfrm>
            <a:off x="1689120" y="2878560"/>
            <a:ext cx="2514600" cy="1253880"/>
            <a:chOff x="1689120" y="2878560"/>
            <a:chExt cx="2514600" cy="1253880"/>
          </a:xfrm>
        </p:grpSpPr>
        <p:sp>
          <p:nvSpPr>
            <p:cNvPr id="196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7" name="TextBox 44"/>
            <p:cNvSpPr/>
            <p:nvPr/>
          </p:nvSpPr>
          <p:spPr>
            <a:xfrm>
              <a:off x="1689120" y="28785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0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4251240" y="1287360"/>
            <a:ext cx="3573000" cy="2635560"/>
            <a:chOff x="4251240" y="1287360"/>
            <a:chExt cx="3573000" cy="2635560"/>
          </a:xfrm>
        </p:grpSpPr>
        <p:grpSp>
          <p:nvGrpSpPr>
            <p:cNvPr id="203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04" name="TextBox 11"/>
            <p:cNvSpPr/>
            <p:nvPr/>
          </p:nvSpPr>
          <p:spPr>
            <a:xfrm>
              <a:off x="4251240" y="190584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5" name="TextBox 25"/>
            <p:cNvSpPr/>
            <p:nvPr/>
          </p:nvSpPr>
          <p:spPr>
            <a:xfrm>
              <a:off x="6224040" y="12873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6" name="TextBox 26"/>
            <p:cNvSpPr/>
            <p:nvPr/>
          </p:nvSpPr>
          <p:spPr>
            <a:xfrm>
              <a:off x="4251240" y="36158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7" name="TextBox 27"/>
            <p:cNvSpPr/>
            <p:nvPr/>
          </p:nvSpPr>
          <p:spPr>
            <a:xfrm>
              <a:off x="5955840" y="33469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8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0" t="16154" r="40894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rcRect l="0" t="24773" r="59366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4643280" y="1071720"/>
            <a:ext cx="4262760" cy="3714480"/>
            <a:chOff x="4643280" y="1071720"/>
            <a:chExt cx="4262760" cy="3714480"/>
          </a:xfrm>
        </p:grpSpPr>
        <p:grpSp>
          <p:nvGrpSpPr>
            <p:cNvPr id="216" name="Group 9"/>
            <p:cNvGrpSpPr/>
            <p:nvPr/>
          </p:nvGrpSpPr>
          <p:grpSpPr>
            <a:xfrm>
              <a:off x="4643280" y="1071720"/>
              <a:ext cx="4262760" cy="1182600"/>
              <a:chOff x="4643280" y="1071720"/>
              <a:chExt cx="4262760" cy="118260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4643280" y="1071720"/>
                <a:ext cx="4262760" cy="1182600"/>
                <a:chOff x="4643280" y="1071720"/>
                <a:chExt cx="4262760" cy="1182600"/>
              </a:xfrm>
            </p:grpSpPr>
            <p:sp>
              <p:nvSpPr>
                <p:cNvPr id="218" name="TextBox 8"/>
                <p:cNvSpPr/>
                <p:nvPr/>
              </p:nvSpPr>
              <p:spPr>
                <a:xfrm>
                  <a:off x="4643280" y="1071720"/>
                  <a:ext cx="3248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4"/>
                <p:cNvSpPr/>
                <p:nvPr/>
              </p:nvSpPr>
              <p:spPr>
                <a:xfrm>
                  <a:off x="7891920" y="2254320"/>
                  <a:ext cx="10141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0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221" name="Group 15"/>
            <p:cNvGrpSpPr/>
            <p:nvPr/>
          </p:nvGrpSpPr>
          <p:grpSpPr>
            <a:xfrm>
              <a:off x="4643280" y="3000240"/>
              <a:ext cx="1785960" cy="1785960"/>
              <a:chOff x="4643280" y="3000240"/>
              <a:chExt cx="1785960" cy="1785960"/>
            </a:xfrm>
          </p:grpSpPr>
          <p:grpSp>
            <p:nvGrpSpPr>
              <p:cNvPr id="222" name="Group 16"/>
              <p:cNvGrpSpPr/>
              <p:nvPr/>
            </p:nvGrpSpPr>
            <p:grpSpPr>
              <a:xfrm>
                <a:off x="4643280" y="3000240"/>
                <a:ext cx="1785960" cy="1785960"/>
                <a:chOff x="4643280" y="3000240"/>
                <a:chExt cx="1785960" cy="1785960"/>
              </a:xfrm>
            </p:grpSpPr>
            <p:grpSp>
              <p:nvGrpSpPr>
                <p:cNvPr id="223" name="Group 18"/>
                <p:cNvGrpSpPr/>
                <p:nvPr/>
              </p:nvGrpSpPr>
              <p:grpSpPr>
                <a:xfrm>
                  <a:off x="4643280" y="3000240"/>
                  <a:ext cx="1785960" cy="1785960"/>
                  <a:chOff x="4643280" y="3000240"/>
                  <a:chExt cx="1785960" cy="1785960"/>
                </a:xfrm>
              </p:grpSpPr>
              <p:grpSp>
                <p:nvGrpSpPr>
                  <p:cNvPr id="224" name="Group 19"/>
                  <p:cNvGrpSpPr/>
                  <p:nvPr/>
                </p:nvGrpSpPr>
                <p:grpSpPr>
                  <a:xfrm>
                    <a:off x="4643280" y="3253320"/>
                    <a:ext cx="1785960" cy="1532880"/>
                    <a:chOff x="4643280" y="3253320"/>
                    <a:chExt cx="1785960" cy="1532880"/>
                  </a:xfrm>
                </p:grpSpPr>
                <p:sp>
                  <p:nvSpPr>
                    <p:cNvPr id="225" name="直接连接符 11"/>
                    <p:cNvSpPr/>
                    <p:nvPr/>
                  </p:nvSpPr>
                  <p:spPr>
                    <a:xfrm>
                      <a:off x="4643280" y="4784400"/>
                      <a:ext cx="1785960" cy="180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6" name="Group 21"/>
                    <p:cNvGrpSpPr/>
                    <p:nvPr/>
                  </p:nvGrpSpPr>
                  <p:grpSpPr>
                    <a:xfrm>
                      <a:off x="5011200" y="3253320"/>
                      <a:ext cx="1050120" cy="1531080"/>
                      <a:chOff x="5011200" y="3253320"/>
                      <a:chExt cx="1050120" cy="1531080"/>
                    </a:xfrm>
                  </p:grpSpPr>
                  <p:sp>
                    <p:nvSpPr>
                      <p:cNvPr id="227" name="矩形 12"/>
                      <p:cNvSpPr/>
                      <p:nvPr/>
                    </p:nvSpPr>
                    <p:spPr>
                      <a:xfrm>
                        <a:off x="5011200" y="3253320"/>
                        <a:ext cx="393840" cy="15310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矩形 13"/>
                      <p:cNvSpPr/>
                      <p:nvPr/>
                    </p:nvSpPr>
                    <p:spPr>
                      <a:xfrm>
                        <a:off x="5667480" y="4019040"/>
                        <a:ext cx="393840" cy="7653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29" name="TextBox 19"/>
                  <p:cNvSpPr/>
                  <p:nvPr/>
                </p:nvSpPr>
                <p:spPr>
                  <a:xfrm>
                    <a:off x="4753800" y="300024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Box 20"/>
                  <p:cNvSpPr/>
                  <p:nvPr/>
                </p:nvSpPr>
                <p:spPr>
                  <a:xfrm>
                    <a:off x="5430960" y="374760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26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232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233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4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236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0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247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48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250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2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254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8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261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63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266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67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269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0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272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3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74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5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6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9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0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2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Administrator</dc:creator>
  <dc:description/>
  <cp:keywords/>
  <dc:language>en-US</dc:language>
  <cp:lastModifiedBy>BONY</cp:lastModifiedBy>
  <cp:lastPrinted>1899-12-30T00:00:00Z</cp:lastPrinted>
  <dcterms:modified xsi:type="dcterms:W3CDTF">2011-12-12T15:45:55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