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F50C-67A7-4BDE-9D9E-5DD1A745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7E29-6F58-4009-B996-5EAE353E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E95E-7A5E-4316-8201-71643744C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C068-D88A-4DF5-9A54-815A42619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62D7-E097-4627-967B-78AAF641F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A41D-9295-4754-A0E0-C6A1AFE6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A6DE-BCDD-4DCF-8812-3D557195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5FB4-6810-41B4-81FE-73AB5E7B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DF10-1DC1-475A-9841-834A4334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38D2-AC5D-40D9-BE39-595D13C4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9A8F-88DA-44F6-89A5-40B7FC1D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E117-07FC-45EE-AA7D-8E0F8FCA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54C1-7C90-4E37-AB23-99581251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276D-599A-4CB5-812D-7A7AB62E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B1DE-D06A-4851-90F6-C670E049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DE53-B831-4A7B-9118-3381538B7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740C-3C60-472C-9AEA-273CF8ED2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CA0B-DD3D-4671-8EF0-DD8BF4C2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DC63-3E29-4362-A4C0-EF984482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CF36-A6D1-4649-9172-5D7F5592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B4B5-D4D7-40EA-A32D-63A44011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164D-6A51-45B2-ACB6-A696B81F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6FD4-6E58-425B-AA6B-1BCCF69A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6905-4232-4A60-86E9-22250B71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BC53-9578-4F7E-ABE0-8000AE7BA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97E8-3C82-4573-A1DC-D817AF98D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0" y="213372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</a:rPr>
              <a:t>你来比划我来猜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533520" y="3581280"/>
            <a:ext cx="8076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0" spc="-1" strike="noStrike">
                <a:solidFill>
                  <a:srgbClr val="ffff00"/>
                </a:solidFill>
                <a:latin typeface="Arial"/>
              </a:rPr>
              <a:t>嗑瓜子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492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981080" y="1676520"/>
            <a:ext cx="4953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0" spc="-1" strike="noStrike">
                <a:solidFill>
                  <a:srgbClr val="ffff00"/>
                </a:solidFill>
                <a:latin typeface="Arial"/>
              </a:rPr>
              <a:t>刷牙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146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914400" y="1828800"/>
            <a:ext cx="7467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0" spc="-1" strike="noStrike">
                <a:solidFill>
                  <a:srgbClr val="ffff00"/>
                </a:solidFill>
                <a:latin typeface="Arial"/>
              </a:rPr>
              <a:t>打麻将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71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685800" y="2666880"/>
            <a:ext cx="7772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0" spc="-1" strike="noStrike">
                <a:solidFill>
                  <a:srgbClr val="ffff00"/>
                </a:solidFill>
                <a:latin typeface="Arial"/>
              </a:rPr>
              <a:t>吃面条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336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1905120" y="1905120"/>
            <a:ext cx="5715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0" spc="-1" strike="noStrike">
                <a:solidFill>
                  <a:srgbClr val="ffff00"/>
                </a:solidFill>
                <a:latin typeface="Arial"/>
              </a:rPr>
              <a:t>梳头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1240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2209680" y="2590920"/>
            <a:ext cx="5029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0" spc="-1" strike="noStrike">
                <a:solidFill>
                  <a:srgbClr val="ffff00"/>
                </a:solidFill>
                <a:latin typeface="Arial"/>
              </a:rPr>
              <a:t>喝水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576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838080" y="3124080"/>
            <a:ext cx="6934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0" spc="-1" strike="noStrike">
                <a:solidFill>
                  <a:srgbClr val="ffff00"/>
                </a:solidFill>
                <a:latin typeface="Arial"/>
              </a:rPr>
              <a:t>剪指甲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336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18288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0" spc="-1" strike="noStrike">
                <a:solidFill>
                  <a:srgbClr val="000000"/>
                </a:solidFill>
                <a:latin typeface="Arial"/>
              </a:rPr>
              <a:t>恭喜过关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219320" y="1676520"/>
            <a:ext cx="51051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物品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1905120" y="251460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口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27432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304920" y="76212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游戏规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380880" y="1736640"/>
            <a:ext cx="914400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每组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名选手参加，一人比划一人猜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每组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个词，限时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分钟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比划着只能用肢体语言的形式向猜词者传达信息，不得说出“词语”中任何字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猜不出可以喊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观众不能提醒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1752480" y="2438280"/>
            <a:ext cx="579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眉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27000" y="0"/>
            <a:ext cx="2617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2286000" y="243828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橡皮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90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133720" y="2209680"/>
            <a:ext cx="487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电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28195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1905120" y="2438280"/>
            <a:ext cx="533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红领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24098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2209680" y="22096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香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81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1523880" y="2590920"/>
            <a:ext cx="632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拖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3360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2133720" y="243828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雨伞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336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1828800" y="358128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电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3360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1905120" y="2514600"/>
            <a:ext cx="54864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895480"/>
            <a:ext cx="47246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2362320"/>
            <a:ext cx="6400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0" spc="-1" strike="noStrike">
                <a:solidFill>
                  <a:srgbClr val="000000"/>
                </a:solidFill>
                <a:latin typeface="Arial"/>
              </a:rPr>
              <a:t>手机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954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1981080" y="350532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冰箱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80880" y="762120"/>
            <a:ext cx="4419720" cy="59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组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动作类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组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（动物名称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zh-CN" sz="5400" spc="-1" strike="noStrike">
                <a:solidFill>
                  <a:srgbClr val="009999"/>
                </a:solidFill>
                <a:latin typeface="Arial"/>
              </a:rPr>
              <a:t>组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（四字成语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724280" y="762120"/>
            <a:ext cx="4419720" cy="59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组</a:t>
            </a: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物品类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组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（体育项目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组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（职业类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2133720" y="259092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眼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33336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828800" y="251460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恭喜过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1447920" y="914400"/>
            <a:ext cx="525780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动物名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2362320" y="2514600"/>
            <a:ext cx="464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大象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333360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2286000" y="3276720"/>
            <a:ext cx="472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长颈鹿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3657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1905120" y="2590920"/>
            <a:ext cx="510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袋鼠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33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981080" y="2514600"/>
            <a:ext cx="495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兔子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2514600" y="2514600"/>
            <a:ext cx="39625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2819520"/>
            <a:ext cx="45720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2971800"/>
            <a:ext cx="5029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0" spc="-1" strike="noStrike">
                <a:solidFill>
                  <a:srgbClr val="000000"/>
                </a:solidFill>
                <a:latin typeface="Arial"/>
              </a:rPr>
              <a:t>猴子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1828800" y="236232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企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33336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2438280" y="220968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6576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143000" y="1600200"/>
            <a:ext cx="6858000" cy="50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0" lang="zh-CN" sz="11000" spc="-1" strike="noStrike">
                <a:solidFill>
                  <a:srgbClr val="ffff00"/>
                </a:solidFill>
                <a:latin typeface="Arial"/>
              </a:rPr>
              <a:t>组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ffff00"/>
                </a:solidFill>
                <a:latin typeface="Arial"/>
              </a:rPr>
              <a:t>动作类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2133720" y="2209680"/>
            <a:ext cx="472428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2666880"/>
            <a:ext cx="4647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0" spc="-1" strike="noStrike">
                <a:solidFill>
                  <a:srgbClr val="000000"/>
                </a:solidFill>
                <a:latin typeface="Arial"/>
              </a:rPr>
              <a:t>马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33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905120" y="2209680"/>
            <a:ext cx="50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猪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862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577880" y="2841480"/>
            <a:ext cx="541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小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22860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905120" y="2209680"/>
            <a:ext cx="51051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362320"/>
            <a:ext cx="5257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0" spc="-1" strike="noStrike">
                <a:solidFill>
                  <a:srgbClr val="000000"/>
                </a:solidFill>
                <a:latin typeface="Arial"/>
              </a:rPr>
              <a:t>老鼠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909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905120" y="2133720"/>
            <a:ext cx="510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蚊子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336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2514600" y="2133720"/>
            <a:ext cx="43434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828800" y="251460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公鸡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71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905120" y="2514600"/>
            <a:ext cx="510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恭喜过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1143000" y="990720"/>
            <a:ext cx="571500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体育运动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1066680" y="320040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举重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336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523880" y="213372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跨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624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1828800" y="2209680"/>
            <a:ext cx="5410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0" spc="-1" strike="noStrike">
                <a:solidFill>
                  <a:srgbClr val="ffff00"/>
                </a:solidFill>
                <a:latin typeface="Arial"/>
              </a:rPr>
              <a:t>敲门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575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1523880" y="213372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跳高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336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447920" y="243828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铅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3360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523880" y="213372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标枪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3360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1295280" y="320040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马术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336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1523880" y="213372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体操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336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1523880" y="213372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篮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096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523880" y="213372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足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3333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1219320" y="2362320"/>
            <a:ext cx="609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排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336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1066680" y="274320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游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3360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1371600" y="312408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羽毛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9527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447920" y="1447920"/>
            <a:ext cx="5715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0" spc="-1" strike="noStrike">
                <a:solidFill>
                  <a:srgbClr val="ffff00"/>
                </a:solidFill>
                <a:latin typeface="Arial"/>
              </a:rPr>
              <a:t>跳绳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478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1523880" y="213372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恭喜过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1752480" y="1219320"/>
            <a:ext cx="6324840" cy="44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150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四字成语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1828800" y="2057400"/>
            <a:ext cx="556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金鸡独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905120" y="2133720"/>
            <a:ext cx="556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龟兔赛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1828800" y="2209680"/>
            <a:ext cx="556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狼吞虎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1905120" y="2286000"/>
            <a:ext cx="556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掩耳盗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1905120" y="2209680"/>
            <a:ext cx="556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七上八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1905120" y="2362320"/>
            <a:ext cx="556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顶天立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1905120" y="2209680"/>
            <a:ext cx="556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千钧一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1905120" y="2209680"/>
            <a:ext cx="556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东倒西歪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838080" y="2895480"/>
            <a:ext cx="7239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0" spc="-1" strike="noStrike">
                <a:solidFill>
                  <a:srgbClr val="ffff00"/>
                </a:solidFill>
                <a:latin typeface="Arial"/>
              </a:rPr>
              <a:t>系鞋带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479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1905120" y="2209680"/>
            <a:ext cx="556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蹑手蹑脚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1905120" y="2209680"/>
            <a:ext cx="556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一飞 冲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905120" y="2362320"/>
            <a:ext cx="556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怒发冲冠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1905120" y="2133720"/>
            <a:ext cx="556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抓耳挠腮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1905120" y="2057400"/>
            <a:ext cx="556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恭喜过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5"/>
          <p:cNvSpPr/>
          <p:nvPr/>
        </p:nvSpPr>
        <p:spPr>
          <a:xfrm>
            <a:off x="1066680" y="533520"/>
            <a:ext cx="640080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120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00"/>
                </a:solidFill>
                <a:latin typeface="Arial"/>
              </a:rPr>
              <a:t>职业类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5"/>
          <p:cNvSpPr/>
          <p:nvPr/>
        </p:nvSpPr>
        <p:spPr>
          <a:xfrm>
            <a:off x="990720" y="3276720"/>
            <a:ext cx="640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00"/>
                </a:solidFill>
                <a:latin typeface="Arial"/>
              </a:rPr>
              <a:t>老师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336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5"/>
          <p:cNvSpPr/>
          <p:nvPr/>
        </p:nvSpPr>
        <p:spPr>
          <a:xfrm>
            <a:off x="1523880" y="2362320"/>
            <a:ext cx="640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00"/>
                </a:solidFill>
                <a:latin typeface="Arial"/>
              </a:rPr>
              <a:t>医生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21430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5"/>
          <p:cNvSpPr/>
          <p:nvPr/>
        </p:nvSpPr>
        <p:spPr>
          <a:xfrm>
            <a:off x="1523880" y="2666880"/>
            <a:ext cx="640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00"/>
                </a:solidFill>
                <a:latin typeface="Arial"/>
              </a:rPr>
              <a:t>歌星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00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5"/>
          <p:cNvSpPr/>
          <p:nvPr/>
        </p:nvSpPr>
        <p:spPr>
          <a:xfrm>
            <a:off x="990720" y="3733920"/>
            <a:ext cx="640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00"/>
                </a:solidFill>
                <a:latin typeface="Arial"/>
              </a:rPr>
              <a:t>司机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33526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5"/>
          <p:cNvSpPr/>
          <p:nvPr/>
        </p:nvSpPr>
        <p:spPr>
          <a:xfrm>
            <a:off x="914400" y="1752480"/>
            <a:ext cx="7696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0" spc="-1" strike="noStrike">
                <a:solidFill>
                  <a:srgbClr val="ffff00"/>
                </a:solidFill>
                <a:latin typeface="Arial"/>
              </a:rPr>
              <a:t>刮胡子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336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5"/>
          <p:cNvSpPr/>
          <p:nvPr/>
        </p:nvSpPr>
        <p:spPr>
          <a:xfrm>
            <a:off x="2057400" y="2895480"/>
            <a:ext cx="640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00"/>
                </a:solidFill>
                <a:latin typeface="Arial"/>
              </a:rPr>
              <a:t>农民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3360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5"/>
          <p:cNvSpPr/>
          <p:nvPr/>
        </p:nvSpPr>
        <p:spPr>
          <a:xfrm>
            <a:off x="2286000" y="2590920"/>
            <a:ext cx="640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00"/>
                </a:solidFill>
                <a:latin typeface="Arial"/>
              </a:rPr>
              <a:t>解放军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5"/>
          <p:cNvSpPr/>
          <p:nvPr/>
        </p:nvSpPr>
        <p:spPr>
          <a:xfrm>
            <a:off x="1523880" y="2362320"/>
            <a:ext cx="640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00"/>
                </a:solidFill>
                <a:latin typeface="Arial"/>
              </a:rPr>
              <a:t>学生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25905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5"/>
          <p:cNvSpPr/>
          <p:nvPr/>
        </p:nvSpPr>
        <p:spPr>
          <a:xfrm>
            <a:off x="1523880" y="2362320"/>
            <a:ext cx="640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00"/>
                </a:solidFill>
                <a:latin typeface="Arial"/>
              </a:rPr>
              <a:t>主持人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053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5"/>
          <p:cNvSpPr/>
          <p:nvPr/>
        </p:nvSpPr>
        <p:spPr>
          <a:xfrm>
            <a:off x="1523880" y="2362320"/>
            <a:ext cx="640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00"/>
                </a:solidFill>
                <a:latin typeface="Arial"/>
              </a:rPr>
              <a:t>厨师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971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5"/>
          <p:cNvSpPr/>
          <p:nvPr/>
        </p:nvSpPr>
        <p:spPr>
          <a:xfrm>
            <a:off x="1523880" y="2362320"/>
            <a:ext cx="640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00"/>
                </a:solidFill>
                <a:latin typeface="Arial"/>
              </a:rPr>
              <a:t>运动员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5"/>
          <p:cNvSpPr/>
          <p:nvPr/>
        </p:nvSpPr>
        <p:spPr>
          <a:xfrm>
            <a:off x="1523880" y="2362320"/>
            <a:ext cx="640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00"/>
                </a:solidFill>
                <a:latin typeface="Arial"/>
              </a:rPr>
              <a:t>邮递员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813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5"/>
          <p:cNvSpPr/>
          <p:nvPr/>
        </p:nvSpPr>
        <p:spPr>
          <a:xfrm>
            <a:off x="1523880" y="2362320"/>
            <a:ext cx="640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00"/>
                </a:solidFill>
                <a:latin typeface="Arial"/>
              </a:rPr>
              <a:t>画家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2743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5"/>
          <p:cNvSpPr/>
          <p:nvPr/>
        </p:nvSpPr>
        <p:spPr>
          <a:xfrm>
            <a:off x="1523880" y="236232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恭喜过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5"/>
          <p:cNvSpPr/>
          <p:nvPr/>
        </p:nvSpPr>
        <p:spPr>
          <a:xfrm>
            <a:off x="1066680" y="2133720"/>
            <a:ext cx="7848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</a:rPr>
              <a:t>谢谢大家！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209680" y="2209680"/>
            <a:ext cx="4724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0" spc="-1" strike="noStrike">
                <a:solidFill>
                  <a:srgbClr val="ffff00"/>
                </a:solidFill>
                <a:latin typeface="Arial"/>
              </a:rPr>
              <a:t>打嗝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1523880" y="2362320"/>
            <a:ext cx="6400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zh-CN" sz="160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random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军伟</cp:lastModifiedBy>
  <dcterms:modified xsi:type="dcterms:W3CDTF">2013-01-02T07:19:56Z</dcterms:modified>
  <cp:revision>7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