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2C2-601F-4EDF-8504-FC8C989B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C3A-A8E1-40EA-8D4C-E72B4A0E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6EE-D1EA-4617-84DB-69FFBDB5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003-2AF6-429E-B139-AF3BCDE4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4E4E-3337-41B9-8474-0533DA36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06FD-B148-470B-87DF-4A9687FC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ECAD-ED26-4265-B88C-7ED4A94F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4D8-677F-4758-9E3E-85FEDB30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984-80D4-46C2-AE59-75332B7C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52E7-E295-49C5-A94A-DF2C0245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052D-09AB-4283-A779-9422B7AE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F6C-3090-4DA1-AB7D-D1E3000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E3B9-E14F-42B9-AFC8-4BD7D63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9D4A-9EFD-489E-A079-51F129F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AF3C-76AE-4F74-805A-E6281A72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913C-83DF-41AD-841C-6C67B3B0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F855-8471-4E7F-A215-28A3FE8F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205-8D97-465C-A141-A70660FB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3E4-4906-4B45-BE56-7B36E914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571-7EF2-4471-9392-CAAA014B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372-6E66-4620-BF24-66C990A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C7E-3155-48B0-9D1F-F7371B4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E51-E25B-440A-A12F-497F794C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038-9C71-4451-B6F9-36BB00A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E96B-5CBF-4A0A-B7E1-D9EA30F0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7E73-38FB-45AF-B36F-DF742A946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南辕北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32000" y="1980720"/>
            <a:ext cx="64404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南辕北辙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讲了一个什么故事？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南辕北辙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中那个做车人是怎么想的？他的朋友又是怎么想的？谁的想法对？为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76360" y="2276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现在你明白季梁为什么要给魏王讲这个故事吗？可以帮老师接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692360" y="184464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还知道哪些寓言故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拔苗助长、掩耳盗铃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守株待兔、亡羊补牢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狐假虎威、自相矛盾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滥竽充数、买椟还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叶公好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66720" y="34290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3:34:03Z</dcterms:created>
  <dc:creator>当易网 http://www.downyi.com</dc:creator>
  <dc:description>当易网 http://www.downyi.com</dc:description>
  <cp:keywords>当易网 http:/www.downyi.com</cp:keywords>
  <dc:language>en-US</dc:language>
  <cp:lastModifiedBy>Administrator</cp:lastModifiedBy>
  <dcterms:modified xsi:type="dcterms:W3CDTF">2016-07-08T08:02:13Z</dcterms:modified>
  <cp:revision>6</cp:revision>
  <dc:subject>当易网 http://www.downyi.com</dc:subject>
  <dc:title>当易网 http://www.downyi.com</dc:title>
</cp:coreProperties>
</file>