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TADA.WAV" ContentType="audio/x-wav"/>
  <Override PartName="/ppt/media/image2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chimes.wav" ContentType="audio/x-wav"/>
  <Override PartName="/ppt/media/image16.jpeg" ContentType="image/jpeg"/>
  <Override PartName="/ppt/media/DING.WAV" ContentType="audio/x-wav"/>
  <Override PartName="/ppt/media/image4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C8B-B11B-4ACF-8378-C41CC599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FB1-5746-467F-A706-FE3C651B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C8A-B07F-479F-AF18-FADBA5F5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3FC-212B-4B49-B297-D516E4DF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C9E-61E1-4087-8103-C55E4AF0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249-1A7D-46A0-8D2A-0788F6B7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573-F67D-478D-AE7F-27E3EDF2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C3E-8647-4E00-B0AA-9FB4D9B5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C9D-AC79-4F79-8BC9-A96A19F4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2E4-3F7C-4B62-ACBF-F6D1A2EB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442-1C65-4EBD-AAAC-B642FAF3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82F-01D5-45D2-8FEE-AFC06651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59F3-70FE-4A67-9793-EF06F4A42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ADA.WAV"/><Relationship Id="rId3" Type="http://schemas.openxmlformats.org/officeDocument/2006/relationships/audio" Target="../media/DING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AD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6667.htm" TargetMode="External"/><Relationship Id="rId2" Type="http://schemas.openxmlformats.org/officeDocument/2006/relationships/hyperlink" Target="http://baike.baidu.com/view/5435.htm" TargetMode="External"/><Relationship Id="rId3" Type="http://schemas.openxmlformats.org/officeDocument/2006/relationships/hyperlink" Target="http://baike.baidu.com/view/505566.htm" TargetMode="External"/><Relationship Id="rId4" Type="http://schemas.openxmlformats.org/officeDocument/2006/relationships/hyperlink" Target="http://baike.baidu.com/view/29645.htm" TargetMode="External"/><Relationship Id="rId5" Type="http://schemas.openxmlformats.org/officeDocument/2006/relationships/hyperlink" Target="http://baike.baidu.com/view/21759.htm" TargetMode="External"/><Relationship Id="rId6" Type="http://schemas.openxmlformats.org/officeDocument/2006/relationships/hyperlink" Target="http://baike.baidu.com/view/66794.htm" TargetMode="External"/><Relationship Id="rId7" Type="http://schemas.openxmlformats.org/officeDocument/2006/relationships/hyperlink" Target="http://baike.baidu.com/view/45083.htm" TargetMode="External"/><Relationship Id="rId8" Type="http://schemas.openxmlformats.org/officeDocument/2006/relationships/hyperlink" Target="http://baike.baidu.com/view/1142735.htm" TargetMode="External"/><Relationship Id="rId9" Type="http://schemas.openxmlformats.org/officeDocument/2006/relationships/hyperlink" Target="http://baike.baidu.com/view/1893.htm" TargetMode="External"/><Relationship Id="rId10" Type="http://schemas.openxmlformats.org/officeDocument/2006/relationships/hyperlink" Target="http://baike.baidu.com/view/1256.htm" TargetMode="External"/><Relationship Id="rId11" Type="http://schemas.openxmlformats.org/officeDocument/2006/relationships/hyperlink" Target="http://baike.baidu.com/view/24050.htm" TargetMode="External"/><Relationship Id="rId12" Type="http://schemas.openxmlformats.org/officeDocument/2006/relationships/hyperlink" Target="http://baike.baidu.com/view/1689.htm" TargetMode="External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724360" y="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03280" y="18900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1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难忘的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泼水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20090410155228"/>
          <p:cNvPicPr/>
          <p:nvPr/>
        </p:nvPicPr>
        <p:blipFill>
          <a:blip r:embed="rId1"/>
          <a:stretch/>
        </p:blipFill>
        <p:spPr>
          <a:xfrm>
            <a:off x="1042920" y="1195560"/>
            <a:ext cx="7274160" cy="507024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2632680" y="626580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2222280" y="549360"/>
            <a:ext cx="5616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火红火红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凤凰花 开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傣族人民   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一年一度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泼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 又到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826920" y="3068640"/>
            <a:ext cx="811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年，傣族人民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特别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兴，因为敬爱的周恩来总理要和他们一起过泼水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 flipH="1">
            <a:off x="6948000" y="692280"/>
            <a:ext cx="304920" cy="609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2339640" y="2133720"/>
            <a:ext cx="304920" cy="609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4284360" y="1413000"/>
            <a:ext cx="304920" cy="609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584800" y="5805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傣族人民为什么特别高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2" name="TADA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626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今年的泼水节有什么特别的地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因为周总理和傣族人民欢度一年一度的泼水节，所以这个泼水节十分令人难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23320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从课文的哪些地方看出人们心里特别高兴？读读第三自然段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250920" y="260280"/>
            <a:ext cx="3529080" cy="1844640"/>
          </a:xfrm>
          <a:prstGeom prst="cloudCallout">
            <a:avLst>
              <a:gd name="adj1" fmla="val -50180"/>
              <a:gd name="adj2" fmla="val 804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581920" y="2708280"/>
            <a:ext cx="4475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人们敲起象脚鼓，从</a:t>
            </a:r>
            <a:r>
              <a:rPr b="1" lang="zh-CN" sz="4000" spc="-1" strike="noStrike" u="sng">
                <a:solidFill>
                  <a:srgbClr val="ff3399"/>
                </a:solidFill>
                <a:uFillTx/>
                <a:latin typeface="Arial"/>
                <a:ea typeface="楷体_GB2312"/>
              </a:rPr>
              <a:t>四面八方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人们在地上洒满了凤凰花的花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好像铺上了鲜红的地毯。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条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龙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划过江面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串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花炮升上天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人们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欢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着：“周总理来了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1547640" y="692280"/>
            <a:ext cx="1152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感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425520" y="609480"/>
            <a:ext cx="846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天早晨，人们敲起象脚鼓，从四面八方赶来了。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为了欢迎周总理，人们在地上撒满了凤凰花的花瓣，好像铺上了鲜红的地毯。一条条龙船驶过江面，一串串花炮升上天空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们欢呼着：“周总理来了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0" y="2060640"/>
            <a:ext cx="390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欢迎周总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132000" y="98100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地上（撒满花瓣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16760" y="21337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江面（一条条龙船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16760" y="32130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天空（一串串花炮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619280" y="4797360"/>
            <a:ext cx="65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ff0000"/>
                </a:solidFill>
                <a:latin typeface="Times New Roman"/>
              </a:rPr>
              <a:t>人们欢呼着：“周总理来了！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265040" y="2205000"/>
            <a:ext cx="53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周总理是怎样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傣族人民欢度节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2795040" y="981000"/>
            <a:ext cx="40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周总理身穿对襟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挂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咖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色长裤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头上包着一条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水红色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头巾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笑容满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地来到人群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810800" y="3357720"/>
            <a:ext cx="536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他接过一只象脚鼓，敲着欢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鼓点，踩着凤凰花铺成的“地毯”，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傣族人民一起跳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2090160" y="1989000"/>
            <a:ext cx="5260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周总理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端着盛满清水的银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拿着柏树枝蘸了水，向人们泼洒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为人们祝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400720" y="709560"/>
            <a:ext cx="36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周总理身穿对襟白褂，咖啡色长裤，头上包着一条水红色头巾，笑容满面地来到人群中。他接过一只象脚鼓，敲着欢乐的鼓点，踩着凤凰花铺成的“地毯”，同傣族人民一起跳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>
            <a:hlinkClick r:id="rId1" action="ppaction://hlinksldjump"/>
          </p:cNvPr>
          <p:cNvSpPr/>
          <p:nvPr/>
        </p:nvSpPr>
        <p:spPr>
          <a:xfrm>
            <a:off x="8172360" y="6381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25340" y="10800"/>
                </a:moveTo>
                <a:lnTo>
                  <a:pt x="39353" y="3794"/>
                </a:lnTo>
                <a:lnTo>
                  <a:pt x="393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图像-12"/>
          <p:cNvPicPr/>
          <p:nvPr/>
        </p:nvPicPr>
        <p:blipFill>
          <a:blip r:embed="rId2"/>
          <a:stretch/>
        </p:blipFill>
        <p:spPr>
          <a:xfrm>
            <a:off x="17928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886360" y="5300640"/>
            <a:ext cx="25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请画出描写周总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外貌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0090410155228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204480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泼水节一般在阳历４月１３日至１５日这三天，到了节日，傣族男女老少就穿上节日的盛装，挑着清水，先到佛寺浴佛，然后就开始互相泼水，你泼我，我泼你，它象征着吉祥、幸福、健康，年青人手里明亮晶莹的水珠，还象征着甜蜜的爱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泼水节的内容，除泼水外，还有赛龙舟、斗鸡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跳孔雀舞、丢包、放高升，放孔明箭等活动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    每年到泼水节的时候，数以万千的中外游客便纷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云集到云南西双版纳、瑞丽等傣族地区，参加傣族泼水节，年复一年，参加的旅游者越来越多，泼水节的规模越来越大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日，周恩来总理他曾参加过西双版纳的泼水节，从此以后，傣族泼水节更加名扬四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00724152437848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2987640" y="4508640"/>
            <a:ext cx="1871640" cy="865080"/>
          </a:xfrm>
          <a:prstGeom prst="wedgeRoundRectCallout">
            <a:avLst>
              <a:gd name="adj1" fmla="val -46351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咖啡色长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276720" y="1125360"/>
            <a:ext cx="1584360" cy="93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襟白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80000" y="0"/>
            <a:ext cx="1368360" cy="836640"/>
          </a:xfrm>
          <a:prstGeom prst="wedgeRoundRectCallout">
            <a:avLst>
              <a:gd name="adj1" fmla="val -43736"/>
              <a:gd name="adj2" fmla="val 49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红色头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2124000" y="1916280"/>
            <a:ext cx="576360" cy="504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7885080" y="4653000"/>
            <a:ext cx="1258920" cy="792000"/>
          </a:xfrm>
          <a:prstGeom prst="wedgeRoundRectCallout">
            <a:avLst>
              <a:gd name="adj1" fmla="val -11537"/>
              <a:gd name="adj2" fmla="val 700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象脚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619280" y="6381720"/>
            <a:ext cx="1800360" cy="647640"/>
          </a:xfrm>
          <a:prstGeom prst="wedgeEllipseCallout">
            <a:avLst>
              <a:gd name="adj1" fmla="val -44972"/>
              <a:gd name="adj2" fmla="val 7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凤凰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3564000" y="2133720"/>
            <a:ext cx="863640" cy="503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图像-12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08000" y="40464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开始泼水了。周总理一手端着盛满清水的银碗，一手拿着柏树枝蘸了水，向人们泼洒，为人们祝福。傣族人民一边欢呼，一边向周总理泼水，祝福他健康长寿。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007360" y="4508640"/>
            <a:ext cx="514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周总理把水泼到老年人身上，祝愿他们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周总理把水泼到青年人身上，祝愿他们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周总理把水泼到孩子们身上，祝愿他们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8172360" y="6381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25340" y="10800"/>
                </a:moveTo>
                <a:lnTo>
                  <a:pt x="39353" y="3794"/>
                </a:lnTo>
                <a:lnTo>
                  <a:pt x="393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005321643324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005321732559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0532164332933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图像-12"/>
          <p:cNvPicPr/>
          <p:nvPr/>
        </p:nvPicPr>
        <p:blipFill>
          <a:blip r:embed="rId1">
            <a:lum bright="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108000" y="590400"/>
            <a:ext cx="90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清的水，泼呀，洒呀！周总理和傣族人民笑哇，跳哇，是那么开心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多么幸福哇，</a:t>
            </a: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61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的泼水节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多么令人难忘啊， </a:t>
            </a: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61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的泼水节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照片 0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442600" y="1341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你会填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26920" y="22766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     ）的泼水节    （     ）的凤凰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     ）的周总理    （      ）的地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     ）的泼水节    （      ）的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     ）的头巾       （      ）的鼓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图像-02"/>
          <p:cNvPicPr/>
          <p:nvPr/>
        </p:nvPicPr>
        <p:blipFill>
          <a:blip r:embed="rId2"/>
          <a:stretch/>
        </p:blipFill>
        <p:spPr>
          <a:xfrm>
            <a:off x="539640" y="2276640"/>
            <a:ext cx="2530440" cy="3205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/>
          <p:cNvSpPr/>
          <p:nvPr/>
        </p:nvSpPr>
        <p:spPr>
          <a:xfrm>
            <a:off x="2916360" y="476280"/>
            <a:ext cx="5759280" cy="1657440"/>
          </a:xfrm>
          <a:prstGeom prst="wedgeEllipseCallout">
            <a:avLst>
              <a:gd name="adj1" fmla="val -52481"/>
              <a:gd name="adj2" fmla="val 81032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235400" y="82548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想知道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72000" y="2349360"/>
            <a:ext cx="36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彝族的火把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979880" y="3068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山西锣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979880" y="386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苗族服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264280" y="544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鄂伦春篝火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4800600" y="4653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秧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>
            <a:hlinkClick r:id="" action="ppaction://hlinkshowjump?jump=firstslide"/>
          </p:cNvPr>
          <p:cNvSpPr/>
          <p:nvPr/>
        </p:nvSpPr>
        <p:spPr>
          <a:xfrm>
            <a:off x="8604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7843680" y="476280"/>
            <a:ext cx="48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火把节"/>
          <p:cNvPicPr/>
          <p:nvPr/>
        </p:nvPicPr>
        <p:blipFill>
          <a:blip r:embed="rId1"/>
          <a:stretch/>
        </p:blipFill>
        <p:spPr>
          <a:xfrm>
            <a:off x="466560" y="189000"/>
            <a:ext cx="6913800" cy="5240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468360" y="5687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从每年农历六月二十四日起，彝族都要以自己独特的方式度过三天的火把节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山西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4851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731880" y="26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山西锣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6360" y="10519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正月十五元宵佳节，山西人就用锣鼓宣告喜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周恩来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9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，原籍浙江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绍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生于江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淮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伟大的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马克思列宁主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者，中国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无产阶级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革命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政治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军事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外交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中国共产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中华人民共和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主要领导人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中国人民解放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要创建人和领导人。他是以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毛泽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志为核心的党的第一代中央领导集体的重要成员，在国际上也享有很高威望。周恩来同志的卓著功勋、崇高品德、光辉人格，深深铭记在全国各族人民心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91ae68c630442e559c163d5f"/>
          <p:cNvPicPr/>
          <p:nvPr/>
        </p:nvPicPr>
        <p:blipFill>
          <a:blip r:embed="rId13"/>
          <a:stretch/>
        </p:blipFill>
        <p:spPr>
          <a:xfrm>
            <a:off x="324000" y="620640"/>
            <a:ext cx="4643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4140360" y="669600"/>
            <a:ext cx="4790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　　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身上的小铃响个不停，背着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的银饰就像羽毛一样的轻。服饰上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纹样，有古老的传说，有图腾崇拜，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动物花卉，它记载着苗族文化的变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一种独特的文化载体，丰富了民族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化的底蕴。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    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   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苗族"/>
          <p:cNvPicPr/>
          <p:nvPr/>
        </p:nvPicPr>
        <p:blipFill>
          <a:blip r:embed="rId1"/>
          <a:stretch/>
        </p:blipFill>
        <p:spPr>
          <a:xfrm>
            <a:off x="250920" y="1557360"/>
            <a:ext cx="3744720" cy="4464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382760" y="47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苗族服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8"/>
          <p:cNvSpPr/>
          <p:nvPr/>
        </p:nvSpPr>
        <p:spPr>
          <a:xfrm>
            <a:off x="4427640" y="191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011"/>
          <p:cNvPicPr/>
          <p:nvPr/>
        </p:nvPicPr>
        <p:blipFill>
          <a:blip r:embed="rId1"/>
          <a:stretch/>
        </p:blipFill>
        <p:spPr>
          <a:xfrm>
            <a:off x="-36360" y="5861160"/>
            <a:ext cx="3958920" cy="952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314360" y="6162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鄂伦春篝火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篝火节3.MPG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6769080" cy="553716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5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秧歌"/>
          <p:cNvPicPr/>
          <p:nvPr/>
        </p:nvPicPr>
        <p:blipFill>
          <a:blip r:embed="rId1"/>
          <a:stretch/>
        </p:blipFill>
        <p:spPr>
          <a:xfrm>
            <a:off x="1403280" y="404640"/>
            <a:ext cx="7345440" cy="503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2019960" y="5515560"/>
            <a:ext cx="528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农历正月十五的元宵节，对于山东省商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县农民来说，意味着狂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78080" y="476280"/>
            <a:ext cx="63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3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图像-01"/>
          <p:cNvPicPr/>
          <p:nvPr/>
        </p:nvPicPr>
        <p:blipFill>
          <a:blip r:embed="rId2"/>
          <a:stretch/>
        </p:blipFill>
        <p:spPr>
          <a:xfrm>
            <a:off x="250920" y="260280"/>
            <a:ext cx="1415880" cy="1513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图像-02"/>
          <p:cNvPicPr/>
          <p:nvPr/>
        </p:nvPicPr>
        <p:blipFill>
          <a:blip r:embed="rId3"/>
          <a:stretch/>
        </p:blipFill>
        <p:spPr>
          <a:xfrm>
            <a:off x="0" y="155736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2721600" y="19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好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792880" y="3068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爱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792880" y="44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731320" y="566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音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7617240" y="19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天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7690320" y="29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有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7690320" y="458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700040" y="566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盛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2">
            <a:hlinkClick r:id="" action="ppaction://hlinkshowjump?jump=firstslide"/>
          </p:cNvPr>
          <p:cNvSpPr/>
          <p:nvPr/>
        </p:nvSpPr>
        <p:spPr>
          <a:xfrm>
            <a:off x="8604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/>
          <p:cNvSpPr/>
          <p:nvPr/>
        </p:nvSpPr>
        <p:spPr>
          <a:xfrm>
            <a:off x="1116000" y="0"/>
            <a:ext cx="3529080" cy="1844640"/>
          </a:xfrm>
          <a:prstGeom prst="cloudCallout">
            <a:avLst>
              <a:gd name="adj1" fmla="val -77259"/>
              <a:gd name="adj2" fmla="val 56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050920" y="260280"/>
            <a:ext cx="165600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读一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68360" y="2565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凤  凰   恩  敲  襟  褂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咖  啡  踩  端   蘸  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-184320" y="1798560"/>
            <a:ext cx="906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f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è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g hu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á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g 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  qi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o  j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ī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  gu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09960" y="4214880"/>
            <a:ext cx="88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k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   f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i   c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i  du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 zh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à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 sh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ò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凤凰花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861560" y="2565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437560" y="404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9999"/>
                </a:solidFill>
                <a:latin typeface="Arial"/>
                <a:ea typeface="楷体_GB2312"/>
              </a:rPr>
              <a:t>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64480" y="1916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7693920" y="1989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469920" y="126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820840" y="2276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996120" y="620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25392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9999"/>
                </a:solidFill>
                <a:latin typeface="Arial"/>
                <a:ea typeface="楷体_GB2312"/>
              </a:rPr>
              <a:t>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7620840" y="620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788480" y="1628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99"/>
                </a:solidFill>
                <a:latin typeface="Arial"/>
                <a:ea typeface="楷体_GB2312"/>
              </a:rPr>
              <a:t>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172840" y="1052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3012480" y="1628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3" descr="凤凰花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1258920" y="260280"/>
            <a:ext cx="3529080" cy="1844640"/>
          </a:xfrm>
          <a:prstGeom prst="cloudCallout">
            <a:avLst>
              <a:gd name="adj1" fmla="val -71412"/>
              <a:gd name="adj2" fmla="val 6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2340000" y="54936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记一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-303840" y="1844640"/>
            <a:ext cx="980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泼水节      敬爱     周恩来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总理       踩伤    对襟白挂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敲鼓    衣襟    银碗   顶端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祝福    健康   长寿   幸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咖啡      盛满     白大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838080" y="380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自学四步骤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971640" y="1916280"/>
            <a:ext cx="8534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标出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划出生字，读一读，记一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把文中的好词好句作好记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提出问题，想想收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193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539640" y="981000"/>
            <a:ext cx="38354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火红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的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凤凰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了，傣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民一年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度的泼水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到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193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1066680"/>
            <a:ext cx="81025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火红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红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凤凰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了，傣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民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一年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度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泼水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到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1:28:18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5-28T14:54:19Z</dcterms:modified>
  <cp:revision>20</cp:revision>
  <dc:subject>第一PPT模板网-WWW.1PPT.COM</dc:subject>
  <dc:title>第一PPT模板网-WWW.1PPT.COM</dc:title>
</cp:coreProperties>
</file>