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D23-1C16-4894-B958-D5B9C785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0C1-C860-4788-8445-9ECE39F1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144-35B6-4071-B5A3-7B84436D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9A6-ABDC-4885-9FA6-88A8361C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AAB3-EEB8-4084-93BD-501AB22D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B702-A98F-4BB2-95BE-946912F8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3D5E-CB84-4C7E-BE42-7D35CEC6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2EFD-8814-4599-9E39-E6DF87F6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3946-8F1C-41B4-A03F-7A9390CD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D4C2-8C64-4621-9B54-82423784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2F2A-2939-4C73-8A35-847FB31C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19A-A102-441E-8AF1-E834C83F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F53D-950E-4E02-92F4-1D522252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3F9B-A3E3-4C90-9AAC-3476DFC3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2CF2-FFDC-40A2-8768-26D595FE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3DC8-540D-4232-A5E1-E5C608A6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A029-767F-4191-B121-0E35CFF1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CA6-D876-48E0-8230-57750A5F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8B0-FDC6-479F-81EC-79684C81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917-A8CE-4D05-A039-AB9BADEB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CAC-6022-4EA0-A512-F48B8929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837-B2AC-4B11-96C0-810406B8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A8C-D29C-4DF4-846C-A57C3E65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62B-7C43-4493-86F3-FF8FDCDC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7369-9669-40B9-A5CB-474F89FEAD5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5A5A-8C87-4C0E-8AFB-614AE8BA2E69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" Target="slide15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p:transition advTm="3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毛毡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z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) 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牛犊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d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ú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) 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仪态端庄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219320"/>
            <a:ext cx="85341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镶  嵌    骏马    膘肥体壮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辽阔无垠（   ）   公 爵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悠然自得    牲畜（   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2860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í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342900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ch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50292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模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480060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47640" y="450864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m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ú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99ff"/>
                </a:solidFill>
                <a:latin typeface="宋体"/>
              </a:rPr>
              <a:t>模样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  <a:ea typeface="Times New Roman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5805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m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ó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99ff"/>
                </a:solidFill>
                <a:latin typeface="宋体"/>
              </a:rPr>
              <a:t>模型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1055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圈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48769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4495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ju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à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99ff"/>
                </a:solidFill>
                <a:latin typeface="宋体"/>
              </a:rPr>
              <a:t>羊圈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  <a:ea typeface="Times New Roman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579132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qu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ā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99ff"/>
                </a:solidFill>
                <a:latin typeface="宋体"/>
              </a:rPr>
              <a:t>圆圈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836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xi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ng qià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10760" y="758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bi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692280"/>
            <a:ext cx="85341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毛毡   牛犊     模样   仪态端庄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镶嵌  骏马  吆喝  膘肥体壮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辽阔无垠    丝绒  极目远眺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悠然自得    公爵   牲畜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11280" y="907920"/>
            <a:ext cx="8208720" cy="44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近义词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思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----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思考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)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遮掩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----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掩盖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赞许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----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赞赏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)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悠然自得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----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悠闲自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反义词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赞许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----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批评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)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舒缓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----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急促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微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----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强烈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00000" y="62064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专注吃草的花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9640" y="83664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凝神思考的花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71640" y="765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尊严无比的老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极目远眺，碧绿如丝绒般的草原上，是一头头黑白两色的奶牛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79736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这就是真正的荷兰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32000" y="1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碧绿色的低地镶嵌在一条条运河之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7308720" y="6021360"/>
            <a:ext cx="1224000" cy="36036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315" h="21600">
                <a:moveTo>
                  <a:pt x="0" y="0"/>
                </a:moveTo>
                <a:lnTo>
                  <a:pt x="73315" y="0"/>
                </a:lnTo>
                <a:lnTo>
                  <a:pt x="73315" y="21600"/>
                </a:lnTo>
                <a:lnTo>
                  <a:pt x="0" y="21600"/>
                </a:lnTo>
                <a:close/>
              </a:path>
              <a:path fill="lightenLess" w="73315" h="21600">
                <a:moveTo>
                  <a:pt x="0" y="0"/>
                </a:moveTo>
                <a:lnTo>
                  <a:pt x="73315" y="0"/>
                </a:lnTo>
                <a:lnTo>
                  <a:pt x="71915" y="1400"/>
                </a:lnTo>
                <a:lnTo>
                  <a:pt x="1400" y="1400"/>
                </a:lnTo>
                <a:close/>
              </a:path>
              <a:path fill="darken" w="73315" h="21600">
                <a:moveTo>
                  <a:pt x="73315" y="0"/>
                </a:moveTo>
                <a:lnTo>
                  <a:pt x="73315" y="21600"/>
                </a:lnTo>
                <a:lnTo>
                  <a:pt x="71915" y="20200"/>
                </a:lnTo>
                <a:lnTo>
                  <a:pt x="71915" y="1400"/>
                </a:lnTo>
                <a:close/>
              </a:path>
              <a:path fill="darkenLess" w="73315" h="21600">
                <a:moveTo>
                  <a:pt x="73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15" y="20200"/>
                </a:lnTo>
                <a:close/>
              </a:path>
              <a:path fill="lighten" w="73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5029200"/>
            <a:ext cx="1455840" cy="135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380880"/>
            <a:ext cx="692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成群的骏马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匹匹膘肥体壮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p:transition advTm="3000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3333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除了深深的野草遮掩着的运河，没有什么能够阻挡它们飞驰到远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422100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这就是真正的荷兰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085280" y="103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色的绵羊，悠然自得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51577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这就是真正的荷兰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564000" y="48690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这就是真正的荷兰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02485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1523880"/>
            <a:ext cx="8534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3399ff"/>
                </a:solidFill>
                <a:latin typeface="黑体"/>
                <a:ea typeface="黑体"/>
              </a:rPr>
              <a:t>真正的荷兰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：牧场上一片碧草，上面有黑白两色花牛，他们在吃草，悠闲自得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3399ff"/>
                </a:solidFill>
                <a:latin typeface="黑体"/>
                <a:ea typeface="黑体"/>
              </a:rPr>
              <a:t>真正的荷兰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：碧绿色的低地上有成群的骏马，它们膘肥体壮，是辽阔原野的主人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作者为什么四次提到这就是真正的荷兰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228600"/>
            <a:ext cx="861048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3.</a:t>
            </a:r>
            <a:r>
              <a:rPr b="1" lang="zh-CN" sz="4400" spc="-1" strike="noStrike">
                <a:solidFill>
                  <a:srgbClr val="3399ff"/>
                </a:solidFill>
                <a:latin typeface="黑体"/>
                <a:ea typeface="黑体"/>
              </a:rPr>
              <a:t>真正的荷兰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：在绿色的草地上，绵羊悠然自得，猪群不停地呼噜，小鸡、长毛山羊安闲自在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4.</a:t>
            </a:r>
            <a:r>
              <a:rPr b="1" lang="zh-CN" sz="4400" spc="-1" strike="noStrike">
                <a:solidFill>
                  <a:srgbClr val="3399ff"/>
                </a:solidFill>
                <a:latin typeface="黑体"/>
                <a:ea typeface="黑体"/>
              </a:rPr>
              <a:t>真正的荷兰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：傍晚，有人驾驶船默默挤奶，船只行驶舒缓平稳</a:t>
            </a:r>
            <a:r>
              <a:rPr b="1" lang="zh-CN" sz="6000" spc="-1" strike="noStrike" baseline="30000">
                <a:solidFill>
                  <a:srgbClr val="0033cc"/>
                </a:solidFill>
                <a:latin typeface="黑体"/>
                <a:ea typeface="黑体"/>
              </a:rPr>
              <a:t>……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一片静谧，一幅沉寂的静夜图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5029200"/>
            <a:ext cx="8381880" cy="76428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黑体"/>
              </a:rPr>
              <a:t>既是介绍荷兰特点，又是对荷兰独特风光的赞叹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8604000" cy="5398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-181080" y="549360"/>
            <a:ext cx="9145800" cy="5914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51628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00757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00"/>
                </a:solidFill>
                <a:latin typeface="黑体"/>
                <a:ea typeface="黑体"/>
              </a:rPr>
              <a:t>22</a:t>
            </a:r>
            <a:r>
              <a:rPr b="1" lang="zh-CN" sz="8000" spc="-1" strike="noStrike" baseline="30000">
                <a:solidFill>
                  <a:srgbClr val="006600"/>
                </a:solidFill>
                <a:latin typeface="黑体"/>
                <a:ea typeface="黑体"/>
              </a:rPr>
              <a:t>*</a:t>
            </a:r>
            <a:r>
              <a:rPr b="1" lang="zh-CN" sz="8000" spc="-1" strike="noStrike">
                <a:solidFill>
                  <a:srgbClr val="006600"/>
                </a:solidFill>
                <a:latin typeface="黑体"/>
                <a:ea typeface="黑体"/>
              </a:rPr>
              <a:t>  </a:t>
            </a:r>
            <a:r>
              <a:rPr b="1" lang="zh-CN" sz="8000" spc="-1" strike="noStrike">
                <a:solidFill>
                  <a:srgbClr val="006600"/>
                </a:solidFill>
                <a:latin typeface="黑体"/>
                <a:ea typeface="黑体"/>
              </a:rPr>
              <a:t>牧场之国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981080"/>
            <a:ext cx="746748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2360" y="5589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4046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荷兰，是水之国，花之国，也是牧场之国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42920" y="476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荷兰——水之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59280" y="69228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荷兰——花之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60436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820000" cy="597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3640" y="907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24440" y="692280"/>
            <a:ext cx="34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荷兰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-------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牧场之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 advTm="3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87280" y="692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荷兰——风车之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2:47:04Z</dcterms:created>
  <dc:creator>*</dc:creator>
  <dc:description/>
  <dc:language>en-US</dc:language>
  <cp:lastModifiedBy>微软用户</cp:lastModifiedBy>
  <dcterms:modified xsi:type="dcterms:W3CDTF">2012-05-12T11:28:28Z</dcterms:modified>
  <cp:revision>18</cp:revision>
  <dc:subject/>
  <dc:title>22*  牧场之国</dc:title>
</cp:coreProperties>
</file>