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FDA-91D7-46D4-8AE6-FD946A18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570-62A9-4C2B-A297-D5F14355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0D2-B240-470B-B67E-ABA48042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3AA-3709-4D24-9004-721B25AD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16F7-952E-4F01-9F84-BAAFACE0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EDF2-65F4-431E-A267-E0553AD7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674E-F4F5-404F-B5CA-02DF7F00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A8C1-9356-4C0B-A93F-2A6EE656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CBDD-AFDB-4A37-8FE3-978F50AF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2077-15B5-4CE5-B245-AC149214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F10F-24E7-45F6-96CD-9F90448E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F93-2999-459F-9DBE-F09A893D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5230-DDED-44E1-BA3C-76F6D3B4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DFFC-A631-4EEF-A3AF-A3B5F9C4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CC0A-18F5-49DC-9032-0EE8F782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DE8A-CC76-47EA-AD15-2910692D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2EE0-ABDF-43AA-A4E4-7AEE70FD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E64-1D0E-4D7D-BF4B-E9E8236E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02E-15D7-44F0-9C94-9CC624F8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828-8797-46A4-8B23-C3CFA4AA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E3F-8C55-4326-AAB8-CDC5A3DC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FE5-08B3-45E7-B704-B0778559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664-D770-4729-A35B-1DF6BA53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4AF-63F0-4AEE-9B57-69E6C9E4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B883-3177-409C-88C1-64F6974B870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89D1-1B45-42DD-A6AE-391959FF445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5"/>
          <p:cNvSpPr/>
          <p:nvPr/>
        </p:nvSpPr>
        <p:spPr>
          <a:xfrm>
            <a:off x="468360" y="90792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西师大版 三年级语文 下册 第三单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979640" y="2637000"/>
            <a:ext cx="5113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莫高窟</a:t>
            </a:r>
            <a:endParaRPr b="0" lang="en-US" sz="1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2031840" y="10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1908000" y="69228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初读课文，理清文脉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539640" y="2276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说一说，你从课文当中读懂了什么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学习生字词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4963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山丘    蜂窝    尊敬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彩塑  勇猛  安详   描绘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啧啧赞叹   威风凛凛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3"/>
          <p:cNvSpPr/>
          <p:nvPr/>
        </p:nvSpPr>
        <p:spPr>
          <a:xfrm>
            <a:off x="1187280" y="620640"/>
            <a:ext cx="63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莫高窟保存着（　　）尊彩塑。有（　　　）的菩萨，有（　　　）的天王，还有（　　　）的力士。一尊卧佛长达（　　），侧身（　　），眼睛（　　），神态（　　）。看到这一尊尊（　　　）的彩塑，游人无不（         ）。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4716360" y="692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两千多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3276720" y="13413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慈眉善目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268360" y="191628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威风凛凛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835280" y="2565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强壮勇猛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276720" y="3284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1763640" y="38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卧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5292720" y="386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微闭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2843280" y="4365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安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2268360" y="501336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神态各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2945880" y="5589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啧啧赞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4"/>
          <p:cNvSpPr/>
          <p:nvPr/>
        </p:nvSpPr>
        <p:spPr>
          <a:xfrm flipH="1">
            <a:off x="4320" y="0"/>
            <a:ext cx="91152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慈眉善目的菩萨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天王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5"/>
          <p:cNvSpPr/>
          <p:nvPr/>
        </p:nvSpPr>
        <p:spPr>
          <a:xfrm>
            <a:off x="7812000" y="662940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12950"/>
                </a:moveTo>
                <a:lnTo>
                  <a:pt x="17806" y="5943"/>
                </a:lnTo>
                <a:lnTo>
                  <a:pt x="17806" y="1995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4320" y="0"/>
            <a:ext cx="911520" cy="71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威风凛凛的天王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力士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4"/>
          <p:cNvSpPr/>
          <p:nvPr/>
        </p:nvSpPr>
        <p:spPr>
          <a:xfrm>
            <a:off x="830592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3240" y="476280"/>
            <a:ext cx="8506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强壮勇猛的力士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5" descr="（第二段）卧佛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0" y="5667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长达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米的卧佛，侧身卧着，眼睛微闭，神态安详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假如你是一位游客，看到这些美妙绝伦的彩塑，你会怎样称赞它呢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1555560" y="404640"/>
            <a:ext cx="607716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莫高窟不仅有（             ）的彩塑，还有四万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五千多平方米（               ）的壁画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3419640" y="76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栩栩如生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2987640" y="162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宏伟瑰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179280" y="2565360"/>
            <a:ext cx="87487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从课文中找出概括前半句话的自然段，和代表后半句话的自然段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说一说它是一个什么句子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611280" y="4292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它是过渡句，前部分是总结第二自然段，而后半句是对第三自然段的总起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066680" y="29718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380880" y="2286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1508040" y="2687760"/>
            <a:ext cx="763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250920" y="112536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其中最引人注目的，是那成百上千的飞天壁画。壁画上的飞天，有的臂挎花篮，采摘鲜花；有的怀抱琵琶，轻拨银弦；有的倒悬身子，自天而降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;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的彩带飘拂，漫天遨游；有的舒展双臂，翩翩起舞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目       录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2987640" y="1197000"/>
            <a:ext cx="2808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说教材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2987640" y="1916280"/>
            <a:ext cx="2736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说学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2771640" y="2708280"/>
            <a:ext cx="3384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说教学目标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3132000" y="3500280"/>
            <a:ext cx="2592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说重难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3059280" y="4292640"/>
            <a:ext cx="2665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说教法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2411280" y="494172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说教学过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2700360" y="55897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说板书设计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AutoShape 15"/>
          <p:cNvSpPr/>
          <p:nvPr/>
        </p:nvSpPr>
        <p:spPr>
          <a:xfrm>
            <a:off x="6012000" y="5084640"/>
            <a:ext cx="215640" cy="36036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72">
                <a:moveTo>
                  <a:pt x="0" y="0"/>
                </a:moveTo>
                <a:lnTo>
                  <a:pt x="21600" y="0"/>
                </a:lnTo>
                <a:lnTo>
                  <a:pt x="21600" y="36072"/>
                </a:lnTo>
                <a:lnTo>
                  <a:pt x="0" y="36072"/>
                </a:lnTo>
                <a:close/>
              </a:path>
              <a:path fill="lightenLess" w="21600" h="36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72">
                <a:moveTo>
                  <a:pt x="21600" y="0"/>
                </a:moveTo>
                <a:lnTo>
                  <a:pt x="21600" y="36072"/>
                </a:lnTo>
                <a:lnTo>
                  <a:pt x="20200" y="34672"/>
                </a:lnTo>
                <a:lnTo>
                  <a:pt x="20200" y="1400"/>
                </a:lnTo>
                <a:close/>
              </a:path>
              <a:path fill="darkenLess" w="21600" h="36072">
                <a:moveTo>
                  <a:pt x="21600" y="36072"/>
                </a:moveTo>
                <a:lnTo>
                  <a:pt x="0" y="36072"/>
                </a:lnTo>
                <a:lnTo>
                  <a:pt x="1400" y="34672"/>
                </a:lnTo>
                <a:lnTo>
                  <a:pt x="20200" y="34672"/>
                </a:lnTo>
                <a:close/>
              </a:path>
              <a:path fill="lighten" w="21600" h="36072">
                <a:moveTo>
                  <a:pt x="0" y="36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72"/>
                </a:lnTo>
                <a:close/>
              </a:path>
              <a:path fill="darken" w="21600" h="36072">
                <a:moveTo>
                  <a:pt x="3794" y="11030"/>
                </a:moveTo>
                <a:lnTo>
                  <a:pt x="17806" y="18036"/>
                </a:lnTo>
                <a:lnTo>
                  <a:pt x="3794" y="250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（第三段）怀抱琵琶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6992280" y="1557360"/>
            <a:ext cx="1826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</a:rPr>
              <a:t>怀抱琵琶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（第三段）舒展双臂"/>
          <p:cNvPicPr/>
          <p:nvPr/>
        </p:nvPicPr>
        <p:blipFill>
          <a:blip r:embed="rId1"/>
          <a:stretch/>
        </p:blipFill>
        <p:spPr>
          <a:xfrm>
            <a:off x="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3"/>
          <p:cNvSpPr/>
          <p:nvPr/>
        </p:nvSpPr>
        <p:spPr>
          <a:xfrm>
            <a:off x="7317720" y="1844640"/>
            <a:ext cx="18262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</a:rPr>
              <a:t>彩带飘拂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（第三段）倒悬身子"/>
          <p:cNvPicPr/>
          <p:nvPr/>
        </p:nvPicPr>
        <p:blipFill>
          <a:blip r:embed="rId1"/>
          <a:stretch/>
        </p:blipFill>
        <p:spPr>
          <a:xfrm>
            <a:off x="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6992280" y="1557360"/>
            <a:ext cx="18262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Comic Sans MS"/>
              </a:rPr>
              <a:t>倒悬身子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壁画"/>
          <p:cNvPicPr/>
          <p:nvPr/>
        </p:nvPicPr>
        <p:blipFill>
          <a:blip r:embed="rId1"/>
          <a:stretch/>
        </p:blipFill>
        <p:spPr>
          <a:xfrm>
            <a:off x="0" y="0"/>
            <a:ext cx="11734920" cy="691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3" descr="壁画2"/>
          <p:cNvPicPr/>
          <p:nvPr/>
        </p:nvPicPr>
        <p:blipFill>
          <a:blip r:embed="rId1"/>
          <a:stretch/>
        </p:blipFill>
        <p:spPr>
          <a:xfrm>
            <a:off x="0" y="0"/>
            <a:ext cx="9372600" cy="1036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壁画6"/>
          <p:cNvPicPr/>
          <p:nvPr/>
        </p:nvPicPr>
        <p:blipFill>
          <a:blip r:embed="rId1"/>
          <a:stretch/>
        </p:blipFill>
        <p:spPr>
          <a:xfrm>
            <a:off x="0" y="0"/>
            <a:ext cx="9144000" cy="82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壁画世俗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壁画4"/>
          <p:cNvPicPr/>
          <p:nvPr/>
        </p:nvPicPr>
        <p:blipFill>
          <a:blip r:embed="rId1"/>
          <a:stretch/>
        </p:blipFill>
        <p:spPr>
          <a:xfrm>
            <a:off x="-380880" y="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3"/>
          <p:cNvSpPr/>
          <p:nvPr/>
        </p:nvSpPr>
        <p:spPr>
          <a:xfrm>
            <a:off x="9144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p12tongzifeitia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3" descr="Xc909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9930f9fde49a4aa6b901a0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179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说教材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0" y="1413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莫高窟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这篇课文介绍的是我国的西北明珠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莫高窟，作者运用生动的语言描绘了栩栩如生的彩塑和宏伟瑰丽的壁画，展现了我国古代劳动人民的勤劳和智慧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课文共四段，第一段简介莫高窟的地理位置及其洞窟数量，第二段介绍了莫高窟栩栩如生的彩塑，第三段描写了莫高窟宏伟瑰丽的壁画，第四段则赞美了我国古代劳动人民的智慧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AutoShape 31"/>
          <p:cNvSpPr/>
          <p:nvPr/>
        </p:nvSpPr>
        <p:spPr>
          <a:xfrm>
            <a:off x="0" y="623736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Xc909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2438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莫高窟是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举世闻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艺术宝库，这里的每一尊彩塑、每一幅壁画，都是我国古代劳动人民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智慧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结晶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Line 7"/>
          <p:cNvSpPr/>
          <p:nvPr/>
        </p:nvSpPr>
        <p:spPr>
          <a:xfrm>
            <a:off x="2590920" y="297180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7924680" y="3429000"/>
            <a:ext cx="8240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5"/>
          <p:cNvSpPr/>
          <p:nvPr/>
        </p:nvSpPr>
        <p:spPr>
          <a:xfrm>
            <a:off x="2771640" y="62712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说板书设计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903960" y="2349360"/>
            <a:ext cx="6678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莫高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1692360" y="1989000"/>
            <a:ext cx="3671640" cy="21607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彩塑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2103480" y="184464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位置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2031840" y="386064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壁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111480" y="184464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甘肃敦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3132000" y="270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栩栩如生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3132000" y="3860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宏伟瑰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5796000" y="220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艺术宝库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5848200" y="32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Text Box 15"/>
          <p:cNvSpPr/>
          <p:nvPr/>
        </p:nvSpPr>
        <p:spPr>
          <a:xfrm>
            <a:off x="5796000" y="33577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智慧结晶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AutoShape 16"/>
          <p:cNvSpPr/>
          <p:nvPr/>
        </p:nvSpPr>
        <p:spPr>
          <a:xfrm>
            <a:off x="0" y="623736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作业布置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 </a:t>
            </a:r>
            <a:r>
              <a:rPr b="1" lang="zh-CN" sz="4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有感情的朗读课文。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 </a:t>
            </a:r>
            <a:r>
              <a:rPr b="1" lang="zh-CN" sz="4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背诵课文</a:t>
            </a:r>
            <a:r>
              <a:rPr b="1" lang="en-US" sz="4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 3</a:t>
            </a:r>
            <a:r>
              <a:rPr b="1" lang="zh-CN" sz="40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两段。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5"/>
          <p:cNvSpPr txBox="1"/>
          <p:nvPr/>
        </p:nvSpPr>
        <p:spPr>
          <a:xfrm>
            <a:off x="2627280" y="2421000"/>
            <a:ext cx="3889440" cy="16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宋体"/>
              </a:rPr>
              <a:t>再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宋体"/>
              <a:ea typeface="宋体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13880" y="3357360"/>
            <a:ext cx="766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当易网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ttp://www.downyi.co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6" name="Picture 3" descr="9930f9fde49a4aa6b901a0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0" y="119700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                       </a:t>
            </a: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说学情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三年级的学生在联系上下文理解词句方面 还有所欠缺，所以本课着重在反复诵读的基础上，引导学生理解词语，用多种方式积累美词佳句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0" y="623736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Picture 3" descr="9930f9fde49a4aa6b901a0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2700360" y="765000"/>
            <a:ext cx="417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说教学目标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95280" y="215280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学习课文，了解内容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学习过渡句，体会其用法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有感情朗读课文，背诵第二段和第三段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0" y="623736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Picture 3" descr="9930f9fde49a4aa6b901a0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2700360" y="765000"/>
            <a:ext cx="417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说教学重难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95280" y="21528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通过品词析句，读懂课文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背诵课文第二，三段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感受古代劳动人民的勤劳和智慧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0" y="623736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Picture 3" descr="9930f9fde49a4aa6b901a0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3203640" y="765000"/>
            <a:ext cx="482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说教法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0" y="2060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以学生为主体，在读中理解课文，抓关键的词语，运用图片引导学生想象，让学生在读中感受莫高窟的美丽神奇，了解古代劳动人民的智慧和伟大，激发学生对祖国文化的热爱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AutoShape 6"/>
          <p:cNvSpPr/>
          <p:nvPr/>
        </p:nvSpPr>
        <p:spPr>
          <a:xfrm>
            <a:off x="0" y="623736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5" name="Picture 3" descr="9930f9fde49a4aa6b901a0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26" name="Text Box 4"/>
          <p:cNvSpPr/>
          <p:nvPr/>
        </p:nvSpPr>
        <p:spPr>
          <a:xfrm>
            <a:off x="2700360" y="404640"/>
            <a:ext cx="417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说教学过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AutoShape 12"/>
          <p:cNvSpPr/>
          <p:nvPr/>
        </p:nvSpPr>
        <p:spPr>
          <a:xfrm>
            <a:off x="0" y="623736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80280" y="1725120"/>
            <a:ext cx="2009520" cy="626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整体感知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AutoShape 15"/>
          <p:cNvSpPr/>
          <p:nvPr/>
        </p:nvSpPr>
        <p:spPr>
          <a:xfrm>
            <a:off x="3348000" y="1916280"/>
            <a:ext cx="1297080" cy="288720"/>
          </a:xfrm>
          <a:prstGeom prst="rightArrow">
            <a:avLst>
              <a:gd name="adj1" fmla="val 50000"/>
              <a:gd name="adj2" fmla="val 112313"/>
            </a:avLst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Oval 16"/>
          <p:cNvSpPr/>
          <p:nvPr/>
        </p:nvSpPr>
        <p:spPr>
          <a:xfrm>
            <a:off x="4859280" y="1700280"/>
            <a:ext cx="3889440" cy="72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西北明珠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AutoShape 17"/>
          <p:cNvSpPr/>
          <p:nvPr/>
        </p:nvSpPr>
        <p:spPr>
          <a:xfrm>
            <a:off x="900000" y="3284640"/>
            <a:ext cx="2170080" cy="676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细读课文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AutoShape 18"/>
          <p:cNvSpPr/>
          <p:nvPr/>
        </p:nvSpPr>
        <p:spPr>
          <a:xfrm>
            <a:off x="900000" y="4797360"/>
            <a:ext cx="2170080" cy="6764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总结全文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AutoShape 20"/>
          <p:cNvSpPr/>
          <p:nvPr/>
        </p:nvSpPr>
        <p:spPr>
          <a:xfrm>
            <a:off x="3276720" y="3429000"/>
            <a:ext cx="1296720" cy="289080"/>
          </a:xfrm>
          <a:prstGeom prst="rightArrow">
            <a:avLst>
              <a:gd name="adj1" fmla="val 50000"/>
              <a:gd name="adj2" fmla="val 112142"/>
            </a:avLst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AutoShape 21"/>
          <p:cNvSpPr/>
          <p:nvPr/>
        </p:nvSpPr>
        <p:spPr>
          <a:xfrm>
            <a:off x="3348000" y="4941720"/>
            <a:ext cx="1297080" cy="289080"/>
          </a:xfrm>
          <a:prstGeom prst="rightArrow">
            <a:avLst>
              <a:gd name="adj1" fmla="val 50000"/>
              <a:gd name="adj2" fmla="val 112173"/>
            </a:avLst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Oval 22"/>
          <p:cNvSpPr/>
          <p:nvPr/>
        </p:nvSpPr>
        <p:spPr>
          <a:xfrm>
            <a:off x="4859280" y="3284640"/>
            <a:ext cx="3960720" cy="72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彩塑壁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Oval 23"/>
          <p:cNvSpPr/>
          <p:nvPr/>
        </p:nvSpPr>
        <p:spPr>
          <a:xfrm>
            <a:off x="4932360" y="4724280"/>
            <a:ext cx="3960720" cy="72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智慧结晶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5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8" name="Picture 4" descr="mg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3:37:19Z</dcterms:created>
  <dc:creator>第一PPT模板网-WWW.1PPT.COM</dc:creator>
  <dc:description/>
  <dc:language>en-US</dc:language>
  <cp:lastModifiedBy>Administrator</cp:lastModifiedBy>
  <dcterms:modified xsi:type="dcterms:W3CDTF">2016-06-13T13:31:16Z</dcterms:modified>
  <cp:revision>107</cp:revision>
  <dc:subject/>
  <dc:title>PowerPoint 演示文稿</dc:title>
</cp:coreProperties>
</file>