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lick.wav" ContentType="audio/x-wav"/>
  <Override PartName="/ppt/media/image2.png" ContentType="image/png"/>
  <Override PartName="/ppt/media/whoosh.wav" ContentType="audio/x-wav"/>
  <Override PartName="/ppt/media/image3.gif" ContentType="image/gif"/>
  <Override PartName="/ppt/media/image7.png" ContentType="image/png"/>
  <Override PartName="/ppt/media/%E6%96%87%E4%BD%93%E4%BD%9C%E8%80%85%E9%85%8D%E9%9F%B3.wav" ContentType="audio/x-wav"/>
  <Override PartName="/ppt/media/image6.jpeg" ContentType="image/jpeg"/>
  <Override PartName="/ppt/media/image8.png" ContentType="image/png"/>
  <Override PartName="/ppt/media/TYPE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A40D-5B68-46B4-8BA4-6DD23E7449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师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尽其用，人尽其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人才实现自身价值所企盼的理想境界。但在很多时候，特别是古代封建社会，很多人才常哀叹怀才不遇、生不逢时。其实这除了人才自身才华素质，还需要外部的条件，如机遇等。而当中我们又通常把善于发掘人才的人称作什么呢？对，伯乐。而唐代的韩愈在《马说》一文当中就探讨过上面这个话题。今天我就来一起学习这篇《马说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者、背景介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韩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公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退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唐代文学家、思想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河南河阳（今河南孟县）人，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唐宋八大家之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著有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昌黎先生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下面我们来了解一下这篇文章的创作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（《左迁至蓝关示侄孙湘》：一封朝奏九重天，夕贬潮州路八千。欲为圣明除弊事，肯将衰朽惜残年。云横秦岭家何在？雪拥蓝关马不前。知汝远来应有意，好收吾骨瘴江边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篇《马说》大约作于贞元十一年至十六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9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课文通篇不离千里马，难道韩愈写这篇文章就是为了说“马”吗？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师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文章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里马比喻人才，而伯乐则是比作能赏识人才的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圣明的君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合背景来看——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借千里马的被埋没，揭露封建统治者不识人才，埋没摧残人才的现象，也表达作者怀才不遇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愤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文采用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托物寓意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写法。文章论述的是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识别人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问题，但通篇没有一句话直接提到人才。对封建社会中统治者有眼不识英雄和人才埋没的现象，则分别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策之不以其道，食之不能尽其材，鸣之而不能通其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祗辱干奴隶人之手，骈死于槽枥之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了形象的概括，寄寓了作者很深的感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本文中韩愈借伯乐与千里马的故事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阐述“人才”的问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E6F-9A1A-4652-83A1-B85AAFC5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5CD-7A04-4AC8-AEF0-B12E33E6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716-C237-4460-9764-75AB7520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1F8-EC90-47A9-BF7E-7FDCB962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ACB-E53C-4C09-8826-4DF3F85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18C-E286-452D-8162-F7217325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3C0-8462-4697-B7FA-9CC909BA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B38-8CFE-4071-BEBE-8485E584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BF0-BDD9-4D39-ACFF-88F03060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091-FA23-4F37-9AE1-0B6262DC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F99-009A-47DB-8949-6664AE0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087-725E-42EE-9C98-C3A81816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655C-2A48-490E-99E1-55713EAF4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8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&#25991;&#20307;&#20316;&#32773;&#37197;&#38899;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457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马     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22860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韩  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3672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第一段末“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781000"/>
            <a:ext cx="81360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第二段末“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第三段末“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02320" y="1916280"/>
            <a:ext cx="37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露出无限痛惜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53920" y="39337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问，有愤怒、谴责的强烈语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30080" y="59500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有痛切，又有对无知的饲马者的嘲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9000"/>
            <a:ext cx="6264360" cy="79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点一：“也”字的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260280"/>
            <a:ext cx="468144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点二：否定的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844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马也，虽有千里之能，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饱，力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，才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见，且欲与常马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得，安求其能千里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789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策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其道，食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尽其材，鸣之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通其意，执策而临之，曰：“天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e5ac"/>
            </a:gs>
            <a:gs pos="50000">
              <a:srgbClr val="ffebfa"/>
            </a:gs>
            <a:gs pos="100000">
              <a:srgbClr val="79e5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3962520"/>
            <a:ext cx="899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里马——人才（被埋没摧残、怀才不遇明主的人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伯 乐——识才之人（让人发挥作用的封建统治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马者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愚妄浅薄、不识人才的统治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380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文通篇不离千里马，难道只是说“马”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是。借千里马难遇伯乐，最终被埋没，对埋没人才的现状作了揭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9810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本文通过描写千里马的遭遇，表达作者怎样的思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819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作者怀才不遇，有志难酬的愤慨心情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29000"/>
            <a:ext cx="77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伯乐”“千里马”“食马者”各比喻了什么样的人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620640"/>
            <a:ext cx="8137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之千里者，一食或尽粟一石。食马者不知其能千里而食也。是马也，虽有千里之能，食不饱，力不足，才美不外见，且欲与常马等不可得，安求其能千里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策之不以其道，食之不能尽其材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执策而临之，曰：“天下无马！”呜呼！其真无马耶？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在上文横线上填上确切的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从上文中找出能概括文章主旨的句子</a:t>
            </a:r>
            <a:r>
              <a:rPr b="0" lang="zh-CN" sz="2400" spc="-1" strike="noStrike">
                <a:solidFill>
                  <a:srgbClr val="993366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从上文的阅读中，围绕发现人才和使用人才的问题，简要说说你的想法。（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年湖州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2421000"/>
            <a:ext cx="27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鸣之而不能通其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91520" y="3141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其真不知马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69520" y="5373720"/>
            <a:ext cx="38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评分标准：有正确的思想和独到的见解，可以给满分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76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768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71280" y="2397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中考试题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528600" y="4214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其真不知马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762120" y="457200"/>
            <a:ext cx="8381520" cy="5826240"/>
            <a:chOff x="762120" y="457200"/>
            <a:chExt cx="8381520" cy="582624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6987240" y="5381280"/>
              <a:ext cx="951480" cy="9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"/>
            <p:cNvGrpSpPr/>
            <p:nvPr/>
          </p:nvGrpSpPr>
          <p:grpSpPr>
            <a:xfrm>
              <a:off x="762120" y="457200"/>
              <a:ext cx="8381520" cy="1000080"/>
              <a:chOff x="762120" y="457200"/>
              <a:chExt cx="8381520" cy="100008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032120" y="559800"/>
                <a:ext cx="661320" cy="451080"/>
                <a:chOff x="1032120" y="559800"/>
                <a:chExt cx="661320" cy="4510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032120" y="55980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88160" y="55980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147320" y="960840"/>
                <a:ext cx="686520" cy="451080"/>
                <a:chOff x="1147320" y="960840"/>
                <a:chExt cx="686520" cy="4510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147320" y="96084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490400" y="96084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762120" y="89136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52880" y="45720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1055880" y="1238040"/>
                <a:ext cx="808776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876680" y="52956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29400" y="183312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914400" y="990720"/>
            <a:ext cx="7391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马之千里者，一食或尽粟一石。食马者不知其能千里而食也。是马也，虽有千里之能，食不饱，力不足，才美不外见，且欲与常马等不可得，安求其能千里也？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策之不以其道，食之不能尽其材，鸣之而不能通其意，执策而临之，曰：“天下无马！”呜呼！</a:t>
            </a:r>
            <a:r>
              <a:rPr b="1" lang="zh-CN" sz="2800" spc="-1" strike="noStrike" u="sng">
                <a:solidFill>
                  <a:srgbClr val="993366"/>
                </a:solidFill>
                <a:uFillTx/>
                <a:latin typeface="楷体_GB2312"/>
                <a:ea typeface="楷体_GB2312"/>
              </a:rPr>
              <a:t>其真无马耶？其真不知马也</a:t>
            </a:r>
            <a:r>
              <a:rPr b="1" lang="zh-CN" sz="28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。 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年嘉兴市、舟山市、丽水市、台州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768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76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71280" y="223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中考试题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30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3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04920" y="228600"/>
            <a:ext cx="8381520" cy="5826240"/>
            <a:chOff x="304920" y="228600"/>
            <a:chExt cx="8381520" cy="582624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6530040" y="5152680"/>
              <a:ext cx="951480" cy="9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"/>
            <p:cNvGrpSpPr/>
            <p:nvPr/>
          </p:nvGrpSpPr>
          <p:grpSpPr>
            <a:xfrm>
              <a:off x="304920" y="228600"/>
              <a:ext cx="8381520" cy="1000080"/>
              <a:chOff x="304920" y="228600"/>
              <a:chExt cx="8381520" cy="100008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574920" y="331200"/>
                <a:ext cx="661320" cy="451080"/>
                <a:chOff x="574920" y="331200"/>
                <a:chExt cx="661320" cy="4510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74920" y="33120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930960" y="33120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90120" y="732240"/>
                <a:ext cx="686520" cy="451080"/>
                <a:chOff x="690120" y="732240"/>
                <a:chExt cx="686520" cy="451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90120" y="73224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033200" y="73224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304920" y="66276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5680" y="22860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98680" y="1009440"/>
                <a:ext cx="808776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419480" y="30096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2200" y="160452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915920" y="1195560"/>
            <a:ext cx="325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解释下列加线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A.</a:t>
            </a:r>
            <a:r>
              <a:rPr b="1" lang="zh-CN" sz="24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食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马者不知其能千里而食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B.</a:t>
            </a:r>
            <a:r>
              <a:rPr b="1" lang="zh-CN" sz="24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策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之不以其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C.</a:t>
            </a:r>
            <a:r>
              <a:rPr b="1" lang="zh-CN" sz="24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安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求其能千里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一食</a:t>
            </a:r>
            <a:r>
              <a:rPr b="1" lang="zh-CN" sz="24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或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尽粟一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用现代汉语翻译文中划线的句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3366"/>
                </a:solidFill>
                <a:uFillTx/>
                <a:latin typeface="楷体_GB2312"/>
                <a:ea typeface="楷体_GB2312"/>
              </a:rPr>
              <a:t>其真无马耶？其真不知马也</a:t>
            </a:r>
            <a:r>
              <a:rPr b="1" lang="zh-CN" sz="24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本文表达了作者怎样的思想感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8440" y="380988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难道真的没有千里马吗？其实是他不识千里马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31040" y="4495680"/>
            <a:ext cx="553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作者借千里马被埋没，抒发了自己怀才不遇的愤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表达了对封建统治者埋没人才的强烈不满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02280" y="1523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通“饲”，喂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5080" y="1905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用鞭子打，鞭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8924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怎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1292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有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47240" y="712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中考试题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9836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84360" y="765000"/>
            <a:ext cx="5959440" cy="6018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209680" y="914400"/>
            <a:ext cx="4267440" cy="13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马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705720" y="2971800"/>
            <a:ext cx="9144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韩愈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62120" y="692280"/>
            <a:ext cx="8381520" cy="5825520"/>
            <a:chOff x="762120" y="692280"/>
            <a:chExt cx="8381520" cy="582552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987240" y="5616000"/>
              <a:ext cx="951480" cy="90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762120" y="692280"/>
              <a:ext cx="8381520" cy="1000080"/>
              <a:chOff x="762120" y="692280"/>
              <a:chExt cx="8381520" cy="100008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1032120" y="794880"/>
                <a:ext cx="661320" cy="451080"/>
                <a:chOff x="1032120" y="794880"/>
                <a:chExt cx="661320" cy="4510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032120" y="79488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88160" y="79488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147320" y="1195920"/>
                <a:ext cx="686520" cy="451080"/>
                <a:chOff x="1147320" y="1195920"/>
                <a:chExt cx="686520" cy="45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47320" y="119592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490400" y="119592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762120" y="112644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52880" y="69228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1055880" y="1473120"/>
                <a:ext cx="808776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1876680" y="76464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29400" y="206784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68360" y="1773360"/>
            <a:ext cx="83059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5246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文鼎齿轮体"/>
              </a:rPr>
              <a:t>韩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68——8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字退之，河阳（现在河南孟州）人，唐代散文家、诗人，散文尤其著名，有“文起八代之衰”的美誉，与柳宗元同为“古文运动”倡导者，是“唐宋八大家”之首。自谓郡望（郡里的显贵家族）昌黎，世称韩昌黎，谥号“文”，又称韩文公，官至吏部侍郎，故又称韩吏部。作品都收在《昌黎先生集》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59200" y="547560"/>
            <a:ext cx="341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96%87%E4%BD%93%E4%BD%9C%E8%80%85%E9%85%8D%E9%9F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彩云"/>
              </a:rPr>
              <a:t>《马说》解题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：是古代的一种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托物寓意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议论体裁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说”就是“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谈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的意思，比“论”随便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马说”这个标题，是后来人加的。从字面上可以解作“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说说千里马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或“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说说千里马的题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篇文章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以马为喻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谈的是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人才问题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44448" t="0" r="14283" b="13638"/>
          <a:stretch/>
        </p:blipFill>
        <p:spPr>
          <a:xfrm>
            <a:off x="6896160" y="2362320"/>
            <a:ext cx="224784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69343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楷体_GB2312"/>
              </a:rPr>
              <a:t>这篇《马说》大约作于贞元十一年至十六年间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唐时期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楷体_GB2312"/>
              </a:rPr>
              <a:t>）。这时，韩愈</a:t>
            </a: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楷体_GB2312"/>
              </a:rPr>
              <a:t>初登仕途，很不得志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楷体_GB2312"/>
              </a:rPr>
              <a:t>。他曾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细黑"/>
                <a:ea typeface="楷体_GB2312"/>
              </a:rPr>
              <a:t>三次上书宰相希望得到重用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楷体_GB2312"/>
              </a:rPr>
              <a:t>。很可惜有“忧天下之心”的他，终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细黑"/>
                <a:ea typeface="楷体_GB2312"/>
              </a:rPr>
              <a:t>未被采纳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楷体_GB2312"/>
              </a:rPr>
              <a:t>。后来又相继依附于一些节度使幕下，</a:t>
            </a:r>
            <a:r>
              <a:rPr b="1" lang="zh-CN" sz="3600" spc="-1" strike="noStrike">
                <a:solidFill>
                  <a:srgbClr val="ff0000"/>
                </a:solidFill>
                <a:latin typeface="华文细黑"/>
                <a:ea typeface="楷体_GB2312"/>
              </a:rPr>
              <a:t>郁郁不得志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楷体_GB2312"/>
              </a:rPr>
              <a:t>，再加上当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藩镇割据，宦官专权，朋党之争激烈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细黑"/>
                <a:ea typeface="楷体_GB2312"/>
              </a:rPr>
              <a:t>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细黑"/>
                <a:ea typeface="楷体_GB2312"/>
              </a:rPr>
              <a:t>有才能之士不受重视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楷体_GB2312"/>
              </a:rPr>
              <a:t>，所以他有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细黑"/>
                <a:ea typeface="楷体_GB2312"/>
              </a:rPr>
              <a:t>伯乐不常有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楷体_GB2312"/>
              </a:rPr>
              <a:t>”之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2286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ián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槽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áolì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zhǐ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ù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h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ì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jiù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iàn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yé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d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395280" y="1125360"/>
            <a:ext cx="8152920" cy="3504960"/>
            <a:chOff x="395280" y="1125360"/>
            <a:chExt cx="8152920" cy="3504960"/>
          </a:xfrm>
        </p:grpSpPr>
        <p:sp>
          <p:nvSpPr>
            <p:cNvPr id="78" name=""/>
            <p:cNvSpPr/>
            <p:nvPr/>
          </p:nvSpPr>
          <p:spPr>
            <a:xfrm>
              <a:off x="395280" y="1125360"/>
              <a:ext cx="8152920" cy="3504960"/>
            </a:xfrm>
            <a:prstGeom prst="downArrowCallout">
              <a:avLst>
                <a:gd name="adj1" fmla="val -52138"/>
                <a:gd name="adj2" fmla="val 5815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fefeda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托物寓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94720" y="3382560"/>
              <a:ext cx="244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  <a:ea typeface="华文新魏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124000" y="1413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里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148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206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伯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2133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识人才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724280"/>
            <a:ext cx="6480000" cy="5205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efe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借千里马难遇伯乐，终被埋没，揭露封建统治者不识人才，埋没摧残人才的现象，也表达作者怀才不遇的愤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132000" y="549360"/>
            <a:ext cx="28083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马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6" name=""/>
          <p:cNvSpPr/>
          <p:nvPr/>
        </p:nvSpPr>
        <p:spPr>
          <a:xfrm>
            <a:off x="2372040" y="2708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马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15560" y="2781360"/>
            <a:ext cx="315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愚妄浅薄、不识人才的统治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2997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000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56000" y="4221000"/>
            <a:ext cx="2898720" cy="11912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指出千里马被埋没的原因食马者不知其能千里而食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2520" y="426960"/>
            <a:ext cx="8381520" cy="5826240"/>
            <a:chOff x="452520" y="426960"/>
            <a:chExt cx="8381520" cy="58262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6677640" y="5351040"/>
              <a:ext cx="951480" cy="9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452520" y="426960"/>
              <a:ext cx="8381520" cy="1000080"/>
              <a:chOff x="452520" y="426960"/>
              <a:chExt cx="8381520" cy="10000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722520" y="529560"/>
                <a:ext cx="661320" cy="451080"/>
                <a:chOff x="722520" y="529560"/>
                <a:chExt cx="661320" cy="4510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22520" y="52956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78560" y="52956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837720" y="930600"/>
                <a:ext cx="686520" cy="451080"/>
                <a:chOff x="837720" y="930600"/>
                <a:chExt cx="686520" cy="4510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37720" y="93060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180800" y="93060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452520" y="86112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43280" y="42696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746280" y="1207800"/>
                <a:ext cx="808776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567080" y="49932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19800" y="180288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401840" y="172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6880" y="2103840"/>
            <a:ext cx="7290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一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86080" y="1477800"/>
            <a:ext cx="2273040" cy="14104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提出论点</a:t>
            </a: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世有伯乐</a:t>
            </a: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然后有千里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86160" y="2003400"/>
            <a:ext cx="976320" cy="485640"/>
          </a:xfrm>
          <a:prstGeom prst="rightArrow">
            <a:avLst>
              <a:gd name="adj1" fmla="val 43139"/>
              <a:gd name="adj2" fmla="val 738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92720" y="1479600"/>
            <a:ext cx="1452600" cy="13737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正面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里马常有，而伯乐不常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83120" y="2023920"/>
            <a:ext cx="976320" cy="486000"/>
          </a:xfrm>
          <a:prstGeom prst="rightArrow">
            <a:avLst>
              <a:gd name="adj1" fmla="val 43139"/>
              <a:gd name="adj2" fmla="val 738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04080" y="1449360"/>
            <a:ext cx="1479600" cy="15570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反面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故虽有名马…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不以千里称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9320" y="3849840"/>
            <a:ext cx="7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二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16000" y="4405320"/>
            <a:ext cx="1220760" cy="459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进一步从反面论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42120" y="2444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课文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36920" y="4570560"/>
            <a:ext cx="976320" cy="485640"/>
          </a:xfrm>
          <a:prstGeom prst="rightArrow">
            <a:avLst>
              <a:gd name="adj1" fmla="val 43139"/>
              <a:gd name="adj2" fmla="val 738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452520" y="426960"/>
            <a:ext cx="8381520" cy="5826240"/>
            <a:chOff x="452520" y="426960"/>
            <a:chExt cx="8381520" cy="582624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6677640" y="5351040"/>
              <a:ext cx="951480" cy="9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452520" y="426960"/>
              <a:ext cx="8381520" cy="1000080"/>
              <a:chOff x="452520" y="426960"/>
              <a:chExt cx="8381520" cy="10000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722520" y="529560"/>
                <a:ext cx="661320" cy="451080"/>
                <a:chOff x="722520" y="529560"/>
                <a:chExt cx="661320" cy="4510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22520" y="52956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078560" y="52956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837720" y="930600"/>
                <a:ext cx="686520" cy="451080"/>
                <a:chOff x="837720" y="930600"/>
                <a:chExt cx="686520" cy="4510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37720" y="93060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180800" y="93060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452520" y="86112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43280" y="42696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746280" y="1207800"/>
                <a:ext cx="808776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567080" y="49932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19800" y="180288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143160" y="244440"/>
            <a:ext cx="36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课文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9160" y="1521000"/>
            <a:ext cx="6987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三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0240" y="1562040"/>
            <a:ext cx="949320" cy="7520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痛斥执策者的愚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51440" y="1554120"/>
            <a:ext cx="1215720" cy="10810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勾画执策者狂妄无知的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02320" y="1488960"/>
            <a:ext cx="1470240" cy="9709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作者厉声反诘执策者，表达中心：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真不知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3440" y="3205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归纳全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71920" y="3760920"/>
            <a:ext cx="5373360" cy="459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全文共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51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字，写法灵活，讲究文采，言辞华丽，是一篇寓言式杂文，借伯乐和千里马为喻，对在位者的不能识别人才，表达了强烈的愤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27520" y="2068560"/>
            <a:ext cx="976320" cy="485640"/>
          </a:xfrm>
          <a:prstGeom prst="rightArrow">
            <a:avLst>
              <a:gd name="adj1" fmla="val 43139"/>
              <a:gd name="adj2" fmla="val 738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23040" y="1987560"/>
            <a:ext cx="976320" cy="485640"/>
          </a:xfrm>
          <a:prstGeom prst="rightArrow">
            <a:avLst>
              <a:gd name="adj1" fmla="val 43139"/>
              <a:gd name="adj2" fmla="val 738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32:45Z</dcterms:created>
  <dc:creator>Legend User</dc:creator>
  <dc:description/>
  <dc:language>en-US</dc:language>
  <cp:lastModifiedBy>littleplume</cp:lastModifiedBy>
  <dcterms:modified xsi:type="dcterms:W3CDTF">2008-03-05T12:32:25Z</dcterms:modified>
  <cp:revision>10</cp:revision>
  <dc:subject/>
  <dc:title>幻灯片 1</dc:title>
</cp:coreProperties>
</file>