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AE78-4DC9-4430-9E08-8D38980518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4B4-1498-4A9E-AC98-C950160B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863-584F-48EA-A155-B388240E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C51-3359-495F-849C-3E462DDC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CD6-DB37-40B0-B55A-66D1EAE1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0065-50AB-4D03-9FA5-A9073F00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7A35-2C9E-4257-B260-881754F2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790B-56DF-4A46-9F8F-63975BD8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A9C6-96B7-4C75-A464-95CF45CA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CD07-1A01-4F1C-833C-7952D8A4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CCEE-2491-4733-B885-55FD0AF8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534E-0F01-43A5-A29D-FE642ED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DA0-522F-444C-BBA4-B00A6F07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EED7-ACA3-4090-AD07-A075EA67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0447-DB03-46A3-A1F9-1D8763A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6BF5-3F7E-442E-8F65-DC47B7C4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01DC-A25A-4413-BBEB-9A3EBFFA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8CE0-042A-47C0-9444-572728AB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0343-B266-4699-945D-817545F0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DCF2-C277-487B-90DE-35186C7F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9CB2-1F4F-4626-8EE1-71A4744C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39A7-2863-4B1D-8B74-33DA262F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4193-102B-40A3-A4B2-DC028255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655-71E8-4BE4-9ACC-5EA2FDC0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99FB-D9E8-4809-A242-59C9E38D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4E30-76A6-41F1-BC60-BC33EB1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10801-4F5F-4109-999B-6EB69D2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91EC-28F4-447F-94E8-967D2337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F354-8702-4E45-8EC9-A3822E4E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5DEA-DFAA-40BD-A9F4-092C4AEA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A9D5-EBA0-4659-B6B9-9F9B6B55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2C530-47B9-4CD5-B4BD-E27D40B1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889D-73B7-4170-97E0-D51D218C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D6A2-9587-4255-8E4D-C6A333E2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C35-049E-4A4A-80FC-275637F8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409B-8F37-40C5-AAD6-61B17B9D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BF4C-2067-42EF-8969-2A2FDC05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4480-C02F-4D91-AA6E-5155A187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48F57-F7EA-4EAD-B247-20D5DD5C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B1CA3-ED60-47A7-A25A-158F75D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E5B5-E522-46FA-B8BB-8D0C4907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BF08-DF32-4D02-BE31-34D80C1D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E642-5A82-445A-A258-84DCF759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30407-F389-44F8-90B8-81D0CCC3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5B5-4D09-4FD8-ACB7-CCC419C3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708-791B-4404-AC87-3681704E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464-9682-4D46-B865-32423B5D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C9A-484A-4A79-88CB-1D0A53E3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4D6-E3F7-45EA-A1BD-54FF4829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28B1-8382-43B2-A834-6CDBD28BC18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F195-DCAB-400C-84B3-732A68CAAC6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FBA8-2BA7-4015-9514-3A5D253A966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8E4C-DC72-44AA-8747-BB118C37397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6948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陆羽与《茶经》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743280" y="4005360"/>
            <a:ext cx="5400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语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S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版六年级下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33240" y="363960"/>
            <a:ext cx="7882920" cy="10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读课文，思考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66280" y="2420640"/>
            <a:ext cx="8001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文章是从什么话题开始谈到了陆羽的？文中写了他的哪几件事？哪些段落写到了茶经？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（辨别江水——撰写茶经——推广茶艺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读第一自然段，思考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8001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这段话中，哪些语句概括地介绍了陆羽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句话在文中起什么作用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读</a:t>
            </a: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2——8</a:t>
            </a: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自然段，思考：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这里讲了一个怎样的故事？文中哪些语句具体表现了陆羽精通茶艺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（舀水、掂水、倒水等一系列动作，刻画出他栩栩如生的神奇形象。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读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9—11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自然段，思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2349360"/>
            <a:ext cx="80010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陆羽拒绝做官，潜心撰写《茶经》，有怎样的经历？认真阅读课文，你从中体会到什么？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读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12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自然段，思考：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2707920"/>
            <a:ext cx="8001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陆羽推广茶艺产生了哪些影响？从哪些句子可以看出，说明了什么？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691920"/>
            <a:ext cx="8001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  <a:ea typeface="楷体_GB2312"/>
              </a:rPr>
              <a:t>练习扩展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890720"/>
            <a:ext cx="896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陆羽为什么被后人称为“茶圣”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先比较，再选字填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煎  滔   （ ）水    波浪（ ）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坑 吭    （ ）道    不（ ）声  不（）人            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文中有三处用了“不仅…而且”这样的句式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把它们找出来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指出它们在文中的作用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课文为什么用《陆羽与〈茶经〉》做题目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02:33:21Z</dcterms:created>
  <dc:creator/>
  <dc:description/>
  <dc:language>en-US</dc:language>
  <cp:lastModifiedBy>wzm66</cp:lastModifiedBy>
  <dcterms:modified xsi:type="dcterms:W3CDTF">2009-04-26T12:55:52Z</dcterms:modified>
  <cp:revision>7</cp:revision>
  <dc:subject/>
  <dc:title>22.陆羽与《茶经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1000000000001024120</vt:lpwstr>
  </property>
</Properties>
</file>