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CAMERA.WAV" ContentType="audio/x-wav"/>
  <Override PartName="/ppt/media/LASER.WAV" ContentType="audio/x-wav"/>
  <Override PartName="/ppt/media/image5.png" ContentType="image/png"/>
  <Override PartName="/ppt/media/image4.png" ContentType="image/png"/>
  <Override PartName="/ppt/media/image6.png" ContentType="image/png"/>
  <Override PartName="/ppt/media/TYPE.WAV" ContentType="audio/x-wav"/>
  <Override PartName="/ppt/media/WHOOSH.WAV" ContentType="audio/x-wav"/>
  <Override PartName="/ppt/media/DRIVEBY.WAV" ContentType="audio/x-wav"/>
  <Override PartName="/ppt/media/image7.png" ContentType="image/png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084-6CE5-4B7A-B574-0B08E1BF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970-72D4-47FA-98EA-AF0C342A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3AA-4694-4003-AB78-23EA482D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B1C-7847-4B78-89AC-FA0FE8DF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7C4-70F2-4CB1-BF05-762BA22E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B3C-860F-4E9E-8CEC-A4F37D94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4D5-1E2A-4C4E-B669-814298CB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883-50ED-4A25-B266-4DDB6FCD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3E7-963E-4676-9740-D55AC44E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DC1-67CE-4B56-B486-E8134DB7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429-37B9-4A09-B1C0-CBC85EBE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C6A-4DFB-424A-8ED5-6A623C1C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7D1E-27EC-4994-BE88-1EBB5E94D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6480"/>
            <a:ext cx="9144000" cy="683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9"/>
          <p:cNvGraphicFramePr/>
          <p:nvPr/>
        </p:nvGraphicFramePr>
        <p:xfrm>
          <a:off x="5110200" y="5842080"/>
          <a:ext cx="523800" cy="1041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0200" y="5842080"/>
                    <a:ext cx="5238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jpeg"/><Relationship Id="rId17" Type="http://schemas.openxmlformats.org/officeDocument/2006/relationships/slide" Target="slide5.xml"/><Relationship Id="rId18" Type="http://schemas.openxmlformats.org/officeDocument/2006/relationships/slide" Target="slide8.xml"/><Relationship Id="rId19" Type="http://schemas.openxmlformats.org/officeDocument/2006/relationships/slide" Target="slide1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slide8.xml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2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图片 2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3"/>
          <p:cNvSpPr txBox="1"/>
          <p:nvPr/>
        </p:nvSpPr>
        <p:spPr>
          <a:xfrm>
            <a:off x="792000" y="1628640"/>
            <a:ext cx="7452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隶书"/>
              </a:rPr>
              <a:t>狼牙山五壮士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0" dir="0" blurRad="0" rotWithShape="0">
                  <a:srgbClr val="00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7" name="AutoShape 5">
            <a:hlinkClick r:id="" action="ppaction://hlinkshowjump?jump=nextslide"/>
          </p:cNvPr>
          <p:cNvSpPr/>
          <p:nvPr/>
        </p:nvSpPr>
        <p:spPr>
          <a:xfrm>
            <a:off x="114300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狼牙山简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7">
            <a:hlinkClick r:id="rId17" action="ppaction://hlinksldjump"/>
          </p:cNvPr>
          <p:cNvSpPr/>
          <p:nvPr/>
        </p:nvSpPr>
        <p:spPr>
          <a:xfrm>
            <a:off x="312408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历史背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8">
            <a:hlinkClick r:id="rId18" action="ppaction://hlinksldjump"/>
          </p:cNvPr>
          <p:cNvSpPr/>
          <p:nvPr/>
        </p:nvSpPr>
        <p:spPr>
          <a:xfrm>
            <a:off x="5105520" y="6172200"/>
            <a:ext cx="144756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课文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">
            <a:hlinkClick r:id="rId19" action="ppaction://hlinksldjump"/>
          </p:cNvPr>
          <p:cNvSpPr/>
          <p:nvPr/>
        </p:nvSpPr>
        <p:spPr>
          <a:xfrm>
            <a:off x="7162920" y="6172200"/>
            <a:ext cx="137160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英雄五壮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7200" y="921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为了不让敌人发现群众和连队主力，班长马宝玉斩钉截铁地说了一声‘走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!’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带头向棋盘陀走去。战士们热血沸腾，紧跟在班长后面。他们知道班长要把敌人引上绝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99072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、“热血沸腾”是一种什么样的情绪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990720" y="3276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、战士们在班长做出决定之后，为什么会热血沸腾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990720" y="4572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、战士们是怎么知道班长要把敌人引上绝路的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7238880" y="6095880"/>
            <a:ext cx="1576440" cy="609840"/>
          </a:xfrm>
          <a:custGeom>
            <a:avLst/>
            <a:gdLst>
              <a:gd name="textAreaLeft" fmla="*/ 39240 w 1576440"/>
              <a:gd name="textAreaRight" fmla="*/ 1537200 w 1576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5816" h="21600">
                <a:moveTo>
                  <a:pt x="0" y="0"/>
                </a:moveTo>
                <a:lnTo>
                  <a:pt x="55816" y="0"/>
                </a:lnTo>
                <a:lnTo>
                  <a:pt x="55816" y="21600"/>
                </a:lnTo>
                <a:lnTo>
                  <a:pt x="0" y="21600"/>
                </a:lnTo>
                <a:close/>
              </a:path>
              <a:path fill="lightenLess" w="55816" h="21600">
                <a:moveTo>
                  <a:pt x="0" y="0"/>
                </a:moveTo>
                <a:lnTo>
                  <a:pt x="55816" y="0"/>
                </a:lnTo>
                <a:lnTo>
                  <a:pt x="54416" y="1400"/>
                </a:lnTo>
                <a:lnTo>
                  <a:pt x="1400" y="1400"/>
                </a:lnTo>
                <a:close/>
              </a:path>
              <a:path fill="darken" w="55816" h="21600">
                <a:moveTo>
                  <a:pt x="55816" y="0"/>
                </a:moveTo>
                <a:lnTo>
                  <a:pt x="55816" y="21600"/>
                </a:lnTo>
                <a:lnTo>
                  <a:pt x="54416" y="20200"/>
                </a:lnTo>
                <a:lnTo>
                  <a:pt x="54416" y="1400"/>
                </a:lnTo>
                <a:close/>
              </a:path>
              <a:path fill="darkenLess" w="55816" h="21600">
                <a:moveTo>
                  <a:pt x="55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16" y="20200"/>
                </a:lnTo>
                <a:close/>
              </a:path>
              <a:path fill="lighten" w="55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16" h="21600">
                <a:moveTo>
                  <a:pt x="31407" y="10800"/>
                </a:moveTo>
                <a:lnTo>
                  <a:pt x="20901" y="17806"/>
                </a:lnTo>
                <a:lnTo>
                  <a:pt x="20901" y="3794"/>
                </a:lnTo>
                <a:close/>
              </a:path>
              <a:path fill="darken" w="55816" h="21600">
                <a:moveTo>
                  <a:pt x="33252" y="3794"/>
                </a:moveTo>
                <a:lnTo>
                  <a:pt x="33252" y="17806"/>
                </a:lnTo>
                <a:lnTo>
                  <a:pt x="34914" y="17806"/>
                </a:lnTo>
                <a:lnTo>
                  <a:pt x="34914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26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85" name="WordArt 1027"/>
          <p:cNvSpPr txBox="1"/>
          <p:nvPr/>
        </p:nvSpPr>
        <p:spPr>
          <a:xfrm>
            <a:off x="1447920" y="914400"/>
            <a:ext cx="6019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狼牙山五壮士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Rectangle 1028"/>
          <p:cNvSpPr/>
          <p:nvPr/>
        </p:nvSpPr>
        <p:spPr>
          <a:xfrm>
            <a:off x="2726280" y="281952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巍巍燕山高，潇潇易水寒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英雄五壮士，威震狼牙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1029"/>
          <p:cNvSpPr/>
          <p:nvPr/>
        </p:nvSpPr>
        <p:spPr>
          <a:xfrm>
            <a:off x="114300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狼牙山简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030"/>
          <p:cNvSpPr/>
          <p:nvPr/>
        </p:nvSpPr>
        <p:spPr>
          <a:xfrm>
            <a:off x="312408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历史背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31"/>
          <p:cNvSpPr/>
          <p:nvPr/>
        </p:nvSpPr>
        <p:spPr>
          <a:xfrm>
            <a:off x="5105520" y="6172200"/>
            <a:ext cx="144756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课文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32"/>
          <p:cNvSpPr/>
          <p:nvPr/>
        </p:nvSpPr>
        <p:spPr>
          <a:xfrm>
            <a:off x="7162920" y="6172200"/>
            <a:ext cx="137160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英雄五壮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2497680" y="251460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巍巍燕山高，潇潇易水寒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英雄五壮士，威震狼牙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26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28"/>
          <p:cNvSpPr/>
          <p:nvPr/>
        </p:nvSpPr>
        <p:spPr>
          <a:xfrm>
            <a:off x="990720" y="198108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日军攻上棋盘陀以后，指挥官下令全体日军立定敬礼，向宁死不降的狼牙山五壮士致敬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80880" y="53352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马宝玉（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920—194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年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蔚县下元皂村人，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937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年参加八路军，两年后入党。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94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年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月在易县狼牙山为掩护主力部队和人民群众安全转移，他带领全班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名战士（时任班长）奋勇杀敌，同数千日军巧妙周旋一整天，将敌人引上绝路，胜利完成阻击掩护任务，宁死不屈，毅然跳崖牺牲，年仅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57200" y="660240"/>
            <a:ext cx="8381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狼牙山壮士宋学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河南沁阳市北孔村人。在狼牙山阻击战中，和另外四名英勇的红军战士一起牵制了日军主力，保证了大部队安全转移，是著名的“狼牙山五壮士”之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26"/>
          <p:cNvSpPr/>
          <p:nvPr/>
        </p:nvSpPr>
        <p:spPr>
          <a:xfrm>
            <a:off x="1798200" y="1066680"/>
            <a:ext cx="5641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胡德林、胡福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河北容县人，他们是叔侄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系，胡德林是叔叔，胡福才是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828720" y="152280"/>
            <a:ext cx="823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葛振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１９１７年８月生于河北曲阳，１９３８年参加八路军。１９４１年９月２５日，在河北省易县狼牙山阻击日军战斗中，弹药耗尽后，宁死不当俘虏，随班长马宝玉和其他三位战友奋勇跳下悬崖，仅葛振林因挂在悬崖树枝上而得以生还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066680" y="167652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八路军晋察冀军区授予马宝玉、胡德林、胡福才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烈士“模范荣誉战士”称号，授予葛振称、宋学义“勇敢顽强”奖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723960" y="12222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在五勇士坚守的棋盘坨主峰顶建立了纪念塔，塔为五角形，共五层，高十余米，塔真正面有聂荣臻手书的“狼牙山五勇士纪念塔”九个红色大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676520" y="1676520"/>
            <a:ext cx="603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西郊山色郁苍茫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载酒曾过易水阳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壁耸青宵屏隐现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峰开紫电剑光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814120" y="236232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风萧萧兮易水寒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壮士一去兮不复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1295280" y="129528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中国人民为有这样的英雄儿女而骄傲，巍巍狼牙山，滔滔易水河，是中华民族不可战胜的见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7238880" y="6248520"/>
            <a:ext cx="1576440" cy="609480"/>
          </a:xfrm>
          <a:custGeom>
            <a:avLst/>
            <a:gdLst>
              <a:gd name="textAreaLeft" fmla="*/ 39240 w 1576440"/>
              <a:gd name="textAreaRight" fmla="*/ 1537200 w 1576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5849" h="21600">
                <a:moveTo>
                  <a:pt x="0" y="0"/>
                </a:moveTo>
                <a:lnTo>
                  <a:pt x="55849" y="0"/>
                </a:lnTo>
                <a:lnTo>
                  <a:pt x="55849" y="21600"/>
                </a:lnTo>
                <a:lnTo>
                  <a:pt x="0" y="21600"/>
                </a:lnTo>
                <a:close/>
              </a:path>
              <a:path fill="lightenLess" w="55849" h="21600">
                <a:moveTo>
                  <a:pt x="0" y="0"/>
                </a:moveTo>
                <a:lnTo>
                  <a:pt x="55849" y="0"/>
                </a:lnTo>
                <a:lnTo>
                  <a:pt x="54449" y="1400"/>
                </a:lnTo>
                <a:lnTo>
                  <a:pt x="1400" y="1400"/>
                </a:lnTo>
                <a:close/>
              </a:path>
              <a:path fill="darken" w="55849" h="21600">
                <a:moveTo>
                  <a:pt x="55849" y="0"/>
                </a:moveTo>
                <a:lnTo>
                  <a:pt x="55849" y="21600"/>
                </a:lnTo>
                <a:lnTo>
                  <a:pt x="54449" y="20200"/>
                </a:lnTo>
                <a:lnTo>
                  <a:pt x="54449" y="1400"/>
                </a:lnTo>
                <a:close/>
              </a:path>
              <a:path fill="darkenLess" w="55849" h="21600">
                <a:moveTo>
                  <a:pt x="55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49" y="20200"/>
                </a:lnTo>
                <a:close/>
              </a:path>
              <a:path fill="lighten" w="55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49" h="21600">
                <a:moveTo>
                  <a:pt x="31423" y="10800"/>
                </a:moveTo>
                <a:lnTo>
                  <a:pt x="20918" y="17806"/>
                </a:lnTo>
                <a:lnTo>
                  <a:pt x="20918" y="3794"/>
                </a:lnTo>
                <a:close/>
              </a:path>
              <a:path fill="darken" w="55849" h="21600">
                <a:moveTo>
                  <a:pt x="33269" y="3794"/>
                </a:moveTo>
                <a:lnTo>
                  <a:pt x="33269" y="17806"/>
                </a:lnTo>
                <a:lnTo>
                  <a:pt x="34931" y="17806"/>
                </a:lnTo>
                <a:lnTo>
                  <a:pt x="34931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3"/>
          <p:cNvSpPr txBox="1"/>
          <p:nvPr/>
        </p:nvSpPr>
        <p:spPr>
          <a:xfrm>
            <a:off x="1447920" y="914400"/>
            <a:ext cx="6019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狼牙山五壮士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726280" y="281952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巍巍燕山高，潇潇易水寒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英雄五壮士，威震狼牙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14300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狼牙山简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312408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历史背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5105520" y="6172200"/>
            <a:ext cx="144756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课文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7162920" y="6172200"/>
            <a:ext cx="137160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英雄五壮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071800" y="328608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易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downy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66760" y="47628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66ff99"/>
                </a:solidFill>
                <a:latin typeface="Times New Roman"/>
              </a:rPr>
              <a:t>狼牙山东西、东南各长１５公里，面积为２２５平方公里。环山共有五坨３６峰，主峰莲花瓣海拔１１０５米，西、北两面均为峭壁悬崖，山势险峻。东、南两面稍缓，各有一条羊肠小路通向主峰，“闫王鼻子”、“小鬼脸”等险要之处非贴壁不可逾越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>
            <a:hlinkClick r:id="rId2" action="ppaction://hlinksldjump"/>
          </p:cNvPr>
          <p:cNvSpPr/>
          <p:nvPr/>
        </p:nvSpPr>
        <p:spPr>
          <a:xfrm>
            <a:off x="7238880" y="6248520"/>
            <a:ext cx="1576440" cy="609480"/>
          </a:xfrm>
          <a:custGeom>
            <a:avLst/>
            <a:gdLst>
              <a:gd name="textAreaLeft" fmla="*/ 39240 w 1576440"/>
              <a:gd name="textAreaRight" fmla="*/ 1537200 w 1576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5849" h="21600">
                <a:moveTo>
                  <a:pt x="0" y="0"/>
                </a:moveTo>
                <a:lnTo>
                  <a:pt x="55849" y="0"/>
                </a:lnTo>
                <a:lnTo>
                  <a:pt x="55849" y="21600"/>
                </a:lnTo>
                <a:lnTo>
                  <a:pt x="0" y="21600"/>
                </a:lnTo>
                <a:close/>
              </a:path>
              <a:path fill="lightenLess" w="55849" h="21600">
                <a:moveTo>
                  <a:pt x="0" y="0"/>
                </a:moveTo>
                <a:lnTo>
                  <a:pt x="55849" y="0"/>
                </a:lnTo>
                <a:lnTo>
                  <a:pt x="54449" y="1400"/>
                </a:lnTo>
                <a:lnTo>
                  <a:pt x="1400" y="1400"/>
                </a:lnTo>
                <a:close/>
              </a:path>
              <a:path fill="darken" w="55849" h="21600">
                <a:moveTo>
                  <a:pt x="55849" y="0"/>
                </a:moveTo>
                <a:lnTo>
                  <a:pt x="55849" y="21600"/>
                </a:lnTo>
                <a:lnTo>
                  <a:pt x="54449" y="20200"/>
                </a:lnTo>
                <a:lnTo>
                  <a:pt x="54449" y="1400"/>
                </a:lnTo>
                <a:close/>
              </a:path>
              <a:path fill="darkenLess" w="55849" h="21600">
                <a:moveTo>
                  <a:pt x="55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49" y="20200"/>
                </a:lnTo>
                <a:close/>
              </a:path>
              <a:path fill="lighten" w="55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49" h="21600">
                <a:moveTo>
                  <a:pt x="31423" y="10800"/>
                </a:moveTo>
                <a:lnTo>
                  <a:pt x="20918" y="17806"/>
                </a:lnTo>
                <a:lnTo>
                  <a:pt x="20918" y="3794"/>
                </a:lnTo>
                <a:close/>
              </a:path>
              <a:path fill="darken" w="55849" h="21600">
                <a:moveTo>
                  <a:pt x="33269" y="3794"/>
                </a:moveTo>
                <a:lnTo>
                  <a:pt x="33269" y="17806"/>
                </a:lnTo>
                <a:lnTo>
                  <a:pt x="34931" y="17806"/>
                </a:lnTo>
                <a:lnTo>
                  <a:pt x="34931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57" name="WordArt 3"/>
          <p:cNvSpPr txBox="1"/>
          <p:nvPr/>
        </p:nvSpPr>
        <p:spPr>
          <a:xfrm>
            <a:off x="1447920" y="914400"/>
            <a:ext cx="6019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狼牙山五壮士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726280" y="281952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巍巍燕山高，潇潇易水寒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英雄五壮士，威震狼牙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>
            <a:hlinkClick r:id="rId4" action="ppaction://hlinksldjump"/>
          </p:cNvPr>
          <p:cNvSpPr/>
          <p:nvPr/>
        </p:nvSpPr>
        <p:spPr>
          <a:xfrm>
            <a:off x="114300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狼牙山简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>
            <a:hlinkClick r:id="rId5" action="ppaction://hlinksldjump"/>
          </p:cNvPr>
          <p:cNvSpPr/>
          <p:nvPr/>
        </p:nvSpPr>
        <p:spPr>
          <a:xfrm>
            <a:off x="312408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历史背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>
            <a:hlinkClick r:id="rId6" action="ppaction://hlinksldjump"/>
          </p:cNvPr>
          <p:cNvSpPr/>
          <p:nvPr/>
        </p:nvSpPr>
        <p:spPr>
          <a:xfrm>
            <a:off x="5105520" y="6172200"/>
            <a:ext cx="144756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课文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>
            <a:hlinkClick r:id="rId7" action="ppaction://hlinksldjump"/>
          </p:cNvPr>
          <p:cNvSpPr/>
          <p:nvPr/>
        </p:nvSpPr>
        <p:spPr>
          <a:xfrm>
            <a:off x="7162920" y="6172200"/>
            <a:ext cx="137160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英雄五壮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6"/>
          <p:cNvSpPr/>
          <p:nvPr/>
        </p:nvSpPr>
        <p:spPr>
          <a:xfrm>
            <a:off x="5791320" y="2209680"/>
            <a:ext cx="99036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80880" y="228600"/>
            <a:ext cx="8839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日本侵略军为了扑灭中国共产党领导下的抗日武装力量，对抗日根据地进行了疯狂的扫荡。对根据地人民的屠杀非常凶残。例如，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943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月，日军对晋察冀边区北县区进行了三个月的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"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秋季大扫荡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"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，仅三个月的时间，日军残杀我人民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6674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人，烧房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54779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间，抢掠与焚毁粮食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934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万斤，抢走耕畜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9300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余头，毁农具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72600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余件，使北岳人民受到了严重损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">
            <a:hlinkClick r:id="rId1" action="ppaction://hlinksldjump"/>
          </p:cNvPr>
          <p:cNvSpPr/>
          <p:nvPr/>
        </p:nvSpPr>
        <p:spPr>
          <a:xfrm>
            <a:off x="7238880" y="6095880"/>
            <a:ext cx="1576440" cy="609840"/>
          </a:xfrm>
          <a:custGeom>
            <a:avLst/>
            <a:gdLst>
              <a:gd name="textAreaLeft" fmla="*/ 39240 w 1576440"/>
              <a:gd name="textAreaRight" fmla="*/ 1537200 w 1576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5816" h="21600">
                <a:moveTo>
                  <a:pt x="0" y="0"/>
                </a:moveTo>
                <a:lnTo>
                  <a:pt x="55816" y="0"/>
                </a:lnTo>
                <a:lnTo>
                  <a:pt x="55816" y="21600"/>
                </a:lnTo>
                <a:lnTo>
                  <a:pt x="0" y="21600"/>
                </a:lnTo>
                <a:close/>
              </a:path>
              <a:path fill="lightenLess" w="55816" h="21600">
                <a:moveTo>
                  <a:pt x="0" y="0"/>
                </a:moveTo>
                <a:lnTo>
                  <a:pt x="55816" y="0"/>
                </a:lnTo>
                <a:lnTo>
                  <a:pt x="54416" y="1400"/>
                </a:lnTo>
                <a:lnTo>
                  <a:pt x="1400" y="1400"/>
                </a:lnTo>
                <a:close/>
              </a:path>
              <a:path fill="darken" w="55816" h="21600">
                <a:moveTo>
                  <a:pt x="55816" y="0"/>
                </a:moveTo>
                <a:lnTo>
                  <a:pt x="55816" y="21600"/>
                </a:lnTo>
                <a:lnTo>
                  <a:pt x="54416" y="20200"/>
                </a:lnTo>
                <a:lnTo>
                  <a:pt x="54416" y="1400"/>
                </a:lnTo>
                <a:close/>
              </a:path>
              <a:path fill="darkenLess" w="55816" h="21600">
                <a:moveTo>
                  <a:pt x="55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16" y="20200"/>
                </a:lnTo>
                <a:close/>
              </a:path>
              <a:path fill="lighten" w="55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16" h="21600">
                <a:moveTo>
                  <a:pt x="31407" y="10800"/>
                </a:moveTo>
                <a:lnTo>
                  <a:pt x="20901" y="17806"/>
                </a:lnTo>
                <a:lnTo>
                  <a:pt x="20901" y="3794"/>
                </a:lnTo>
                <a:close/>
              </a:path>
              <a:path fill="darken" w="55816" h="21600">
                <a:moveTo>
                  <a:pt x="33252" y="3794"/>
                </a:moveTo>
                <a:lnTo>
                  <a:pt x="33252" y="17806"/>
                </a:lnTo>
                <a:lnTo>
                  <a:pt x="34914" y="17806"/>
                </a:lnTo>
                <a:lnTo>
                  <a:pt x="34914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8" name="WordArt 3"/>
          <p:cNvSpPr txBox="1"/>
          <p:nvPr/>
        </p:nvSpPr>
        <p:spPr>
          <a:xfrm>
            <a:off x="1447920" y="914400"/>
            <a:ext cx="6019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狼牙山五壮士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726280" y="281952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巍巍燕山高，潇潇易水寒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英雄五壮士，威震狼牙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>
            <a:hlinkClick r:id="rId4" action="ppaction://hlinksldjump"/>
          </p:cNvPr>
          <p:cNvSpPr/>
          <p:nvPr/>
        </p:nvSpPr>
        <p:spPr>
          <a:xfrm>
            <a:off x="114300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狼牙山简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">
            <a:hlinkClick r:id="rId5" action="ppaction://hlinksldjump"/>
          </p:cNvPr>
          <p:cNvSpPr/>
          <p:nvPr/>
        </p:nvSpPr>
        <p:spPr>
          <a:xfrm>
            <a:off x="312408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历史背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>
            <a:hlinkClick r:id="rId6" action="ppaction://hlinksldjump"/>
          </p:cNvPr>
          <p:cNvSpPr/>
          <p:nvPr/>
        </p:nvSpPr>
        <p:spPr>
          <a:xfrm>
            <a:off x="5105520" y="6172200"/>
            <a:ext cx="144756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课文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7162920" y="6172200"/>
            <a:ext cx="1371600" cy="45720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英雄五壮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533520" y="6415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狼牙山五壮士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这个题目告诉了我们什么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17680" y="2089080"/>
            <a:ext cx="908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为什么不叫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狼牙山五战士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?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这个“壮”字是什么意思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17680" y="3689280"/>
            <a:ext cx="839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什么样的战士才能称得上壮士呢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219320" y="3808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同一个任务，课文里为什么说两次胜利完成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71600" y="18288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五位战士虽然安全了，但是连队和群众的安全并没有得到完全的保证。正是基于这一点，五位战士才毅然地放弃了追赶大部队的做法，冒着生命的危险，把敌人引上绝路。五位战士对路线的重新选择，实际上是为群众和连队选择了生；为自己选择了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12:30:39Z</dcterms:created>
  <dc:creator>第一PPT模板网-WWW.1PPT.COM</dc:creator>
  <dc:description>第一PPT模板网-WWW.1PPT.COM
</dc:description>
  <dc:language>en-US</dc:language>
  <cp:lastModifiedBy>Administrator</cp:lastModifiedBy>
  <dcterms:modified xsi:type="dcterms:W3CDTF">2016-07-05T02:53:35Z</dcterms:modified>
  <cp:revision>39</cp:revision>
  <dc:subject/>
  <dc:title>第一PPT模板网-WWW.1PPT.COM</dc:title>
</cp:coreProperties>
</file>