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0DB-30B6-485A-8E94-D151B65C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50D-633C-4619-98AE-55F62B02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578D0-6D8F-4BF6-898A-F24C23E7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14CC1-4E38-4356-BAE3-6606B0E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3F74B-1A2B-4D0C-AF49-28D8A7A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349A1-9F21-40FC-BDB0-A8051DC5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82FC0-56C9-4A7D-8765-12504EE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22786-359C-4C57-8625-E02FFB31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76342-5798-46F7-A587-73430B28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5539A-2DE0-41EE-9744-87D8D4D5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91534-3A67-4EBC-9194-A166967C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4AA4A-1CE8-4340-A63E-8CF7D0BA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AC3-D1E7-4143-9961-DD7C16A6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BC19B-2604-4DB6-83CD-19BE245C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660BA-3429-473F-9A00-6AAF2309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E6055-E34C-4F31-BBBB-CFD565B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32B00-052E-4582-AFB6-34F189E7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9E220-7ADF-484C-8E48-ECD97D83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6581E-1EA9-4DD8-A9C5-BF88B52D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EC520-6B56-4A40-96F6-8AB3F30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E4343-BC26-4400-B0BD-4030D166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EA02E-7AD4-4D19-B112-7DABB412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1558C-6263-4515-B46B-65227A52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8C5-4F3D-4A69-B27F-F42E11AE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23895-6D14-4D66-83DB-2C980C32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5C148-2855-4D6E-A8CD-B5716ED6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EDE06-16E8-4D7D-B834-68BFBCD2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186F8-1185-438C-8668-0DA5156A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3180C-1B1F-431F-869F-3CC9023D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76B9B-8C9F-4044-A628-86C2C54F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F4D82-D350-49F7-A7E5-99BBF4CA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3D896-9D81-499B-B3D2-F9D1BE83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C1FDD-3A9D-428D-A79B-8358E732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46FDB-2026-4832-BC4A-3223C89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DB14-0342-402A-97DD-8AE3EBF8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D2960-EB81-4EC6-81D8-6BA38430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29EED-5544-47D9-8AFC-C828E17B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659C5-D25C-4BE1-96AF-0ECB6288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25DCE-99CD-4FD5-89E3-A0B287CA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2F135-198C-4B30-91AE-8A9331B5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B70A5-A123-4D2E-B669-32C3BF7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0EC6A-979D-4F5A-B57A-4CD9F516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86BCF-B3E1-470F-9D38-745AE503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FC108-61B1-444D-9FA2-AFF22ABB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EC1D5-E97C-401D-95E2-F54F9B2C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7648-8F3B-4360-A251-90E5F0FF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90EF9-687D-42FF-8E42-F4453FE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D4E56-15B6-4BEE-957B-D368E92D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79B2A-4A47-4BC9-B455-AE29D277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908E5-9A50-4E4A-B5A5-087278F6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018FA-E7A3-4324-A8E1-5CB9F56A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47C5B-3B1D-44E5-A99A-151DEDA0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B9A1C-6C41-4A5B-AD5B-299BF583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20DE5-C386-42B6-AA98-713B17F4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9A6D0-A631-4C19-B2DA-F490E846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7D68C-9AE8-4448-92D0-EDCF7978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7283-B168-4AE3-8E3E-370BB5C9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867DE-9A31-44FE-B3B7-8CDEAE16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F14BA-BF33-4DDD-8775-C8BFF79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A7BDC-7FC9-4ACF-BA8A-D61A1B6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B2F0B-C166-48B4-A541-7E9F99A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0E85B-D21A-4321-9503-21A35F3C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F58A4-4072-4F9B-9A53-3A73FD72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AF18E-3F0F-4074-B8C5-BB7A913E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3089-9940-45BA-A28B-F57CF6EF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F5E2-26B9-44DA-B042-EDE682CB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E265-CC20-4D68-971C-4A730D91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7D2D-CCEF-499B-B53D-C92CB3A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922-8DD8-42ED-858F-28783E48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837F-48B0-41D1-9566-ED5C669D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EF15-DD57-4594-A640-253EB62C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AABA-5E71-4996-9F0F-FF767D4B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4EC8-0B56-48F4-BA09-AE8124F8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6560-57C5-4FCE-9973-660C1037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942F-A1BE-4135-A0D7-BA57EEC8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0790-9CCF-4AA1-ADAA-9047FEF7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7555-94FA-4CC0-B0FA-FFE5014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5089-C670-4D3A-AA2B-F88896F7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538A-6A24-4AE7-8C55-84DA085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D9C-200C-4B1B-A42C-7C93A357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5A02-C3B3-4121-88AA-FE99FF66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C110-E0C1-41D8-93B4-65AE415E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AB28-D7F7-4EAD-848F-3CD6F3F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2B8C-E224-4619-ACD2-42B4A72C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F0A6-5DA2-4287-9102-E67C1D83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E4B4-6224-4A12-BD26-D69BC016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5A70-AB71-4E98-BB5E-C5F4A5C1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C913E-F977-4985-9CB0-EBC191AB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0342-C7BA-49DA-9C13-D5FCF6C3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8658-8F12-45F8-AE6B-A1B24815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223-DA4D-48BB-9FC1-514A691C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0445-C1C0-4BF3-95D7-00C93B06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ABA9-D2B7-4FF3-B181-87D1EFF9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0045-FF81-435F-A290-F3FB208E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9ED3-0FE3-4E77-A22D-1DD83E4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45B3-9164-45C6-AFA2-394E8D1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BF182-8250-401D-A6EC-B0091556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7B4D-B5FA-479E-9CCC-2DA802CC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B87B-D121-4B63-806B-4A5F004F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3CA0-E71A-4876-A61E-B7722885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6775-A8E4-41C0-B77A-72E7ACDD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DC9-BD0A-48AB-AD87-92E1D09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3D0B9-2DDB-4DBC-B12E-A5C53BF5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82611-5820-412D-AA1D-401167BF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3E60-3253-40D2-BC16-B92971EB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3511-F354-4506-A5F1-B28A8422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CB790-4023-4F51-822E-9E31EA66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F63FB-6B7D-482B-93DB-5E5CCDB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8479-EC7F-4391-97EF-5114CE65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94D4-C854-4DD9-AE53-42134755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1DEC-EF54-4E10-9916-0902CAD7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5F76-A75C-4A00-AAE0-8C016F07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ECA-AC78-415D-9FA4-4BE928E3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0E0B2-E947-4F65-BF40-B5C0446B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24342-37AE-45F5-85CD-47A1D2E4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7737C-CAB0-43A0-904D-BDC2E69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1EE90-A7CC-4059-B1F2-CABFA383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4FEEF-EFAE-4E3E-BB3C-0FE43AD3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E2E1-9E81-4E8F-BFFD-56DEB831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12AB-4528-4DE5-8533-41DB01DB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F160C-202D-40B8-91DD-584097D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F93C-D2C8-4592-8FDC-C6245DA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6AF4-F6CF-4AD0-90C2-AB3BA547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395-EC0A-46FE-9550-A0C61B30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96B9E-BC97-4FD9-8881-85D5358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5A74E-403A-4A99-B9CC-6C00FD8F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E438-6742-4499-ABEE-89F95130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25E8E-4BE5-4AAE-97E9-8A68E381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5F449-5F4F-4702-BCE1-2CC48CB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7946-2FB1-41B7-BAF7-297D8B44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1736-2D13-49A9-9142-4F090269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E56A-CE25-4401-B443-6849048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2539-8A31-4140-8075-56995BCD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60082-60D2-4D1A-B42F-63734439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CF3-A233-4EB8-BDF2-DADA5062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283D7-3F30-4867-8639-847B070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4920-FFBD-41AA-B00D-F947D3B3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464BE-D6EF-4AB5-95CB-E188CCD8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E744-DFAA-4CC8-B908-1D139E81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87728-17CC-4ED1-B197-7AF9FB13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D040C-8BDF-4A39-A707-A6E9B907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1A5C1-399C-42BB-9355-DFFA628F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2C0F-878D-4E8C-BE2F-A46CF9D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FA290-CBE7-4A6D-B6B2-29E9D1F3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8695C-5F0C-4280-B182-6C758E86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549-506B-4BC0-8204-E1F827FA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5A1A0-1B29-4D20-B717-3EBE456F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7EB65-B3DA-4909-BAFB-59212E4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D0B19-24C9-45DC-9A0A-D17EFFA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CFDE5-A3B2-481F-8B52-B2EC92E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35040-25E2-4542-93B3-24180ABE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9539E-1976-4444-8250-0D465084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2834C-95A4-427C-8FDD-A35DF75B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8B095-070F-4744-BA89-DFA11096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C01C7-B4EE-4CC7-BAC2-F6CA58C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E0D14-39E2-47EB-9261-FD066689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051-589E-441D-A13D-1EC006B98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7CC-FB2B-46E4-B67D-624B9CFCB7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1C21-818F-45FD-A8D8-B57CDEE5DB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D43A-B4BC-4367-A05A-E4B3DB3658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43A8-2073-4547-B347-72C4A814CC3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1033-1D77-4F03-9D13-4A5D0C83A1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CA10-CD2F-46C7-82D6-D96BD8D5BE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D0E5-69EF-4FAD-A8E3-08D4EF66CA6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8999-EEC2-4E22-AAE3-A4C65E171D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BF1D-994C-439A-9217-A961754E09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E515-43E3-4E33-B424-8186B5DF93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EF0E-00EC-40E8-8B9C-175884B4E8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50A1-57FE-4CE1-9A2E-137FCC19C90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7"/>
          <p:cNvSpPr/>
          <p:nvPr/>
        </p:nvSpPr>
        <p:spPr>
          <a:xfrm>
            <a:off x="2411280" y="6021360"/>
            <a:ext cx="30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WordArt 2" descr=""/>
          <p:cNvPicPr/>
          <p:nvPr/>
        </p:nvPicPr>
        <p:blipFill>
          <a:blip r:embed="rId1"/>
          <a:stretch/>
        </p:blipFill>
        <p:spPr>
          <a:xfrm>
            <a:off x="826920" y="1552680"/>
            <a:ext cx="7015320" cy="3346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xin_2be2a29eb08911d7bb2700e04c3d26a6_DSP015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8"/>
                  <a:pt x="10800" y="1816"/>
                </a:cubicBezTo>
                <a:lnTo>
                  <a:pt x="10800" y="8968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2"/>
                  <a:pt x="10800" y="12600"/>
                </a:cubicBezTo>
                <a:lnTo>
                  <a:pt x="10800" y="19784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615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617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320 h 1904760"/>
                  <a:gd name="textAreaBottom" fmla="*/ 185544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320 h 1904760"/>
                  <a:gd name="textAreaBottom" fmla="*/ 185544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7723"/>
                    </a:lnTo>
                    <a:cubicBezTo>
                      <a:pt x="10800" y="8623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1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7827"/>
                    </a:lnTo>
                    <a:cubicBezTo>
                      <a:pt x="10800" y="8727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5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320 h 1905120"/>
                  <a:gd name="textAreaBottom" fmla="*/ 185580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10126"/>
                    </a:lnTo>
                    <a:cubicBezTo>
                      <a:pt x="10800" y="11026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4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320 h 1904760"/>
                  <a:gd name="textAreaBottom" fmla="*/ 185544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10300"/>
                    </a:lnTo>
                    <a:cubicBezTo>
                      <a:pt x="10800" y="11200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8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0zrbpuv1[1]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8-06-05T08:29:21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