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7.jpeg" ContentType="image/jpeg"/>
  <Override PartName="/ppt/media/image12.png" ContentType="image/png"/>
  <Override PartName="/ppt/media/image11.png" ContentType="image/png"/>
  <Override PartName="/ppt/media/image1.jpeg" ContentType="image/jpeg"/>
  <Override PartName="/ppt/media/image9.jpeg" ContentType="image/jpeg"/>
  <Override PartName="/ppt/media/image3.png" ContentType="image/png"/>
  <Override PartName="/ppt/media/chimes.wav" ContentType="audio/x-wav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applause.wav" ContentType="audio/x-wav"/>
  <Override PartName="/ppt/media/drumroll.wav" ContentType="audio/x-wav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215E-E3E8-4AE2-A93D-2F27C055B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22DF-551F-4A20-B0F6-0574D30D4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5BD881-BF79-48AD-842B-FFE3C692B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4593CB-B82E-416C-A53E-E9532FEC8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DB28FE-AAB8-49F5-A769-7148F4A8F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44E2E7-1D5D-46ED-8A48-CE3FC65F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7C587E-D7CD-4CBB-8C63-393A5005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9DFC32-01D7-4ECE-9F1D-855A5E0B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6CDF6F-7E9E-463F-86B4-F772D0C0A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BB47B9-D79C-4534-9E18-088E2FE7E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63B110-6512-46C3-B5DC-4F5EBEF07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DC84BA-D636-4648-84D4-5AA257D42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F67D-DECF-4361-8049-67655847B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B3513D-FD3C-4BE1-90E1-83E9478A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DFBB89-5A95-4124-BB38-F7BF8C801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C716F6-D9A1-492F-B5BA-092759C26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93E965-B67D-4B0B-B1FF-9DD06B55E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AA30E1-C95A-43BF-8B57-EE9E9F504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F818C2-689F-494F-8814-B024A49C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C340AB-F99F-475C-ABDF-7B938DAA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856244-8082-4D87-B0EA-4EA92752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A2EF21-1A92-4A49-B10F-D82A0EE7D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FCA2C0-2584-4CAD-BCD7-13046A77C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CC5C-560D-4BF9-80DA-8A673E0F7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D5B9A3-F5BC-4CC3-AD0B-9CE7A7ED6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02419F-DA72-46BE-A615-A77348289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137A83-EDD3-4339-BF5E-28EDA4F1D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3F22D5-1F7D-411D-9A27-D5338AC73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6E9056-F6E0-42A7-AE4C-3E7E32D3F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9578F1-04B0-4805-BA1B-156011480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7D0DC9-8267-47D4-9F98-1A8516932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F6742B-D08C-404B-A13B-1A178746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3C31CA-8CE0-4B4B-8A6B-1C13DAB7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D6A99C-21DF-4AEC-B92A-19A3F906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659C4-8B6A-4B5B-87B7-2A56D22D5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DA033E-D210-4EAD-97A8-C9DBDCB10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31116F-77C6-40E7-B8C9-0DDFF74AB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3F8D1C-871C-4BD3-8EDB-3B8006938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768DE0-C2BC-4927-98A9-781DF0F41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308B90-4C26-402F-B263-9F82F2152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CF8E37-C175-485C-921E-97B3B83A0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42E760-577F-491A-974D-DE78BF87E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9E4B8F-18E6-479E-BB7F-E60AEDB6F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BEC5A4-803A-4642-88F9-D1E2A10E6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CEBF8F-8262-425D-8498-3D6BDA27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53D4F-51B3-407A-9FEB-801237AAD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CF3E81-B4DF-4F53-BC76-1062E4BF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F2113A-8744-4177-B58D-A14FF315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4644AA-8E60-43A5-9FD0-262A70B45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686E1C-BE19-4D53-AD60-A41B0908D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673703-6846-499F-84A2-B7CECD277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928CA6-DC05-49A9-8D47-FBB0BBD5D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A8D612-C354-4C13-91F1-384DD3C24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DE19B1-122F-4369-AA74-C2090A4D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774B0F-E569-4B37-A028-38B575503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DB3001-0ECC-4784-81A5-F94542B61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06C35-6FDB-4815-A910-825AFBE57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E854DD-2DF5-47C4-91B1-40E278F51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A7B57C-506C-4AB4-AFDF-4E15A707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8E7552-EC25-403A-BD49-B73B1E52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475DE9-25CF-49DE-9A1B-73666D8C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F81F54-F0F8-4654-832B-F00E33787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7ABE2B-27FF-429B-9298-7B95B181B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068A82-1D41-4B1C-B613-4440C5AF1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AF6F99-831B-4D45-998A-E312583EA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A1B908-4635-463B-B0E2-41BB84C73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EDA837-2630-4CE0-AB54-7EDD22B79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78CFB-337D-4F3A-BEC3-5D2014176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64AD8E-A5D7-44CC-A239-DB0F57E58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5DD41D-4AE1-4CB8-80DC-0D2D0841A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9A4DBF-EDAA-4F30-B5B0-A6A64B21F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E4B004-6850-43F1-A8D1-C7A08F94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9106D0-352C-42F8-A74D-584E3149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D03D1C-0121-4315-915B-34257EE5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81B743-AAB0-4C1B-8F98-D50B3FCB3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F9844F-BE5A-4273-B74F-B0297E04F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627101-7A2A-4B24-80A2-460455BAB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82B2F-5F81-4174-9EC0-3233EE961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26020-AE8A-4593-8B8C-334AED61A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8C6A2-D279-4A60-856F-F672A1BD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2606-ED38-4C73-A378-4D3BAC473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0B726-B759-470D-B027-C4AF9580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C9663-3315-4E8B-A75B-83DE4720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6597C-DCED-49BD-B3F8-ADF178FBC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E61B1-1D90-4D9D-BF3D-3BBA64E87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97DCD-A5F2-4CDC-B4EF-A2F43EBA2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C568D-DE90-432F-AC36-56F1210A5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9AFF3-4A1A-4EFE-B710-6EDE18414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055B8-A906-4739-B344-5E49168B1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043BC-BCB7-4AA7-81C0-A28F3B26D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FC656-AA32-4058-9360-CC6B6922B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9C22-15EC-41EA-A594-372A041CD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EE983-9554-4AE9-AE9C-CEDA22485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40722-B7AC-4798-B311-C431877E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63CCD-1A54-4038-BEAB-1BD4251D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34C89-C42C-410E-B509-D5BFD4BD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99A49-EFE6-4EC0-BCB1-2FBBCA929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9969D-EAC0-4CD9-9B7A-73FD390CC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032A9-C78B-4214-A966-AC7835B3C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BBE17-DCF1-4B14-9F7B-ABF22671B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8EC22-0F7D-42B3-92E9-1544AB275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3B5AD-CFA4-4EFC-A81F-72982DC09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276B-8872-48DB-A683-BE1A74399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41FBE-FD69-49AA-86AA-FB7D0990D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CF542-9CA0-47BA-8ABA-4230EFAFC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27EDF-DE80-4CF0-A1CC-7DAF62C86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39CB8-5649-41A3-87F3-7110ADEB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6FA45-52EE-4C9A-AE05-4A58C7B3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75C00-4A8B-4177-944D-F838725D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DDEB7-98E7-4473-8C05-09FE96FA6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D3CB3-B372-42B7-9042-84FD5B1CF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4E130-77CE-4820-84F7-7594B708E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CE702-E92D-44B9-A0C7-B648B5653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2D32-876E-47AB-99EF-3909772DF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36B45-D6D2-4796-A61A-F050FB838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0A245-FC30-419C-A52C-E46883CE5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7EBDB-ABFE-4B54-9EB8-D14608675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32A2C-D4E4-4692-9675-2C963CC73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A0905-BCC8-4206-BA0E-5E95F7830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F18D3-D842-429C-BCDF-5073DDD4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06ACC-C647-4B92-845D-D3163EDB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E9655-B51C-4EB4-9ED1-1B3C528A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4EEED-5211-4450-A868-38ABF424E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63D7B-5782-4458-9FAC-174F4451D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B1A0-FC0D-4C93-BD94-598E257C1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50F56-020C-4F42-99C7-82D4D87B2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F6944-360A-41DC-842A-6B3619F4F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B3D10-92BE-4B1E-BE76-2EDB133BE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75AC9-DE2A-4327-9CC4-60F34B15B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2828A-992C-4C1A-A68F-62AA8B8FC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D852E-D29C-4A10-A797-4EF778D8B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368CA-F8D7-4C6C-B0AC-E43BB86C9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A30C7-17B1-4D59-AEDF-50955815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98C61-977E-4885-95C3-385E1A32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DE70C-86C6-405E-AC4A-267CE85A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11B8-0884-4FC2-8838-07F9BF55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60805-670E-4451-AC6B-9EBC5C1F6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9F525-62B9-4C9D-A9B5-D0702F268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0FBA8-7984-4001-9DC3-73A5E369A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53163-25D6-403E-A99A-59CEE3FF0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0CAC30-BE63-4A97-A1F7-EC8175984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9260F9-23DC-4451-8D83-DEE4258EF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C9A43-AB49-4EF3-A8B5-13385CB85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3F5A0F-E931-4E8F-85CD-6E4746976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F3E480-993F-4815-A77C-0F51C5E67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5E939-0B89-4E87-9D65-3F009594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37B8-3F76-4329-9AA6-8BA76F07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1B741-AF2E-45F3-B019-9716FCEB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EA2AB5-10FE-4DCA-BD3B-6D9501B2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B65D30-6A4F-4688-925B-3E0B7370A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A51D7C-34D9-433C-9291-3ED5FA1BB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4BC22-7A9D-42D6-A269-20FECD082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BAFEFA-CFB9-4F02-9C94-83874B018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638EDD-EF3A-4BFA-807E-DCEE1DC61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2EE0DF-9ABD-4034-AE99-C9EEAB5C5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AAC47C-21AC-4D01-B8A3-6D5CAEC2F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D9BF53-6447-4D29-A5A3-9956FB33A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48EB-1B88-48BC-8D27-532C27B6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293967-72BE-493D-84C2-54A4C9860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78417E-E5DE-4F9D-9146-4132C585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167250-F86D-45F0-BDE3-E33AA4FF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2D1FF7-0F9F-4EBA-93DE-26F71730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4DF021-8F94-4E17-98D0-4280100AE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D6EB1F-74B8-410F-8E7C-59000779C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4148E-5229-49AC-B28B-1E07CF5F0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7D6407-A1B3-4ACE-85EF-8D8FC7F0F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94965C-48F6-433B-8C15-786517F95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F834C5-3BB8-43D9-8A7A-3F1AE4E3B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54FE9-5C54-441A-BC3F-05C01EFC5F78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5D579-0922-4347-9044-464F35F7A5A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6FA66-2CB6-412B-86D2-5D80EA4B549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1F368-9096-4105-9557-297103889FA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1D90B-3E48-49EA-AF49-4DD79E3CD2B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329E9-DD8E-453D-A4DB-754868B3A82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A13F4-4FD2-40A0-9BAA-EDF90B8537A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89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8A18D-FFFA-4943-9593-FC7FCBB876CC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5DAA2-0F92-4337-A260-E0749D53395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16448-14F1-424F-A678-D03AF99ED8A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55ED1-84F1-4B77-AE12-D6DC7A7E485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40AE7-B49A-4C15-BCA0-D12F5897357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83E6D-A23E-44B1-8C4A-375DD70CF77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A72B4-D2C8-4E67-ADA6-C5283A24A32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word/" TargetMode="External"/><Relationship Id="rId12" Type="http://schemas.openxmlformats.org/officeDocument/2006/relationships/hyperlink" Target="http://www.1ppt.com/excel/" TargetMode="External"/><Relationship Id="rId13" Type="http://schemas.openxmlformats.org/officeDocument/2006/relationships/hyperlink" Target="http://www.1ppt.com/excel/" TargetMode="External"/><Relationship Id="rId14" Type="http://schemas.openxmlformats.org/officeDocument/2006/relationships/hyperlink" Target="http://www.1ppt.com/ziliao/" TargetMode="External"/><Relationship Id="rId15" Type="http://schemas.openxmlformats.org/officeDocument/2006/relationships/hyperlink" Target="http://www.1ppt.com/kejian/" TargetMode="External"/><Relationship Id="rId16" Type="http://schemas.openxmlformats.org/officeDocument/2006/relationships/hyperlink" Target="http://www.1ppt.com/fanwen/" TargetMode="External"/><Relationship Id="rId17" Type="http://schemas.openxmlformats.org/officeDocument/2006/relationships/hyperlink" Target="http://www.1ppt.com/fanwen/" TargetMode="External"/><Relationship Id="rId18" Type="http://schemas.openxmlformats.org/officeDocument/2006/relationships/hyperlink" Target="http://www.1ppt.com/shiti/" TargetMode="External"/><Relationship Id="rId19" Type="http://schemas.openxmlformats.org/officeDocument/2006/relationships/hyperlink" Target="http://www.1ppt.com/jiaoan/" TargetMode="External"/><Relationship Id="rId20" Type="http://schemas.openxmlformats.org/officeDocument/2006/relationships/image" Target="../media/image10.png"/><Relationship Id="rId21" Type="http://schemas.openxmlformats.org/officeDocument/2006/relationships/image" Target="../media/image11.png"/><Relationship Id="rId22" Type="http://schemas.openxmlformats.org/officeDocument/2006/relationships/image" Target="../media/image12.png"/><Relationship Id="rId2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applause.wav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WordArt 3"/>
          <p:cNvSpPr txBox="1"/>
          <p:nvPr/>
        </p:nvSpPr>
        <p:spPr>
          <a:xfrm>
            <a:off x="1476360" y="1125360"/>
            <a:ext cx="619128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18 </a:t>
            </a: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绿色蝈蝈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584" name="WordArt 4"/>
          <p:cNvSpPr txBox="1"/>
          <p:nvPr/>
        </p:nvSpPr>
        <p:spPr>
          <a:xfrm>
            <a:off x="3780000" y="4195800"/>
            <a:ext cx="3352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0">
                  <a:noFill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[</a:t>
            </a:r>
            <a:r>
              <a:rPr b="0" lang="zh-CN" sz="2400" spc="-1" strike="noStrike">
                <a:ln w="0">
                  <a:noFill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法国</a:t>
            </a:r>
            <a:r>
              <a:rPr b="0" lang="en-US" sz="2400" spc="-1" strike="noStrike">
                <a:ln w="0">
                  <a:noFill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]</a:t>
            </a:r>
            <a:r>
              <a:rPr b="0" lang="zh-CN" sz="2400" spc="-1" strike="noStrike">
                <a:ln w="0">
                  <a:noFill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法布尔</a:t>
            </a:r>
            <a:endParaRPr b="0" lang="en-US" sz="2400" spc="-1" strike="noStrike">
              <a:ln w="0">
                <a:noFill/>
              </a:ln>
              <a:solidFill>
                <a:srgbClr val="00008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85" name="矩形 6"/>
          <p:cNvSpPr/>
          <p:nvPr/>
        </p:nvSpPr>
        <p:spPr>
          <a:xfrm>
            <a:off x="2771640" y="6093000"/>
            <a:ext cx="309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WordArt 2"/>
          <p:cNvSpPr txBox="1"/>
          <p:nvPr/>
        </p:nvSpPr>
        <p:spPr>
          <a:xfrm>
            <a:off x="1619280" y="1916280"/>
            <a:ext cx="4968720" cy="32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cap="rnd" w="25560">
                  <a:solidFill>
                    <a:srgbClr val="00ffff"/>
                  </a:solidFill>
                  <a:custDash>
                    <a:ds d="100000" sp="1000"/>
                  </a:custDash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再见</a:t>
            </a:r>
            <a:endParaRPr b="0" lang="en-US" sz="4400" spc="1" strike="noStrike">
              <a:ln cap="rnd" w="25560">
                <a:solidFill>
                  <a:srgbClr val="00ffff"/>
                </a:solidFill>
                <a:custDash>
                  <a:ds d="100000" sp="1000"/>
                </a:custDash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6" dur="2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0" dur="2000" fill="hold"/>
                                        <p:tgtEl>
                                          <p:spTgt spid="6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矩形 4"/>
          <p:cNvSpPr/>
          <p:nvPr/>
        </p:nvSpPr>
        <p:spPr>
          <a:xfrm>
            <a:off x="1573200" y="4329000"/>
            <a:ext cx="64548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"/>
              </a:rPr>
              <a:t>www.1ppt.com/mob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行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www.1ppt.com/hangye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节日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www.1ppt.com/jier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素材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www.1ppt.com/sucai/</a:t>
            </a:r>
            <a:endParaRPr b="0" lang="en-US" sz="1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背景图片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www.1ppt.com/beijing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图表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www.1ppt.com/tub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优秀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7"/>
              </a:rPr>
              <a:t>www.1ppt.com/xiaza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8"/>
              </a:rPr>
              <a:t>www.1ppt.com/powerpoint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9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ord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0"/>
              </a:rPr>
              <a:t>www.1ppt.com/word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1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Excel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2"/>
              </a:rPr>
              <a:t>www.1ppt.com/excel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3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资料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4"/>
              </a:rPr>
              <a:t>www.1ppt.com/zil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课件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5"/>
              </a:rPr>
              <a:t>www.1ppt.com/keji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范文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6"/>
              </a:rPr>
              <a:t>www.1ppt.com/fanwen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7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试卷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8"/>
              </a:rPr>
              <a:t>www.1ppt.com/shit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案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9"/>
              </a:rPr>
              <a:t>www.1ppt.com/jiao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7" name="Rectangle 17"/>
          <p:cNvSpPr/>
          <p:nvPr/>
        </p:nvSpPr>
        <p:spPr>
          <a:xfrm>
            <a:off x="0" y="2709720"/>
            <a:ext cx="9144000" cy="136692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628" name="图片 9" descr=""/>
          <p:cNvPicPr/>
          <p:nvPr/>
        </p:nvPicPr>
        <p:blipFill>
          <a:blip r:embed="rId20"/>
          <a:stretch/>
        </p:blipFill>
        <p:spPr>
          <a:xfrm>
            <a:off x="1652760" y="349200"/>
            <a:ext cx="5581440" cy="1943280"/>
          </a:xfrm>
          <a:prstGeom prst="rect">
            <a:avLst/>
          </a:prstGeom>
          <a:ln w="0">
            <a:noFill/>
          </a:ln>
        </p:spPr>
      </p:pic>
      <p:sp>
        <p:nvSpPr>
          <p:cNvPr id="629" name="Rectangle 3"/>
          <p:cNvSpPr/>
          <p:nvPr/>
        </p:nvSpPr>
        <p:spPr>
          <a:xfrm>
            <a:off x="468360" y="2809800"/>
            <a:ext cx="4103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以在下列情况使用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0" name="Rectangle 4"/>
          <p:cNvSpPr/>
          <p:nvPr/>
        </p:nvSpPr>
        <p:spPr>
          <a:xfrm>
            <a:off x="4572000" y="2809800"/>
            <a:ext cx="410364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631" name="Picture 10" descr="png-0644"/>
          <p:cNvPicPr/>
          <p:nvPr/>
        </p:nvPicPr>
        <p:blipFill>
          <a:blip r:embed="rId21"/>
          <a:stretch/>
        </p:blipFill>
        <p:spPr>
          <a:xfrm>
            <a:off x="2916360" y="2809800"/>
            <a:ext cx="393480" cy="39384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11" descr="png-0652"/>
          <p:cNvPicPr/>
          <p:nvPr/>
        </p:nvPicPr>
        <p:blipFill>
          <a:blip r:embed="rId22"/>
          <a:stretch/>
        </p:blipFill>
        <p:spPr>
          <a:xfrm>
            <a:off x="7234200" y="2809800"/>
            <a:ext cx="3938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3"/>
          <p:cNvSpPr/>
          <p:nvPr/>
        </p:nvSpPr>
        <p:spPr>
          <a:xfrm>
            <a:off x="228600" y="304920"/>
            <a:ext cx="8686800" cy="25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黑体"/>
              </a:rPr>
              <a:t>一、法布尔与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黑体"/>
              </a:rPr>
              <a:t>《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黑体"/>
              </a:rPr>
              <a:t>昆虫记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黑体"/>
              </a:rPr>
              <a:t>》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823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年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2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月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2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日，法布尔生于法国南部一农民家中。童年时代就迷上了户外大自然中的花草虫鸟。在他不足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9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岁时就立志研究昆虫。后来靠自学获得了自然科学硕士、博士学位。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880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年他用积攒的一小笔钱，在乡间小镇塞里尼昂附近购得一处坐落在荒地上的老旧民宅，进一步研究活虫子的计划即变成了现实。他精神舒畅，用当地普罗斯旺语给这处居所取了个风趣的雅号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荒石园。年复一年，他守着心爱的荒园，开足生命的马力，不知疲倦地从事独具特色的昆虫学研究，把劳动成果写进一卷又一卷的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《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昆虫记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》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。他就是这样，孤独、欢欣、清苦、平静地度过了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35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余生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《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昆虫记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》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主体内容集中在昆虫学问题上，同时收入一些讲述经历、回忆往事的传记性文章，若干解决理论问题的议论，以及少量带科普知识性的文字。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910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年法布尔在全十卷精装本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《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昆虫记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》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的出版序言中说：“非常遗憾，如今我被迫中断了这些研究。要知道从事这些研究是我一生得到的惟一仅有的安慰。阅尽大千世界，自知虫类是其最多姿多彩者中之一群。即使能让我再获得些许气力，甚至有可能再获得几次长寿人生，我也做不到彻底认清虫类的益趣。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915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年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1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月的一天，这位以昆虫为琴拨响人类命运颤音的巨人逝世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 Box 3"/>
          <p:cNvSpPr/>
          <p:nvPr/>
        </p:nvSpPr>
        <p:spPr>
          <a:xfrm>
            <a:off x="838080" y="1341360"/>
            <a:ext cx="769644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二、快速阅读课文，理解课文内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、绿色蝈蝈的外表有哪些特征？绿色蝈蝈有哪些习性？作者主要写了哪个方面的习性？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、作者不断变换对绿色蝈蝈的称呼，找出这些称呼，说说作者在什么情况下用什么称呼，这样写有什么效果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、课文多处运用拟人手法，找出几个例子，说说这样写的好处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88" name="Text Box 4"/>
          <p:cNvSpPr/>
          <p:nvPr/>
        </p:nvSpPr>
        <p:spPr>
          <a:xfrm>
            <a:off x="1143000" y="28656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矩形 9"/>
          <p:cNvSpPr/>
          <p:nvPr/>
        </p:nvSpPr>
        <p:spPr>
          <a:xfrm>
            <a:off x="5219640" y="184464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Times New Roman"/>
              </a:rPr>
              <a:t>二、快速阅读课文，理解课文内容</a:t>
            </a:r>
            <a:br>
              <a:rPr sz="3600"/>
            </a:b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41911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、绿色蝈蝈的外表有哪些特征？绿色蝈蝈有哪些习性？作者主要写了哪个方面的习性？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592" name="Picture 4" descr="蝈蝈图"/>
          <p:cNvPicPr/>
          <p:nvPr/>
        </p:nvPicPr>
        <p:blipFill>
          <a:blip r:embed="rId1"/>
          <a:stretch/>
        </p:blipFill>
        <p:spPr>
          <a:xfrm>
            <a:off x="4495680" y="1523880"/>
            <a:ext cx="4419720" cy="4876920"/>
          </a:xfrm>
          <a:prstGeom prst="rect">
            <a:avLst/>
          </a:prstGeom>
          <a:ln w="0">
            <a:noFill/>
          </a:ln>
        </p:spPr>
      </p:pic>
      <p:sp>
        <p:nvSpPr>
          <p:cNvPr id="593" name="Text Box 5"/>
          <p:cNvSpPr/>
          <p:nvPr/>
        </p:nvSpPr>
        <p:spPr>
          <a:xfrm>
            <a:off x="228600" y="2819520"/>
            <a:ext cx="426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外表特征：这种昆虫非常漂亮，浑身嫩绿，侧面有两条淡白色的丝带，身材优美、苗条、匀称，两片大翼轻盈如纱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4" name="Text Box 6"/>
          <p:cNvSpPr/>
          <p:nvPr/>
        </p:nvSpPr>
        <p:spPr>
          <a:xfrm>
            <a:off x="304920" y="48006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习性：作者写了蝈蝈的叫声和食性。主要写的是食物习性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2" descr="蝗虫2"/>
          <p:cNvPicPr/>
          <p:nvPr/>
        </p:nvPicPr>
        <p:blipFill>
          <a:blip r:embed="rId1"/>
          <a:srcRect l="12150" t="0" r="2051" b="14193"/>
          <a:stretch/>
        </p:blipFill>
        <p:spPr>
          <a:xfrm>
            <a:off x="457200" y="1447920"/>
            <a:ext cx="4267080" cy="5029200"/>
          </a:xfrm>
          <a:prstGeom prst="rect">
            <a:avLst/>
          </a:prstGeom>
          <a:ln w="0">
            <a:noFill/>
          </a:ln>
        </p:spPr>
      </p:pic>
      <p:sp>
        <p:nvSpPr>
          <p:cNvPr id="596" name="Text Box 3"/>
          <p:cNvSpPr/>
          <p:nvPr/>
        </p:nvSpPr>
        <p:spPr>
          <a:xfrm>
            <a:off x="838080" y="3049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、作者不断变换对绿色蝈蝈的称呼，找出这些称呼，说说作者在什么情况下用什么称呼，这样写有什么效果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7" name="Text Box 4"/>
          <p:cNvSpPr/>
          <p:nvPr/>
        </p:nvSpPr>
        <p:spPr>
          <a:xfrm>
            <a:off x="5029200" y="50292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　　作者不断变换称呼，使行文更生动，描写更形象，给人更深刻的印象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8" name="Text Box 5"/>
          <p:cNvSpPr/>
          <p:nvPr/>
        </p:nvSpPr>
        <p:spPr>
          <a:xfrm>
            <a:off x="4952880" y="1523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　　作者对蝈蝈的称呼有：狂热的狩猎者、我笼里的囚犯、蝉的屠夫等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9" name="Text Box 6"/>
          <p:cNvSpPr/>
          <p:nvPr/>
        </p:nvSpPr>
        <p:spPr>
          <a:xfrm>
            <a:off x="4952880" y="266688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　　当蝈蝈捕杀蝉时作者用“狂热的狩猎者”；当蝈蝈成为作者笼中观察和实验的对象时，作者就用“笼里的囚犯”；当蝈蝈吃蝉肉时作者称之为“蝉的屠夫”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Picture 2" descr="蝗虫5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601" name="Text Box 3"/>
          <p:cNvSpPr/>
          <p:nvPr/>
        </p:nvSpPr>
        <p:spPr>
          <a:xfrm>
            <a:off x="380880" y="304920"/>
            <a:ext cx="8305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课文多处运用拟人手法，找出几个例子，说说这样写的好处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2" name="Text Box 4"/>
          <p:cNvSpPr/>
          <p:nvPr/>
        </p:nvSpPr>
        <p:spPr>
          <a:xfrm>
            <a:off x="685800" y="16765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窃窃自语”“津津有味”“酷爱甜食”“毫不犹豫地都接受”等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3" name="Text Box 5"/>
          <p:cNvSpPr/>
          <p:nvPr/>
        </p:nvSpPr>
        <p:spPr>
          <a:xfrm>
            <a:off x="838080" y="23623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这样写亲切自然，形象生动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Text Box 3"/>
          <p:cNvSpPr/>
          <p:nvPr/>
        </p:nvSpPr>
        <p:spPr>
          <a:xfrm>
            <a:off x="533520" y="45720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5" name="Text Box 4"/>
          <p:cNvSpPr/>
          <p:nvPr/>
        </p:nvSpPr>
        <p:spPr>
          <a:xfrm>
            <a:off x="533520" y="2286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三、找到以下语句，说说表达了作者怎样的情感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6" name="Text Box 5"/>
          <p:cNvSpPr/>
          <p:nvPr/>
        </p:nvSpPr>
        <p:spPr>
          <a:xfrm>
            <a:off x="685800" y="76212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6600ff"/>
                </a:solidFill>
                <a:latin typeface="Times New Roman"/>
              </a:rPr>
              <a:t>、“绿色的蝈蝈啊，如果你拉的琴再响亮一点儿，那你就是比蝉更胜一筹的歌手了。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7" name="Text Box 6"/>
          <p:cNvSpPr/>
          <p:nvPr/>
        </p:nvSpPr>
        <p:spPr>
          <a:xfrm>
            <a:off x="762120" y="144792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用拟人手法写蝈蝈，流露出浓厚炽热的喜爱之情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8" name="Text Box 7"/>
          <p:cNvSpPr/>
          <p:nvPr/>
        </p:nvSpPr>
        <p:spPr>
          <a:xfrm>
            <a:off x="609480" y="17683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、“这种昆虫非常漂亮，浑身嫩绿，侧面有两条淡白色的丝带，身材优美，苗条匀称，两片大翼轻盈如纱。”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9" name="Text Box 8"/>
          <p:cNvSpPr/>
          <p:nvPr/>
        </p:nvSpPr>
        <p:spPr>
          <a:xfrm>
            <a:off x="609480" y="25750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用优美的语言刻画出蝈蝈可爱的样子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0" name="Text Box 9"/>
          <p:cNvSpPr/>
          <p:nvPr/>
        </p:nvSpPr>
        <p:spPr>
          <a:xfrm>
            <a:off x="533520" y="28954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、“关于食物，我遇到了喂养螽斯时同样的麻烦。”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1" name="Text Box 10"/>
          <p:cNvSpPr/>
          <p:nvPr/>
        </p:nvSpPr>
        <p:spPr>
          <a:xfrm>
            <a:off x="609480" y="3336840"/>
            <a:ext cx="769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麻烦”一词表现出作者对蝈蝈悉心照料不怕麻烦的态度。带有明显的感情色彩，亲切自然，富有文学笔法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2" name="Text Box 11"/>
          <p:cNvSpPr/>
          <p:nvPr/>
        </p:nvSpPr>
        <p:spPr>
          <a:xfrm>
            <a:off x="609480" y="4343400"/>
            <a:ext cx="7391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6600ff"/>
                </a:solidFill>
                <a:latin typeface="Times New Roman"/>
              </a:rPr>
              <a:t>、“它用喙尖抓抓脚底，用沾着唾液的爪擦擦脸和眼睛，然后闭着双眼或者躺在沙上消化食物。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ff"/>
                </a:solidFill>
                <a:latin typeface="Times New Roman"/>
              </a:rPr>
              <a:t>“</a:t>
            </a:r>
            <a:r>
              <a:rPr b="0" lang="zh-CN" sz="2000" spc="-1" strike="noStrike">
                <a:solidFill>
                  <a:srgbClr val="6600ff"/>
                </a:solidFill>
                <a:latin typeface="Times New Roman"/>
              </a:rPr>
              <a:t>我用蝉来喂养它们。它们对这道菜吃得津津有味。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3" name="Text Box 12"/>
          <p:cNvSpPr/>
          <p:nvPr/>
        </p:nvSpPr>
        <p:spPr>
          <a:xfrm>
            <a:off x="609480" y="5715000"/>
            <a:ext cx="701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语言使用生动传神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Text Box 3"/>
          <p:cNvSpPr/>
          <p:nvPr/>
        </p:nvSpPr>
        <p:spPr>
          <a:xfrm>
            <a:off x="762120" y="53352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四、合作研讨：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5" name="Text Box 4"/>
          <p:cNvSpPr/>
          <p:nvPr/>
        </p:nvSpPr>
        <p:spPr>
          <a:xfrm>
            <a:off x="914400" y="11430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、作者用什么方法引出蝈蝈的呢？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6" name="Text Box 5"/>
          <p:cNvSpPr/>
          <p:nvPr/>
        </p:nvSpPr>
        <p:spPr>
          <a:xfrm>
            <a:off x="990720" y="32767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、作者是如何知道蝈蝈喜欢吃什么食物的呢？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7" name="Text Box 6"/>
          <p:cNvSpPr/>
          <p:nvPr/>
        </p:nvSpPr>
        <p:spPr>
          <a:xfrm>
            <a:off x="1066680" y="5121360"/>
            <a:ext cx="678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、研读课文第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9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段，归纳这段文字说明了蝈蝈的什么生活习性，说明蝈蝈属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------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食肉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食草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杂食）性昆虫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8" name="Text Box 7"/>
          <p:cNvSpPr/>
          <p:nvPr/>
        </p:nvSpPr>
        <p:spPr>
          <a:xfrm>
            <a:off x="1066680" y="166068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课文第一段并没有写蝈蝈，是写在别人欢度国庆的日子里，自己还没有忘记去观察昆虫。“我独自一人”说明作者对他热爱的事业的执著。第二段写蝉在夜晚不再鸣叫，它要休息了。突然，蝉的一声哀号引出了本文的“主人翁”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蝈蝈。这是多么富有匠心的写作思路！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9" name="Text Box 8"/>
          <p:cNvSpPr/>
          <p:nvPr/>
        </p:nvSpPr>
        <p:spPr>
          <a:xfrm>
            <a:off x="1219320" y="3809880"/>
            <a:ext cx="693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作者是通过实验和观察知道蝈蝈喜欢吃蝉肚子的。清晨，作者散步时看到的一幕揭开了蝈蝈食物之谜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捕蝉为食。又通过变换食物的花样，揭开了蝈蝈首先吃蝉肚子的秘密，因为肚子既有肉，又有甜食。这反映了作者严谨的科学态度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0" name="Text Box 9"/>
          <p:cNvSpPr/>
          <p:nvPr/>
        </p:nvSpPr>
        <p:spPr>
          <a:xfrm>
            <a:off x="4800600" y="547056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ff"/>
                </a:solidFill>
                <a:latin typeface="Times New Roman"/>
              </a:rPr>
              <a:t>杂食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2" descr="蝈蝈"/>
          <p:cNvPicPr/>
          <p:nvPr/>
        </p:nvPicPr>
        <p:blipFill>
          <a:blip r:embed="rId1"/>
          <a:srcRect l="7890" t="0" r="5559" b="13430"/>
          <a:stretch/>
        </p:blipFill>
        <p:spPr>
          <a:xfrm>
            <a:off x="685800" y="914400"/>
            <a:ext cx="3352680" cy="275436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3" descr="蝈蝈图"/>
          <p:cNvPicPr/>
          <p:nvPr/>
        </p:nvPicPr>
        <p:blipFill>
          <a:blip r:embed="rId2"/>
          <a:stretch/>
        </p:blipFill>
        <p:spPr>
          <a:xfrm>
            <a:off x="4800600" y="838080"/>
            <a:ext cx="3225960" cy="274320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4" descr="蝗虫8"/>
          <p:cNvPicPr/>
          <p:nvPr/>
        </p:nvPicPr>
        <p:blipFill>
          <a:blip r:embed="rId3"/>
          <a:stretch/>
        </p:blipFill>
        <p:spPr>
          <a:xfrm>
            <a:off x="685800" y="3809880"/>
            <a:ext cx="3276720" cy="281952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5" descr="蝗虫"/>
          <p:cNvPicPr/>
          <p:nvPr/>
        </p:nvPicPr>
        <p:blipFill>
          <a:blip r:embed="rId4"/>
          <a:stretch/>
        </p:blipFill>
        <p:spPr>
          <a:xfrm>
            <a:off x="4648320" y="3962520"/>
            <a:ext cx="40766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9T15:22:51Z</dcterms:created>
  <dc:creator>第一PPT模板网-WWW.1PPT.COM</dc:creator>
  <dc:description>第一PPT模板网-WWW.1PPT.COM
</dc:description>
  <cp:keywords>第一PPT模板网-WWW.1PPT.COM</cp:keywords>
  <dc:language>en-US</dc:language>
  <cp:lastModifiedBy>admin</cp:lastModifiedBy>
  <cp:lastPrinted>1900-01-03T05:48:54Z</cp:lastPrinted>
  <dcterms:modified xsi:type="dcterms:W3CDTF">2018-06-05T08:28:26Z</dcterms:modified>
  <cp:revision>1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400</vt:lpwstr>
  </property>
</Properties>
</file>