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D19-B88B-49E4-809F-D0CF0CCD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F82-9000-4608-91EA-49D75D61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C38E9-6861-4233-B1B7-E81044B3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5DD40-FC38-41AE-8F39-416E00FF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8E9C8-DE24-4F46-9F74-1267E801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DCBAC-1FD7-4883-9EAC-1AF1EE08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71891-19F1-458B-904D-E834C8AE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4D787-EB75-48BB-9592-41EF939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1D292-5DD3-425F-AF9D-EBBC26B3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EEAE2-8909-4B72-9C94-AEBE3526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71352-581C-40FD-B118-8DA00C3D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BC18E-9EDE-4EB4-80AD-0AF9793F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3B0-607A-40B8-84BE-89AEDAFE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FCB65-3DF0-4BE0-9396-A3B17678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10F3C-1D1D-4073-A0A5-20C3275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3EDCD-4D13-4BC3-A57A-82D034BD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2398B-6BDB-4CD0-BF7F-329EA466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E4A21-6972-485A-86D7-A858E2BC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783E3-089F-4E7E-A72D-DD970565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CECC5-B9D6-4ACF-A626-6439239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D2A72-AD31-47B4-8E10-B8D60555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2FC2A-4D06-431B-AE22-60251EAE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D11DD-D894-4ED7-92C2-0B131D7B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2ED-8B71-43EB-8209-B52CE540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5609C-6175-42E2-8E28-B5445381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14EDBD-3A4E-463B-A109-4329CB6F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42029B-D011-417A-B993-D8CF07B6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2ED51F-B6D7-447D-A445-D2211CE5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A50ED3-69CB-439E-8B19-C7C3B01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5036E3-D4B5-41B6-80F5-4777F028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60FB50-0270-4C2A-A589-F561694D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75200F-7058-4E4F-82C9-9EA40E8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02B7CE-01E1-4CC8-8816-9FF5F9F0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9259F6-4BF0-4F40-BD4C-F5D4A0CE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519A-4C3B-4C25-80DD-B0C84B34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AB8925-F96C-418F-8923-ABDA2236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AEA7E3-EEE5-4804-8878-17CD5154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1E5C63-D57C-48BA-B316-68B2A794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95620-288F-4032-93AF-816E3D40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C2B2B-231A-4D69-8B41-B744E7B1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6504D-C0E9-4897-887E-530CC0EA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407AC-771E-46C0-A3D0-53D4B2D0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6ADEB-EDA0-48E1-A4A6-C392C30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D065B-E63F-4DA7-8AE4-9795AC05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D1E6C-F8D8-45C5-AB84-37BC3F6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64CF-DD2E-48C1-B7C1-10C15718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8B7D4-18DA-4851-BF8A-936D0F18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3E86C-2635-4261-A80F-3716674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AD326-0145-47C0-9C2C-13C2C394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21555-5E95-4A65-9054-8A2225F9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01DC2-C79C-446C-BCD3-8EDCEF9C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BF4C2-8F01-4BF6-9F1C-D2BEB2F7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84AAB-ED0B-48AD-81B3-006886B7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50B9B-B367-4383-A847-2D92D7E8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A779F-23CC-4571-A5E6-E9CA6F68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0DA73-0C91-4857-A501-AB18C387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C1B4-0B80-460B-9F26-DF8F9509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76115-055A-48AE-81FC-8149ECA4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C76FD-1BDE-42FF-B8D3-6F4EA6B2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80FE8-EA21-4C63-B56E-6D914788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BF0DC-2FEB-4A5B-A046-BEDEE2F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83C51-719C-4955-8AA9-43281FDA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2091E-41FE-4813-B1F4-FBDC1D00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C74CF-3C45-4D67-8C3F-D36E8F9E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43798-1833-4070-890E-0E544CEE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CC539-398F-41A2-8AD1-0F1A36EA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DA2AF-356C-4A3A-81E0-47D1E283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0F7E-A1CB-4FC4-818D-5E314EE3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49719-ABC5-43CB-8415-F042B2D3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EDBAC-8AEB-49FF-9449-0851D695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00194-84CE-4F16-9741-2EC94FE6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2A4E9-E5F1-4734-BE1B-2DDB2CA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0B10F-ABD1-4C5F-B534-3EE22BCF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27961-8DF1-46F3-8F71-54476D7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B39BC-A8DA-4FF7-B89F-3AD3D33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CD954-D905-42AA-B1C5-276CF0CA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2B373-DC49-43C3-8A7E-F4881BFF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3FE7-F56E-4F01-8822-E2E75CF1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F843-19D8-4BBE-8A55-F0F284C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0DE3-24BE-4A0D-9852-C3C75847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C9E-80C1-4B99-AADB-48A6B61E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0DDE-67C1-46A4-A31A-6C6D1A2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2D46-7E3B-4900-A06E-B61FBCDD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1DF1-3D27-45FE-9F88-0E6E3ED6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BFED-27C5-4ABA-909A-4FB032D5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4359-6BE7-4F4F-B08E-EE307ADB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72C7-E784-4D70-BD74-F8FC151F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F5CE-CEA4-48A2-A10D-2D042AC9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3101-C215-4A54-B582-38032345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5EDB-1A46-4324-9E78-A587976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E4210-6063-4209-A0D1-6D25201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5A4-9EF3-4F69-B489-F2D21614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52E4-09B1-49FB-B1CF-5B10C48C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DD147-44F5-4E66-AFA2-61C72685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1772-14ED-416F-ACBF-33924746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CABE-F98B-4CD9-99A8-F52F9561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B8942-0C45-4C58-ACC6-2754ED75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5CC4-0880-47B8-962C-56E4A08C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3481-29C3-48AB-ADA5-995111C2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BDCB-37B2-4860-B1F8-D57B7C97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E57FF-67C3-40B9-8206-A4EC50F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D2AF8-47D9-43D0-8568-4B07D448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6EE-7ECB-4C3B-AF42-78B4D975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BBB1-8FF4-4E42-996C-F9A42FF5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FE2D7-E9B4-4C55-8B38-166E0F52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FACF-7D23-4403-9B3B-F7292AB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95104-18C0-4E67-A033-1810FAE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46DEB-C49C-4F56-8A9E-964F57DF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CA24-F59E-46DB-AAA0-7573C5E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D411-FFC4-4EDC-A362-3DC334BD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31E9-49B3-48B4-9D76-5F253DA7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CB4C-F202-4332-A302-7DD3F61F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5E7F-BD03-403B-BF71-28999376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10B-735B-4CB5-BCB3-CB09884C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73ACA-9F48-434B-A868-F739CB8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0E11B-AB47-4F11-8F2B-BA0A38BB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E8C6E-894C-4077-94B3-86394080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E2DE1-846C-49FA-8BD5-0D060CD4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A36F-F0BD-432E-9AA6-7060AB95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C4051-8F4F-48EF-8F36-7FB12B0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FC97B-18AF-4721-B3BD-4413F209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28AF6-DBC3-4912-A006-832923C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A1F75-9307-484D-BC60-A01D7D8C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0B0E-56E0-4220-BF98-A962B3CD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8BF-1C1E-4CA7-9A11-2B00FCCC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87AC-4CC7-4943-929D-53C471F1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E87BD-18BA-48EE-BFF0-A1CACF56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5F857-D66D-4849-9DB4-CE6DC5E0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1F4AB-34DF-4688-BE86-FDB87A9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CA846-E8F9-4C9B-88BB-80743A46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AC661-8FE3-48FE-9331-4B91023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B135-ACA6-440A-9FA6-D8449420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F9699-1B62-4A13-81ED-DC54AB2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A20D0-BFD7-43AF-9DF7-5174801E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36F0C-1CDF-46DA-AF06-4E36D86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0E7-09A6-4212-9239-F3072132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3A376-4165-4CA3-9280-7813C0C5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42A95-AA09-418E-8C81-4A39CD54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DAD07-37B3-4CF7-A437-495A033F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4CB22-80E9-4872-8C9D-A5E1CF03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20191-CFF6-4ADA-AFC1-B23D894B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1382D-9781-4D7E-A86E-2EF96852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60ACD-1115-4050-ACDF-D27AB59D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3350-1BD4-423A-A6D1-AB07502E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741AB-BA8D-4CAD-B0FE-B184D973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8BCB-3F61-4B0E-BF28-81B8950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FD2-E397-4890-8A57-E9B23484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9816F-34F5-4B74-9910-95EBC97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96F25-FEAE-4F2A-A244-0874D1F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71F0-E1BB-4A7A-AAFE-16301B63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D9ADC-697A-4145-95A2-DF1872D1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86BE1-DB34-42F1-ABC0-1931CCDE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F490F-771B-413F-971F-8168B025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F64E-B51B-41C6-914C-1280F66D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E3783-6099-4806-AE91-D6AD35CD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70F4-FC2E-4B44-9DCC-6B31FE59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71F36-4B32-4894-A56D-0E8B8078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B0D-52F8-45E1-A7B6-D0F56406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F236-738B-4936-A71D-3809B9E8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0E34B-E87D-4AE4-9A8B-059C03D2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581E-BBFA-4FC9-A9E8-0924D6BC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81FEE-4E78-4B51-98BB-F7F18D8B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E15BD-9191-4669-A9A0-8CCEF203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ED5EA-2A8A-4351-9BD8-79EF55AE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3DDF7-8D0D-4F82-B701-DB1CE496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8BA9D-072B-448A-998D-3FB2A0DF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C7C44-8395-4EE4-8F2E-90EE81EC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DCC89-9EFA-48A9-BAB1-11518D04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4C1-534D-4C27-9DC8-5A4F6951B4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D6E9-DE90-4686-A25C-8700FC7E605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F6BA-0322-4DB8-9AD3-16FD18E3EEA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4D04-D673-444B-8164-9D85D0EF07E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CF2F-342E-4E92-8EE8-1DC79FE146E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0C38-74AB-4E04-8F62-D6292350BCC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26CD-3F3D-45B4-84B5-929B77A584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67D1-217B-4C52-BEE4-723DC78B04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C7E0-E7CF-4F0D-AC6E-E3F4728C9F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83B4-B15F-445B-A42E-205A83C4BE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8AA5-DF62-44EE-AF4F-0D9D00409B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B55A-8323-43E3-AB64-7EE272483D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4460-BCCD-48C4-9E65-075EA6EF86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480E-FE26-4679-8709-7BBF7C3D57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4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250920" y="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cc"/>
                </a:solidFill>
                <a:latin typeface="Times New Roman"/>
                <a:ea typeface="隶书"/>
              </a:rPr>
              <a:t>《论语》十则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7650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见　贤　　　思齐焉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见　不贤　　而内自省也。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084720" y="2492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Arial"/>
              </a:rPr>
              <a:t>ĭ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　看见德行优秀的人　要想着向他看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860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看见　不优秀的人　就要从内心反省自己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195640" y="4581360"/>
            <a:ext cx="511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见贤思齐</a:t>
            </a:r>
            <a:endParaRPr b="1" lang="en-US" sz="1800" spc="1" strike="noStrike">
              <a:ln w="12600">
                <a:solidFill>
                  <a:srgbClr val="ffccff"/>
                </a:solidFill>
                <a:miter/>
              </a:ln>
              <a:solidFill>
                <a:srgbClr val="ffcc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40464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子贡问曰：“有一言而可以终身行之者乎？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其恕乎！己所不欲，　勿施于人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341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子贡问：“       有一句话　可以作为终身遵守的准则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78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是宽容啊！自己不想承受的，不要施加给别人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908000" y="234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sh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1116000" y="4724280"/>
            <a:ext cx="6985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己所不欲勿施于人</a:t>
            </a:r>
            <a:endParaRPr b="1" lang="en-US" sz="4000" spc="1" strike="noStrike">
              <a:ln w="0">
                <a:noFill/>
              </a:ln>
              <a:solidFill>
                <a:srgbClr val="ff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26801" y="10800"/>
                </a:lnTo>
                <a:lnTo>
                  <a:pt x="12788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765000"/>
            <a:ext cx="889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曾子曰：“士不可以　　不弘毅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　任重　　　而道远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1757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曾子说：“读书人不可以　没有远大的抱负和坚强的意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4360" y="3500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承担的责任重大，艰险的道路还很长．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63640" y="4292640"/>
            <a:ext cx="5977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华文行楷"/>
              </a:rPr>
              <a:t>任重道远</a:t>
            </a:r>
            <a:endParaRPr b="1" lang="en-US" sz="60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华文行楷"/>
              <a:ea typeface="华文行楷"/>
            </a:endParaRPr>
          </a:p>
        </p:txBody>
      </p:sp>
      <p:sp>
        <p:nvSpPr>
          <p:cNvPr id="808" name="">
            <a:hlinkClick r:id="" action="ppaction://hlinkshowjump?jump=nextslide"/>
          </p:cNvPr>
          <p:cNvSpPr/>
          <p:nvPr/>
        </p:nvSpPr>
        <p:spPr>
          <a:xfrm>
            <a:off x="8639280" y="6597720"/>
            <a:ext cx="504720" cy="260280"/>
          </a:xfrm>
          <a:custGeom>
            <a:avLst/>
            <a:gdLst>
              <a:gd name="textAreaLeft" fmla="*/ 16560 w 504720"/>
              <a:gd name="textAreaRight" fmla="*/ 488160 w 504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857" h="21600">
                <a:moveTo>
                  <a:pt x="0" y="0"/>
                </a:moveTo>
                <a:lnTo>
                  <a:pt x="41857" y="0"/>
                </a:lnTo>
                <a:lnTo>
                  <a:pt x="41857" y="21600"/>
                </a:lnTo>
                <a:lnTo>
                  <a:pt x="0" y="21600"/>
                </a:lnTo>
                <a:close/>
              </a:path>
              <a:path fill="lightenLess" w="41857" h="21600">
                <a:moveTo>
                  <a:pt x="0" y="0"/>
                </a:moveTo>
                <a:lnTo>
                  <a:pt x="41857" y="0"/>
                </a:lnTo>
                <a:lnTo>
                  <a:pt x="40457" y="1400"/>
                </a:lnTo>
                <a:lnTo>
                  <a:pt x="1400" y="1400"/>
                </a:lnTo>
                <a:close/>
              </a:path>
              <a:path fill="darken" w="41857" h="21600">
                <a:moveTo>
                  <a:pt x="41857" y="0"/>
                </a:moveTo>
                <a:lnTo>
                  <a:pt x="41857" y="21600"/>
                </a:lnTo>
                <a:lnTo>
                  <a:pt x="40457" y="20200"/>
                </a:lnTo>
                <a:lnTo>
                  <a:pt x="40457" y="1400"/>
                </a:lnTo>
                <a:close/>
              </a:path>
              <a:path fill="darkenLess" w="41857" h="21600">
                <a:moveTo>
                  <a:pt x="41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57" y="20200"/>
                </a:lnTo>
                <a:close/>
              </a:path>
              <a:path fill="lighten" w="41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57" h="21600">
                <a:moveTo>
                  <a:pt x="13922" y="3794"/>
                </a:moveTo>
                <a:lnTo>
                  <a:pt x="27935" y="10800"/>
                </a:lnTo>
                <a:lnTo>
                  <a:pt x="1392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404640"/>
            <a:ext cx="9685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富与贵是人之所欲也，不以其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得之，不处也。　贫与贱是人之所恶也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不以其道得之，　　　不去也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112536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财富和地位是人们向往的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04000" y="112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不凭仁义之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12588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去得到它，就不应该占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56000" y="314172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贫穷和低贱是人们厌恶的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486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讲仁义道德反而受穷而卑微，也不应该抛弃仁义道德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524720" y="1773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w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6" name="">
            <a:hlinkClick r:id="" action="ppaction://hlinkshowjump?jump=nex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118584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　　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贡问君子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子曰：“先行其言而后从之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68360" y="1700280"/>
            <a:ext cx="662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87280" y="21178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子贡请教怎样才能做一个君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26920" y="391788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先行动，有关行动的话以后再发表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50920" y="981000"/>
            <a:ext cx="92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君子成人之美，　不成人之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小人反是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1830240"/>
            <a:ext cx="95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君子应该成全别人的好事，不促成别人的坏事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50920" y="364500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小人与此相反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317080" y="4237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3794"/>
                </a:moveTo>
                <a:lnTo>
                  <a:pt x="29166" y="10800"/>
                </a:lnTo>
                <a:lnTo>
                  <a:pt x="1515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835280" y="4508640"/>
            <a:ext cx="576252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彩云"/>
              </a:rPr>
              <a:t>成人之美</a:t>
            </a:r>
            <a:endParaRPr b="1" lang="en-US" sz="6000" spc="1" strike="noStrike">
              <a:ln w="12600">
                <a:solidFill>
                  <a:srgbClr val="ffccff"/>
                </a:solidFill>
                <a:miter/>
              </a:ln>
              <a:solidFill>
                <a:srgbClr val="ff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47628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子曰：“　富　而可求也，　　　　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　　　　虽执鞭之士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吾亦为之。如不可求，　从吾所好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126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　　　孔子说：“　做官　如果能通过修养仁德而获得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48546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也尽力去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521080" y="492588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果不能获得，就从事我爱好的职业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3213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即使是低微的官职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20000" y="3645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h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à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4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0" y="549360"/>
            <a:ext cx="968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在齐闻《韶》，　三月不知肉味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曰：“　不图为乐之至于斯也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4000" y="134136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在齐地听了《韶乐》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16360" y="1268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三个月吃肉都吃不出肉味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21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说：“　没想到音乐的创作竟能达到如此高的境界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132000" y="19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yu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3794"/>
                </a:moveTo>
                <a:lnTo>
                  <a:pt x="27166" y="10800"/>
                </a:lnTo>
                <a:lnTo>
                  <a:pt x="1315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4920" y="115920"/>
            <a:ext cx="9540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（点）曰：“莫春者，　春服既成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冠者五六人，童子六七人，　浴乎沂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风乎舞雩，            咏而归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90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　（曾点）说：“到了暮春三月，春天的衣服已经做好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16000" y="2708280"/>
            <a:ext cx="56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五六个成年人，　　六七个少年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156360" y="270828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在沂河边洗澡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44370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在舞雩台上吹风，（然后）唱着歌回家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9080" y="5391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夫子喟然叹曰：“吾与点也！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00000" y="6093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夫子叹了口气说：“我赞赏曾点说的啊！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-71280" y="141300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gu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à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740720" y="1413000"/>
            <a:ext cx="21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y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577880" y="3213000"/>
            <a:ext cx="11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y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774800" y="4869000"/>
            <a:ext cx="17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ku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>
            <a:hlinkClick r:id="rId1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02800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7301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  <a:path fill="darken" w="21600" h="23832">
                <a:moveTo>
                  <a:pt x="3794" y="4910"/>
                </a:moveTo>
                <a:lnTo>
                  <a:pt x="5456" y="4910"/>
                </a:lnTo>
                <a:lnTo>
                  <a:pt x="5456" y="18922"/>
                </a:lnTo>
                <a:lnTo>
                  <a:pt x="3794" y="189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115920"/>
            <a:ext cx="961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a883a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a883a"/>
                </a:solidFill>
                <a:latin typeface="Arial"/>
                <a:ea typeface="楷体_GB2312"/>
              </a:rPr>
              <a:t>告诉我们做人的道德修养，要多“自省”，讲恕道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042920" y="1484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Arial"/>
                <a:ea typeface="楷体_GB2312"/>
              </a:rPr>
              <a:t>（一）至（三）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108000" y="2205000"/>
            <a:ext cx="982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883a"/>
                </a:solidFill>
                <a:latin typeface="Arial"/>
                <a:ea typeface="楷体_GB2312"/>
              </a:rPr>
              <a:t>　　告诉我们人要有追求，有抱负，对富贵取之有道，要重实践，能成人之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87280" y="3645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Arial"/>
                <a:ea typeface="楷体_GB2312"/>
              </a:rPr>
              <a:t>（四）至（八）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4437000"/>
            <a:ext cx="99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a883a"/>
                </a:solidFill>
                <a:latin typeface="Arial"/>
                <a:ea typeface="楷体_GB2312"/>
              </a:rPr>
              <a:t>告诉我们人要有艺术修养，要亲近自然，锻炼身体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58920" y="5805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Arial"/>
                <a:ea typeface="楷体_GB2312"/>
              </a:rPr>
              <a:t>（九）、（十）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921840" y="115920"/>
            <a:ext cx="104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 baseline="2000">
                <a:solidFill>
                  <a:srgbClr val="ffff66"/>
                </a:solidFill>
                <a:latin typeface="Times New Roman"/>
                <a:ea typeface="黑体"/>
              </a:rPr>
              <a:t>《论语》十则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24400" y="3087720"/>
            <a:ext cx="242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、字词解释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内容理解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4" name="">
            <a:hlinkClick r:id="rId1" action="ppaction://hlinksldjump"/>
          </p:cNvPr>
          <p:cNvSpPr/>
          <p:nvPr/>
        </p:nvSpPr>
        <p:spPr>
          <a:xfrm>
            <a:off x="1116000" y="1341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１、关于孔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5" name="">
            <a:hlinkClick r:id="rId2" action="ppaction://hlinksldjump"/>
          </p:cNvPr>
          <p:cNvSpPr/>
          <p:nvPr/>
        </p:nvSpPr>
        <p:spPr>
          <a:xfrm>
            <a:off x="1116000" y="220500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２、关于《论语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042920" y="3789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（一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71640" y="38196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二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560" y="3819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三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003640" y="378936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四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84720" y="38196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五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54764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六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771640" y="4653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七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9564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八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03640" y="4653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九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119640" y="465300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十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">
            <a:hlinkClick r:id="rId3" action="ppaction://hlinksldjump"/>
          </p:cNvPr>
          <p:cNvSpPr/>
          <p:nvPr/>
        </p:nvSpPr>
        <p:spPr>
          <a:xfrm>
            <a:off x="1189080" y="5373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４、讨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782960" y="0"/>
            <a:ext cx="436104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0" y="69228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孔子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前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551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－前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479)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丘，字仲尼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我国古代伟大的思想家、教育家，儒家学派的创始人，其核心思想是“仁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被誉为“万世师表”、“千古圣人”，世界十大思想家之首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1965240" y="60087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75080" y="5805360"/>
            <a:ext cx="56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相传孔子出生地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----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山东曲阜</a:t>
            </a: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尼山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全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8209080" cy="48960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3309120" y="56674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孔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孔子嫡系子孙居住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57200" y="189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山东曲阜“三孔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893080" cy="56610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484800" y="56674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孔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祭祀孔子的地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931200" y="5667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孔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孔子墓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57340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4957920" y="0"/>
            <a:ext cx="4186080" cy="57340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rId4" action="ppaction://hlinksldjump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9232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7387" y="3794"/>
                </a:lnTo>
                <a:lnTo>
                  <a:pt x="7387" y="17806"/>
                </a:lnTo>
                <a:lnTo>
                  <a:pt x="572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95280" y="44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　　《论语》属语录体散文，是孔子弟子及其再传弟子关于孔子言行的记录，共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篇。内容有孔子谈话，答弟子问及弟子间的相互讨论。它是研究孔子思想的主要依据。南宋时，朱熹把它列为“四书”（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《孟子》、《中庸》、《大学》、《论语》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）之一，成为儒家的重要经典。宋朝宰相赵普曾赞颂说“半部《论语》治天下”。本文十则是儒家修身之言，讲的是做人之道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">
            <a:hlinkClick r:id="rId1" action="ppaction://hlinksldjump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7301" y="10925"/>
                </a:moveTo>
                <a:lnTo>
                  <a:pt x="17806" y="3918"/>
                </a:lnTo>
                <a:lnTo>
                  <a:pt x="17806" y="17931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5456" y="3918"/>
                </a:lnTo>
                <a:lnTo>
                  <a:pt x="5456" y="17931"/>
                </a:lnTo>
                <a:lnTo>
                  <a:pt x="3794" y="1793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792000" y="105264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曾子曰：“吾日三省乎吾身—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2637000"/>
            <a:ext cx="97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为人谋而不忠乎？　与朋友交而不信乎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2920" y="422100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传不习乎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440000" y="19162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曾子说：“我每天三次反省自己—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501336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老师）传授的知识不去复习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50028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替别人出谋划策却不诚心诚意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221440" y="35575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与朋友交往却不诚实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427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Arial"/>
              </a:rPr>
              <a:t>ĭ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849636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0" h="21600">
                <a:moveTo>
                  <a:pt x="10274" y="3794"/>
                </a:moveTo>
                <a:lnTo>
                  <a:pt x="24286" y="10800"/>
                </a:lnTo>
                <a:lnTo>
                  <a:pt x="1027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07:13:18Z</dcterms:created>
  <dc:creator>现代信息技术中心</dc:creator>
  <dc:description/>
  <dc:language>en-US</dc:language>
  <cp:lastModifiedBy>现代信息技术中心</cp:lastModifiedBy>
  <dcterms:modified xsi:type="dcterms:W3CDTF">2005-10-11T04:41:49Z</dcterms:modified>
  <cp:revision>40</cp:revision>
  <dc:subject/>
  <dc:title>幻灯片 1</dc:title>
</cp:coreProperties>
</file>