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自定义放映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911-C2B4-4FC7-89A4-217D9D98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67A-2461-479E-B193-7A859E71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4D7-32CD-418C-9276-64A1CFC8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925-D7F6-4200-A112-5C5D1763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08A-42FD-4A79-88D8-075D0707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D8C-5DFD-42DF-8772-D0459C5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858-2D8B-43B5-A1B1-96C4DC8C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CF-71D9-4E4A-A752-496508B9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B57-59DA-4069-ACA7-475BCBE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CA8-9D2E-41B6-93D6-7F00115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008-B31E-44F1-A38C-4284DF0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780-F40A-4DA3-A131-F572740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1F2-230F-40DE-9183-31C73E279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693960" y="0"/>
            <a:ext cx="552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9920" y="457200"/>
            <a:ext cx="2009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鲁滨孙漂流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1400" y="4724280"/>
            <a:ext cx="164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笛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19280" y="148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笛福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是英国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世纪启蒙文学的重要作家，他的代表作《鲁滨孙飘流记》是一部流传很广、影响很大的文学名著，这部小说是笛福受当时一个真实故事的启发而创作的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70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年苏格兰水手赛尔科克在海上与船长发生争吵，被船长遗弃在荒岛上，四年后被救回英国。赛尔科克在荒岛上并没有作出什么值得颂扬的英雄事迹。但笛福塑造的鲁滨孙却完全是个新人，成了当时中小资产阶级心目中的英雄人物，是西方文学中第一个理想化的新兴资产者形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读课文，思考：课文讲了一件什么事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95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文写的是一位叫鲁滨孙的英国人，在一次航海中船翻漂流到一座荒无人烟的小岛上，战胜种种困难，历尽磨难，生活了二十多年之久，最后终于获救回到英国的一件事。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6738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课文按什么顺序写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写了哪几件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按时间顺序写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写了遇险上岛、建房定居、养牧种植、救“星期五”、回到英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默读课文，思考：鲁滨孙漂流到荒岛，遇到了什么困难？他是怎么解决的？从中你体会到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99736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食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2708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住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860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安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378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孤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5445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不畏艰险　机智坚强　聪明能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7400" y="16574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鲁滨孙的经历给了我们什么启发？在学习和生活当中遇到困难时，你是怎样做的？应该怎样做？联系实际谈一谈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2480" y="45720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郑和出使西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12810" y="10800"/>
                </a:moveTo>
                <a:lnTo>
                  <a:pt x="6775" y="14825"/>
                </a:lnTo>
                <a:lnTo>
                  <a:pt x="6775" y="6775"/>
                </a:lnTo>
                <a:close/>
              </a:path>
              <a:path fill="darken" w="21600" h="21600">
                <a:moveTo>
                  <a:pt x="13870" y="6775"/>
                </a:moveTo>
                <a:lnTo>
                  <a:pt x="13870" y="14825"/>
                </a:lnTo>
                <a:lnTo>
                  <a:pt x="14825" y="14825"/>
                </a:lnTo>
                <a:lnTo>
                  <a:pt x="14825" y="677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715000" cy="46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03:50Z</dcterms:created>
  <dc:creator>wangliping</dc:creator>
  <dc:description/>
  <dc:language>en-US</dc:language>
  <cp:lastModifiedBy>v5</cp:lastModifiedBy>
  <dcterms:modified xsi:type="dcterms:W3CDTF">2005-04-26T14:42:39Z</dcterms:modified>
  <cp:revision>8</cp:revision>
  <dc:subject/>
  <dc:title>PowerPoint 演示文稿</dc:title>
</cp:coreProperties>
</file>