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C37-9061-421C-8137-267A79FC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739-AC4B-4201-8514-99BCFE12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291-A382-4A49-A577-AE252035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17B-2BDC-4D6F-9195-B871A3EA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7580A-6891-406F-B55A-F775DD41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882DB-FA70-4797-950A-242F957B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35808-3336-4F26-BCEF-E7412B0F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DA4E2-1735-40C4-B115-E5497015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95D51-2D5C-484B-B6F2-04EB1F2A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762EB-1206-4D24-89B8-E5A50FDF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7458C-D8BF-4C00-984A-938B026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2D1-3BEE-4955-B621-EB1127CC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B8C17-0C01-4354-9ACD-4AC2019D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C9269-F6CD-4638-944C-A4459203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BB003-CF1D-4571-9C70-A2AF2ED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CF37A-236A-4DD1-BC03-4ECEEEEB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526E9-ED72-44E3-8956-C568E01D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563-B907-46C4-9AB1-C98C0D4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B21-5BCF-4506-A2AE-42B0CCDE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911-AE2C-42B8-BE5F-C3605A46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514-57D9-4B59-82FC-ADC6B2B0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6AF-E420-4060-8C36-9F7FB69D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048-2BB8-4C53-8820-159EBFA1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0F6-52AF-410A-BFC7-E0B2262C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B833-ABD3-4218-B976-F71284B4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9C66-A4C6-4D73-9B40-F78AD0F1FB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f0c286ee5a0b9bf8cf1b3ed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5"/>
          <p:cNvSpPr txBox="1"/>
          <p:nvPr/>
        </p:nvSpPr>
        <p:spPr>
          <a:xfrm rot="5400000">
            <a:off x="3600" y="856080"/>
            <a:ext cx="2665440" cy="1736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凉 </a:t>
            </a:r>
            <a:endParaRPr b="1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WordArt 6"/>
          <p:cNvSpPr txBox="1"/>
          <p:nvPr/>
        </p:nvSpPr>
        <p:spPr>
          <a:xfrm rot="5400000">
            <a:off x="2484000" y="980640"/>
            <a:ext cx="160020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13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州</a:t>
            </a:r>
            <a:endParaRPr b="1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WordArt 7"/>
          <p:cNvSpPr txBox="1"/>
          <p:nvPr/>
        </p:nvSpPr>
        <p:spPr>
          <a:xfrm rot="5400000">
            <a:off x="4413600" y="1571040"/>
            <a:ext cx="1716120" cy="1400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词</a:t>
            </a:r>
            <a:endParaRPr b="1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38120" y="3205080"/>
            <a:ext cx="4465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王之涣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显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1116000" y="1052640"/>
            <a:ext cx="63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春风不度玉门关。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解诗意，悟诗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分小组合作学习，根据查阅的有关资料，</a:t>
            </a:r>
            <a:r>
              <a:rPr b="0" lang="zh-CN" sz="3200" spc="-1" strike="noStrike" u="sng">
                <a:solidFill>
                  <a:srgbClr val="00ffcc"/>
                </a:solidFill>
                <a:uFillTx/>
                <a:latin typeface="Arial"/>
              </a:rPr>
              <a:t>理解诗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这首诗表达了作者怎样的思想感情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诗通过描写表达了作者的心情。同时也写出了对戍边战士不能归乡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有感情地朗读诗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5651640" y="6237360"/>
            <a:ext cx="576000" cy="431640"/>
          </a:xfrm>
          <a:prstGeom prst="flowChartProcess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字词意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80503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仞：古代的长度单位，一仞相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七八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羌笛：羌族的一种乐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杨柳：指一种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折杨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歌曲。唐朝有折柳赠别的风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度：经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字词意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50920" y="1773360"/>
            <a:ext cx="64915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河远上：远望黄河的源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城：指孤零零的戍边的城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ffcc"/>
                </a:solidFill>
                <a:uFillTx/>
                <a:latin typeface="Arial"/>
              </a:rPr>
              <a:t>玉门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汉武帝置，因西域输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玉石取道于此而得名。故址在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甘肃敦煌西北小方盘城。六朝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址东移至今安西双塔堡附近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”一作“直”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7308720" y="6381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图片3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Oval 4"/>
          <p:cNvSpPr/>
          <p:nvPr/>
        </p:nvSpPr>
        <p:spPr>
          <a:xfrm>
            <a:off x="0" y="6381720"/>
            <a:ext cx="611280" cy="71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古诗今译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71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辽阔的高原上，黄河奔腾而来，远远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望去，好像是从白云中流出来的一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高山大河的环抱下，一座地处边塞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城巍然屹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羌笛何须老是吹奏那哀怨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折杨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呢？要知道，玉门关外本来就是春风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到的地方，哪有杨柳可折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611280" y="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凉州词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332000" y="1484280"/>
            <a:ext cx="7343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王之涣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黄河远上白云间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片孤城万仞山。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羌笛何须怨杨柳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春风不度玉门关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050920" y="2349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68360" y="2349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大西北空旷苍凉的浑然景象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050920" y="429264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50920" y="40053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戍边战士悲壮慷慨和积极豪放，没有半点衰飒颓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5292720" y="6308640"/>
            <a:ext cx="574560" cy="360360"/>
          </a:xfrm>
          <a:prstGeom prst="rightArrow">
            <a:avLst>
              <a:gd name="adj1" fmla="val 50000"/>
              <a:gd name="adj2" fmla="val 398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其他边塞诗阅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8000" y="1916280"/>
            <a:ext cx="6912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时明月汉时关，万里长征人未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龙城飞将在，不教胡马度阴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绝圣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昌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里不惜死，一朝得成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图麒麟阁，入朝明光宫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塞下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旗亭画壁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2556000" y="1484280"/>
            <a:ext cx="590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葡萄美酒夜光杯，欲饮琵琶马上催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醉卧沙场君莫笑，古来征战几人回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凉州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月天山雪，无花只有寒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笛中闻折柳，春色未曾看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晓战随金鼓，宵眠抱玉鞍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愿将腰下剑，直为斩楼兰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塞下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刚刚"/>
          <p:cNvPicPr/>
          <p:nvPr/>
        </p:nvPicPr>
        <p:blipFill>
          <a:blip r:embed="rId1"/>
          <a:stretch/>
        </p:blipFill>
        <p:spPr>
          <a:xfrm>
            <a:off x="0" y="0"/>
            <a:ext cx="9899640" cy="151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当易网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ttp://www.downyi.co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王之涣</a:t>
            </a:r>
            <a:r>
              <a:rPr b="1" lang="en-US" sz="3200" spc="-1" strike="noStrike">
                <a:solidFill>
                  <a:srgbClr val="003399"/>
                </a:solidFill>
                <a:latin typeface="楷体"/>
                <a:ea typeface="楷体"/>
              </a:rPr>
              <a:t>(688—742)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，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字季凌， 原籍晋阳（今山西太原），五世祖隆迁居绛州（今山西新绛）。曾任冀州衡水主簿，因谤辞官，家居十五年。晚年出任文安县（今禹河北）尉，卒于官舍。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是盛唐时期的诗人，为人慷慨</a:t>
            </a:r>
            <a:r>
              <a:rPr b="1" lang="en-US" sz="3200" spc="-1" strike="noStrike">
                <a:solidFill>
                  <a:srgbClr val="003399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有大略，豪放不羁，常击剑悲歌，其诗多被当时乐工制曲歌唱，名动一时，常与高适、王昌龄等相唱和，以善于描写边塞风光著称。 </a:t>
            </a:r>
            <a:r>
              <a:rPr b="1" lang="en-US" sz="3200" spc="-1" strike="noStrike">
                <a:solidFill>
                  <a:srgbClr val="003399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全唐诗</a:t>
            </a:r>
            <a:r>
              <a:rPr b="1" lang="en-US" sz="3200" spc="-1" strike="noStrike">
                <a:solidFill>
                  <a:srgbClr val="003399"/>
                </a:solidFill>
                <a:latin typeface="楷体"/>
                <a:ea typeface="楷体"/>
              </a:rPr>
              <a:t>》 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存绝句六首，皆历代传诵名篇。 </a:t>
            </a:r>
            <a:r>
              <a:rPr b="0" lang="zh-CN" sz="2400" spc="-1" strike="noStrike">
                <a:solidFill>
                  <a:srgbClr val="003399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解题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凉州词：是凉州歌的唱词，是流行于盛唐的一种曲调名，许多诗人都喜欢这个曲调，为他填写新词，因此唐代诗人都写有</a:t>
            </a: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凉州词</a:t>
            </a:r>
            <a:r>
              <a:rPr b="1" lang="en-US" sz="4800" spc="-1" strike="noStrike">
                <a:solidFill>
                  <a:srgbClr val="0033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11280" y="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凉州词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332000" y="1484280"/>
            <a:ext cx="7343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唐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王之涣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黄河远上白云间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片孤城万仞山。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羌笛何须怨杨柳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春风不度玉门关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050920" y="2349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2050920" y="4292640"/>
            <a:ext cx="73080" cy="9367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的"/>
          <p:cNvPicPr/>
          <p:nvPr/>
        </p:nvPicPr>
        <p:blipFill>
          <a:blip r:embed="rId1"/>
          <a:stretch/>
        </p:blipFill>
        <p:spPr>
          <a:xfrm>
            <a:off x="-252360" y="-938160"/>
            <a:ext cx="9163080" cy="7796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2195640" y="2205000"/>
            <a:ext cx="665928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辽阔的高原上，黄河奔腾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而来，远远向西望去，好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是从白云中流出来的一般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79280" y="26028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黄河远上白云间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01300000016998121353234596567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724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3132000" y="54936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片孤城万仞山。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332000" y="256536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孤零零一座边城屹立在崇山峻岭间。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116000" y="105264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羌笛何须怨杨柳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332000" y="2924280"/>
            <a:ext cx="6985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兵士们何必老是吹奏那哀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怨的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折杨柳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曲调呢？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8:21:33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6-30T14:29:21Z</dcterms:modified>
  <cp:revision>63</cp:revision>
  <dc:subject>第一PPT模板网-WWW.1PPT.COM</dc:subject>
  <dc:title>第一PPT模板网-WWW.1PPT.COM</dc:title>
</cp:coreProperties>
</file>