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camera.wav" ContentType="audio/x-wav"/>
  <Override PartName="/ppt/media/image2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gif" ContentType="image/gif"/>
  <Override PartName="/ppt/media/image4.jpeg" ContentType="image/jpeg"/>
  <Override PartName="/ppt/media/image22.gif" ContentType="image/gif"/>
  <Override PartName="/ppt/media/image24.jpeg" ContentType="image/jpeg"/>
  <Override PartName="/ppt/media/image1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type.wav" ContentType="audio/x-wav"/>
  <Override PartName="/ppt/media/image18.jpeg" ContentType="image/jpeg"/>
  <Override PartName="/ppt/media/image16.png" ContentType="image/png"/>
  <Override PartName="/ppt/media/chimes.wav" ContentType="audio/x-wav"/>
  <Override PartName="/ppt/media/image13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A0F-AF08-491A-B919-33D79ADB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925-F97A-44BA-AB7F-9D340907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4DF-0042-4C39-B485-26574C51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DBC-7239-477B-92F7-FECD4E36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756-960A-4F7B-9556-ECBA0C2B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A9E-6619-440E-B0A4-7E1DF91D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BF9-0621-461D-97EF-CBD5F53F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40A-1D90-43E0-8EAD-4E212E4F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52F-E504-47DD-B52C-264F0C9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916-8389-4774-8B21-AF12CDB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913-C9A3-403A-B8E1-D950DEB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C6E-7193-4068-B7C7-5FA1A89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9709-6185-4159-B173-E7E49ADBF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6e232c7018476e6d0006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14400" y="662040"/>
            <a:ext cx="74674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学语文三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寓言二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71600" y="2438280"/>
            <a:ext cx="65530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3300"/>
                </a:solidFill>
                <a:latin typeface="Arial"/>
              </a:rPr>
              <a:t>滥</a:t>
            </a:r>
            <a:r>
              <a:rPr b="1" i="1" lang="zh-CN" sz="11500" spc="-1" strike="noStrike">
                <a:solidFill>
                  <a:srgbClr val="00ffff"/>
                </a:solidFill>
                <a:latin typeface="Arial"/>
              </a:rPr>
              <a:t>竽</a:t>
            </a:r>
            <a:r>
              <a:rPr b="1" i="1" lang="en-US" sz="115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zh-CN" sz="11500" spc="-1" strike="noStrike">
                <a:solidFill>
                  <a:srgbClr val="ff3300"/>
                </a:solidFill>
                <a:latin typeface="Arial"/>
              </a:rPr>
              <a:t>充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e0ebaeefa4dc132cfcfa3c4b"/>
          <p:cNvPicPr/>
          <p:nvPr/>
        </p:nvPicPr>
        <p:blipFill>
          <a:blip r:embed="rId1"/>
          <a:stretch/>
        </p:blipFill>
        <p:spPr>
          <a:xfrm>
            <a:off x="0" y="0"/>
            <a:ext cx="8991720" cy="6880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{8E5C568E-9022-400A-AED3-22A019088DAA}"/>
          <p:cNvPicPr/>
          <p:nvPr/>
        </p:nvPicPr>
        <p:blipFill>
          <a:blip r:embed="rId2"/>
          <a:stretch/>
        </p:blipFill>
        <p:spPr>
          <a:xfrm>
            <a:off x="228600" y="228600"/>
            <a:ext cx="5029200" cy="389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5181480" y="1523880"/>
            <a:ext cx="4572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郭先生简直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坏了，他吓得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＿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心想：＿＿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3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0ebaeefa4dc132cfcfa3c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838080" y="457200"/>
            <a:ext cx="7010640" cy="5867280"/>
          </a:xfrm>
          <a:prstGeom prst="flowChartPunchedTap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057400" y="2514600"/>
            <a:ext cx="5486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则寓言讽刺了那些没有真  才实学，混在行家里充数，蒙混度日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寓言告诉我们：做人要老老实实，要有真才实学才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4660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9" descr=""/>
          <p:cNvPicPr/>
          <p:nvPr/>
        </p:nvPicPr>
        <p:blipFill>
          <a:blip r:embed="rId2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1"/>
          <p:cNvPicPr/>
          <p:nvPr/>
        </p:nvPicPr>
        <p:blipFill>
          <a:blip r:embed="rId1"/>
          <a:stretch/>
        </p:blipFill>
        <p:spPr>
          <a:xfrm>
            <a:off x="-681120" y="-223920"/>
            <a:ext cx="10206000" cy="7081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223920" y="228240"/>
            <a:ext cx="9367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滥竽充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没有真才实学的人混在有才学的人群中欺骗别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以假冒充真的，以次冒充好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来表示自谦，说自己的水平不够，只是凑数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200400"/>
            <a:ext cx="8763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懂就不懂，不能在大伙儿里边滥竽充数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懂装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2514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做买卖要按质论价，讲究信誉，不能以次充好滥竽充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4648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班长小红谦虚地说：“这次被评为文明班级，都是全体同  学干出来的，我不过是滥竽充数，挂个空名而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7010280" y="2743200"/>
            <a:ext cx="1676520" cy="354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QVMB@BOC2GGGJQ1(N8606{S"/>
          <p:cNvPicPr/>
          <p:nvPr/>
        </p:nvPicPr>
        <p:blipFill>
          <a:blip r:embed="rId2"/>
          <a:stretch/>
        </p:blipFill>
        <p:spPr>
          <a:xfrm>
            <a:off x="4038480" y="167652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304920" y="152280"/>
            <a:ext cx="7696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滥竽充数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762120" y="2057400"/>
            <a:ext cx="19047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762120" y="3276720"/>
            <a:ext cx="19047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62120" y="4419720"/>
            <a:ext cx="19047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838080" y="5562720"/>
            <a:ext cx="19051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一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_imgloadCA1XIJ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19810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àn           yú           guō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滥           竽            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āi          qi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腮             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3276720" y="457200"/>
            <a:ext cx="2971800" cy="1219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7848720" y="5791320"/>
            <a:ext cx="662040" cy="457200"/>
          </a:xfrm>
          <a:custGeom>
            <a:avLst/>
            <a:gdLst>
              <a:gd name="textAreaLeft" fmla="*/ 29520 w 662040"/>
              <a:gd name="textAreaRight" fmla="*/ 632520 w 662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1270" h="21600">
                <a:moveTo>
                  <a:pt x="0" y="0"/>
                </a:moveTo>
                <a:lnTo>
                  <a:pt x="31270" y="0"/>
                </a:lnTo>
                <a:lnTo>
                  <a:pt x="31270" y="21600"/>
                </a:lnTo>
                <a:lnTo>
                  <a:pt x="0" y="21600"/>
                </a:lnTo>
                <a:close/>
              </a:path>
              <a:path fill="lightenLess" w="31270" h="21600">
                <a:moveTo>
                  <a:pt x="0" y="0"/>
                </a:moveTo>
                <a:lnTo>
                  <a:pt x="31270" y="0"/>
                </a:lnTo>
                <a:lnTo>
                  <a:pt x="29870" y="1400"/>
                </a:lnTo>
                <a:lnTo>
                  <a:pt x="1400" y="1400"/>
                </a:lnTo>
                <a:close/>
              </a:path>
              <a:path fill="darken" w="31270" h="21600">
                <a:moveTo>
                  <a:pt x="31270" y="0"/>
                </a:moveTo>
                <a:lnTo>
                  <a:pt x="31270" y="21600"/>
                </a:lnTo>
                <a:lnTo>
                  <a:pt x="29870" y="20200"/>
                </a:lnTo>
                <a:lnTo>
                  <a:pt x="29870" y="1400"/>
                </a:lnTo>
                <a:close/>
              </a:path>
              <a:path fill="darkenLess" w="31270" h="21600">
                <a:moveTo>
                  <a:pt x="3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70" y="20200"/>
                </a:lnTo>
                <a:close/>
              </a:path>
              <a:path fill="lighten" w="3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70" h="21600">
                <a:moveTo>
                  <a:pt x="15635" y="3837"/>
                </a:moveTo>
                <a:lnTo>
                  <a:pt x="18211" y="6448"/>
                </a:ln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lnTo>
                  <a:pt x="22598" y="10800"/>
                </a:lnTo>
                <a:lnTo>
                  <a:pt x="20944" y="10800"/>
                </a:lnTo>
                <a:lnTo>
                  <a:pt x="20944" y="17989"/>
                </a:lnTo>
                <a:lnTo>
                  <a:pt x="10326" y="17989"/>
                </a:lnTo>
                <a:lnTo>
                  <a:pt x="10326" y="10800"/>
                </a:lnTo>
                <a:lnTo>
                  <a:pt x="8672" y="10800"/>
                </a:lnTo>
                <a:close/>
              </a:path>
              <a:path fill="darkenLess" w="31270" h="21600">
                <a:moveTo>
                  <a:pt x="18211" y="6448"/>
                </a:move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close/>
              </a:path>
              <a:path fill="darkenLess" w="31270" h="21600">
                <a:moveTo>
                  <a:pt x="14712" y="14299"/>
                </a:moveTo>
                <a:lnTo>
                  <a:pt x="16558" y="14299"/>
                </a:lnTo>
                <a:lnTo>
                  <a:pt x="16558" y="17989"/>
                </a:lnTo>
                <a:lnTo>
                  <a:pt x="20944" y="17989"/>
                </a:lnTo>
                <a:lnTo>
                  <a:pt x="20944" y="10800"/>
                </a:lnTo>
                <a:lnTo>
                  <a:pt x="10326" y="10800"/>
                </a:lnTo>
                <a:lnTo>
                  <a:pt x="10326" y="17989"/>
                </a:lnTo>
                <a:lnTo>
                  <a:pt x="14712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14600" y="1885320"/>
            <a:ext cx="4419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99ff"/>
                </a:solidFill>
                <a:latin typeface="Arial"/>
              </a:rPr>
              <a:t>、他是怎样滥竽充数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99ff"/>
                </a:solidFill>
                <a:latin typeface="Arial"/>
              </a:rPr>
              <a:t>、滥竽充数的结果怎么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28557dff669452948540324"/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1143000" y="0"/>
            <a:ext cx="7315200" cy="6400800"/>
            <a:chOff x="1143000" y="0"/>
            <a:chExt cx="7315200" cy="6400800"/>
          </a:xfrm>
        </p:grpSpPr>
        <p:sp>
          <p:nvSpPr>
            <p:cNvPr id="135" name="AutoShape 4"/>
            <p:cNvSpPr/>
            <p:nvPr/>
          </p:nvSpPr>
          <p:spPr>
            <a:xfrm>
              <a:off x="1143000" y="0"/>
              <a:ext cx="7315200" cy="6400800"/>
            </a:xfrm>
            <a:prstGeom prst="horizontalScroll">
              <a:avLst>
                <a:gd name="adj" fmla="val 12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这则寓言告诉我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没有真才实学而弄虚作假的人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最终总要败露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只有脚踏实地的学习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练就扎实过硬的本领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长大了才能做一个对社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对祖国有用的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>
              <a:off x="1143000" y="1905120"/>
              <a:ext cx="838080" cy="190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7" descr=""/>
          <p:cNvPicPr/>
          <p:nvPr/>
        </p:nvPicPr>
        <p:blipFill>
          <a:blip r:embed="rId2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1"/>
          <p:cNvPicPr/>
          <p:nvPr/>
        </p:nvPicPr>
        <p:blipFill>
          <a:blip r:embed="rId1"/>
          <a:stretch/>
        </p:blipFill>
        <p:spPr>
          <a:xfrm>
            <a:off x="-604800" y="-223920"/>
            <a:ext cx="10206000" cy="7081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滥竽充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没有真才实学的人混在有才学的人群中欺骗别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以假冒充真的，以次冒充好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来表示自谦，说自己的水平不够，只是凑数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28600" y="29718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买卖要按质论价，讲究信誉，不能以次充好滥竽    充数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懂就不懂，不能在大伙儿里边滥竽充数不懂装懂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班长小红谦虚地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次被评为文明班级，都是全体同  学干出来的，我不过是滥竽充数，挂个空名而已。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553400" y="42958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3040" y="338148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②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086560" y="55087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8d47bd001205ef5d1c95832c"/>
          <p:cNvPicPr/>
          <p:nvPr/>
        </p:nvPicPr>
        <p:blipFill>
          <a:blip r:embed="rId1"/>
          <a:stretch/>
        </p:blipFill>
        <p:spPr>
          <a:xfrm>
            <a:off x="-1519200" y="-662040"/>
            <a:ext cx="12187080" cy="81867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1295280" y="380880"/>
            <a:ext cx="2743200" cy="2743200"/>
            <a:chOff x="1295280" y="380880"/>
            <a:chExt cx="2743200" cy="2743200"/>
          </a:xfrm>
        </p:grpSpPr>
        <p:sp>
          <p:nvSpPr>
            <p:cNvPr id="146" name="Rectangle 4"/>
            <p:cNvSpPr/>
            <p:nvPr/>
          </p:nvSpPr>
          <p:spPr>
            <a:xfrm>
              <a:off x="1295280" y="38088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5"/>
            <p:cNvGrpSpPr/>
            <p:nvPr/>
          </p:nvGrpSpPr>
          <p:grpSpPr>
            <a:xfrm>
              <a:off x="1295280" y="380880"/>
              <a:ext cx="2743200" cy="2743200"/>
              <a:chOff x="1295280" y="380880"/>
              <a:chExt cx="2743200" cy="2743200"/>
            </a:xfrm>
          </p:grpSpPr>
          <p:sp>
            <p:nvSpPr>
              <p:cNvPr id="148" name="Line 6"/>
              <p:cNvSpPr/>
              <p:nvPr/>
            </p:nvSpPr>
            <p:spPr>
              <a:xfrm>
                <a:off x="1295280" y="173016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"/>
              <p:cNvSpPr/>
              <p:nvPr/>
            </p:nvSpPr>
            <p:spPr>
              <a:xfrm>
                <a:off x="2666880" y="38088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8"/>
          <p:cNvGrpSpPr/>
          <p:nvPr/>
        </p:nvGrpSpPr>
        <p:grpSpPr>
          <a:xfrm>
            <a:off x="5105520" y="380880"/>
            <a:ext cx="2743200" cy="2743200"/>
            <a:chOff x="5105520" y="380880"/>
            <a:chExt cx="2743200" cy="2743200"/>
          </a:xfrm>
        </p:grpSpPr>
        <p:sp>
          <p:nvSpPr>
            <p:cNvPr id="151" name="Rectangle 9"/>
            <p:cNvSpPr/>
            <p:nvPr/>
          </p:nvSpPr>
          <p:spPr>
            <a:xfrm>
              <a:off x="5105520" y="38088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0"/>
            <p:cNvGrpSpPr/>
            <p:nvPr/>
          </p:nvGrpSpPr>
          <p:grpSpPr>
            <a:xfrm>
              <a:off x="5105520" y="380880"/>
              <a:ext cx="2743200" cy="2743200"/>
              <a:chOff x="5105520" y="380880"/>
              <a:chExt cx="2743200" cy="2743200"/>
            </a:xfrm>
          </p:grpSpPr>
          <p:sp>
            <p:nvSpPr>
              <p:cNvPr id="153" name="Line 11"/>
              <p:cNvSpPr/>
              <p:nvPr/>
            </p:nvSpPr>
            <p:spPr>
              <a:xfrm>
                <a:off x="5105520" y="173016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2"/>
              <p:cNvSpPr/>
              <p:nvPr/>
            </p:nvSpPr>
            <p:spPr>
              <a:xfrm>
                <a:off x="6477120" y="38088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13"/>
          <p:cNvGrpSpPr/>
          <p:nvPr/>
        </p:nvGrpSpPr>
        <p:grpSpPr>
          <a:xfrm>
            <a:off x="1676160" y="685800"/>
            <a:ext cx="2057760" cy="1905120"/>
            <a:chOff x="1676160" y="685800"/>
            <a:chExt cx="2057760" cy="1905120"/>
          </a:xfrm>
        </p:grpSpPr>
        <p:sp>
          <p:nvSpPr>
            <p:cNvPr id="156" name="AutoShape 14"/>
            <p:cNvSpPr/>
            <p:nvPr/>
          </p:nvSpPr>
          <p:spPr>
            <a:xfrm>
              <a:off x="1676520" y="685800"/>
              <a:ext cx="2057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5"/>
            <p:cNvSpPr/>
            <p:nvPr/>
          </p:nvSpPr>
          <p:spPr>
            <a:xfrm>
              <a:off x="1676160" y="72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692000" y="700200"/>
              <a:ext cx="2025720" cy="18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866240" y="890640"/>
              <a:ext cx="300600" cy="278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1692000" y="1345320"/>
              <a:ext cx="268920" cy="234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1723680" y="1682280"/>
              <a:ext cx="474840" cy="879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2277720" y="1872720"/>
              <a:ext cx="189720" cy="586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2356920" y="1784880"/>
              <a:ext cx="1060200" cy="630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626200" y="1887480"/>
              <a:ext cx="110520" cy="556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2895120" y="1872720"/>
              <a:ext cx="110520" cy="542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977120" y="2312280"/>
              <a:ext cx="1740960" cy="263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2594160" y="700200"/>
              <a:ext cx="173880" cy="10843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2989800" y="1418400"/>
              <a:ext cx="363600" cy="263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2768400" y="700200"/>
              <a:ext cx="474480" cy="762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005640" y="1025640"/>
              <a:ext cx="569880" cy="175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293560" y="964080"/>
              <a:ext cx="158040" cy="717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1295280" y="3429000"/>
            <a:ext cx="2743200" cy="2743200"/>
            <a:chOff x="1295280" y="3429000"/>
            <a:chExt cx="2743200" cy="2743200"/>
          </a:xfrm>
        </p:grpSpPr>
        <p:sp>
          <p:nvSpPr>
            <p:cNvPr id="173" name="Rectangle 31"/>
            <p:cNvSpPr/>
            <p:nvPr/>
          </p:nvSpPr>
          <p:spPr>
            <a:xfrm>
              <a:off x="1295280" y="342900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32"/>
            <p:cNvGrpSpPr/>
            <p:nvPr/>
          </p:nvGrpSpPr>
          <p:grpSpPr>
            <a:xfrm>
              <a:off x="1295280" y="3429000"/>
              <a:ext cx="2743200" cy="2743200"/>
              <a:chOff x="1295280" y="3429000"/>
              <a:chExt cx="2743200" cy="2743200"/>
            </a:xfrm>
          </p:grpSpPr>
          <p:sp>
            <p:nvSpPr>
              <p:cNvPr id="175" name="Line 33"/>
              <p:cNvSpPr/>
              <p:nvPr/>
            </p:nvSpPr>
            <p:spPr>
              <a:xfrm>
                <a:off x="1295280" y="477828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4"/>
              <p:cNvSpPr/>
              <p:nvPr/>
            </p:nvSpPr>
            <p:spPr>
              <a:xfrm>
                <a:off x="2666880" y="342900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35"/>
          <p:cNvGrpSpPr/>
          <p:nvPr/>
        </p:nvGrpSpPr>
        <p:grpSpPr>
          <a:xfrm>
            <a:off x="5105520" y="3505320"/>
            <a:ext cx="2743200" cy="2743200"/>
            <a:chOff x="5105520" y="3505320"/>
            <a:chExt cx="2743200" cy="2743200"/>
          </a:xfrm>
        </p:grpSpPr>
        <p:sp>
          <p:nvSpPr>
            <p:cNvPr id="178" name="Rectangle 36"/>
            <p:cNvSpPr/>
            <p:nvPr/>
          </p:nvSpPr>
          <p:spPr>
            <a:xfrm>
              <a:off x="5105520" y="350532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37"/>
            <p:cNvGrpSpPr/>
            <p:nvPr/>
          </p:nvGrpSpPr>
          <p:grpSpPr>
            <a:xfrm>
              <a:off x="5105520" y="3505320"/>
              <a:ext cx="2743200" cy="2743200"/>
              <a:chOff x="5105520" y="3505320"/>
              <a:chExt cx="2743200" cy="2743200"/>
            </a:xfrm>
          </p:grpSpPr>
          <p:sp>
            <p:nvSpPr>
              <p:cNvPr id="180" name="Line 38"/>
              <p:cNvSpPr/>
              <p:nvPr/>
            </p:nvSpPr>
            <p:spPr>
              <a:xfrm>
                <a:off x="5105520" y="4854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39"/>
              <p:cNvSpPr/>
              <p:nvPr/>
            </p:nvSpPr>
            <p:spPr>
              <a:xfrm>
                <a:off x="6477120" y="350532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40"/>
          <p:cNvGrpSpPr/>
          <p:nvPr/>
        </p:nvGrpSpPr>
        <p:grpSpPr>
          <a:xfrm>
            <a:off x="1676520" y="3809880"/>
            <a:ext cx="2057400" cy="2057400"/>
            <a:chOff x="1676520" y="3809880"/>
            <a:chExt cx="2057400" cy="2057400"/>
          </a:xfrm>
        </p:grpSpPr>
        <p:sp>
          <p:nvSpPr>
            <p:cNvPr id="183" name="AutoShape 41"/>
            <p:cNvSpPr/>
            <p:nvPr/>
          </p:nvSpPr>
          <p:spPr>
            <a:xfrm>
              <a:off x="1676520" y="3809880"/>
              <a:ext cx="2057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2"/>
            <p:cNvSpPr/>
            <p:nvPr/>
          </p:nvSpPr>
          <p:spPr>
            <a:xfrm>
              <a:off x="1676520" y="3859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692000" y="3841200"/>
              <a:ext cx="2009880" cy="200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802880" y="3904560"/>
              <a:ext cx="569520" cy="585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2246040" y="4031280"/>
              <a:ext cx="442800" cy="1105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2610360" y="3841200"/>
              <a:ext cx="490320" cy="553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2942640" y="3967920"/>
              <a:ext cx="569520" cy="126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2895120" y="4237200"/>
              <a:ext cx="300600" cy="142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2183040" y="4300560"/>
              <a:ext cx="268920" cy="142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2198520" y="4521960"/>
              <a:ext cx="870480" cy="15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2277720" y="4616640"/>
              <a:ext cx="490320" cy="1234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692000" y="4790880"/>
              <a:ext cx="2009880" cy="28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53"/>
          <p:cNvSpPr/>
          <p:nvPr/>
        </p:nvSpPr>
        <p:spPr>
          <a:xfrm>
            <a:off x="5562720" y="3809880"/>
            <a:ext cx="1981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5562360" y="38577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5578560" y="3843360"/>
            <a:ext cx="193500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5684760" y="3908520"/>
            <a:ext cx="547920" cy="60804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6111720" y="4040280"/>
            <a:ext cx="425520" cy="11412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6461280" y="3843360"/>
            <a:ext cx="473040" cy="574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6781680" y="3973680"/>
            <a:ext cx="549360" cy="1317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35600" y="4253040"/>
            <a:ext cx="290520" cy="1476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6049800" y="4317840"/>
            <a:ext cx="258840" cy="1494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6066000" y="4548240"/>
            <a:ext cx="838080" cy="16488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6141960" y="4646520"/>
            <a:ext cx="471600" cy="128124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5578560" y="4827600"/>
            <a:ext cx="1935000" cy="2952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5"/>
          <p:cNvSpPr/>
          <p:nvPr/>
        </p:nvSpPr>
        <p:spPr>
          <a:xfrm>
            <a:off x="5424480" y="685800"/>
            <a:ext cx="2119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6"/>
          <p:cNvSpPr/>
          <p:nvPr/>
        </p:nvSpPr>
        <p:spPr>
          <a:xfrm>
            <a:off x="5410440" y="7128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5443560" y="693720"/>
            <a:ext cx="2073240" cy="193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5638680" y="914400"/>
            <a:ext cx="312840" cy="2826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443560" y="1352520"/>
            <a:ext cx="264960" cy="2635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5457960" y="1703520"/>
            <a:ext cx="495000" cy="9172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6041880" y="1905120"/>
            <a:ext cx="198720" cy="6174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119640" y="1811160"/>
            <a:ext cx="1098720" cy="6620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6402240" y="1928880"/>
            <a:ext cx="111240" cy="5745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6673680" y="1898640"/>
            <a:ext cx="122400" cy="5745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5724360" y="2368440"/>
            <a:ext cx="1792440" cy="2620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6361200" y="695160"/>
            <a:ext cx="183960" cy="11289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777000" y="1430280"/>
            <a:ext cx="370080" cy="2844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未知"/>
          <p:cNvSpPr/>
          <p:nvPr/>
        </p:nvSpPr>
        <p:spPr>
          <a:xfrm>
            <a:off x="6550200" y="693720"/>
            <a:ext cx="490320" cy="7891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未知"/>
          <p:cNvSpPr/>
          <p:nvPr/>
        </p:nvSpPr>
        <p:spPr>
          <a:xfrm>
            <a:off x="6796080" y="1041480"/>
            <a:ext cx="573120" cy="1857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6049800" y="957240"/>
            <a:ext cx="171720" cy="7621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1"/>
          <p:cNvSpPr/>
          <p:nvPr/>
        </p:nvSpPr>
        <p:spPr>
          <a:xfrm>
            <a:off x="5715000" y="6400800"/>
            <a:ext cx="662040" cy="457200"/>
          </a:xfrm>
          <a:custGeom>
            <a:avLst/>
            <a:gdLst>
              <a:gd name="textAreaLeft" fmla="*/ 29520 w 662040"/>
              <a:gd name="textAreaRight" fmla="*/ 632520 w 662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1270" h="21600">
                <a:moveTo>
                  <a:pt x="0" y="0"/>
                </a:moveTo>
                <a:lnTo>
                  <a:pt x="31270" y="0"/>
                </a:lnTo>
                <a:lnTo>
                  <a:pt x="31270" y="21600"/>
                </a:lnTo>
                <a:lnTo>
                  <a:pt x="0" y="21600"/>
                </a:lnTo>
                <a:close/>
              </a:path>
              <a:path fill="lightenLess" w="31270" h="21600">
                <a:moveTo>
                  <a:pt x="0" y="0"/>
                </a:moveTo>
                <a:lnTo>
                  <a:pt x="31270" y="0"/>
                </a:lnTo>
                <a:lnTo>
                  <a:pt x="29870" y="1400"/>
                </a:lnTo>
                <a:lnTo>
                  <a:pt x="1400" y="1400"/>
                </a:lnTo>
                <a:close/>
              </a:path>
              <a:path fill="darken" w="31270" h="21600">
                <a:moveTo>
                  <a:pt x="31270" y="0"/>
                </a:moveTo>
                <a:lnTo>
                  <a:pt x="31270" y="21600"/>
                </a:lnTo>
                <a:lnTo>
                  <a:pt x="29870" y="20200"/>
                </a:lnTo>
                <a:lnTo>
                  <a:pt x="29870" y="1400"/>
                </a:lnTo>
                <a:close/>
              </a:path>
              <a:path fill="darkenLess" w="31270" h="21600">
                <a:moveTo>
                  <a:pt x="3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70" y="20200"/>
                </a:lnTo>
                <a:close/>
              </a:path>
              <a:path fill="lighten" w="3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70" h="21600">
                <a:moveTo>
                  <a:pt x="15635" y="3837"/>
                </a:moveTo>
                <a:lnTo>
                  <a:pt x="18211" y="6448"/>
                </a:ln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lnTo>
                  <a:pt x="22598" y="10800"/>
                </a:lnTo>
                <a:lnTo>
                  <a:pt x="20944" y="10800"/>
                </a:lnTo>
                <a:lnTo>
                  <a:pt x="20944" y="17989"/>
                </a:lnTo>
                <a:lnTo>
                  <a:pt x="10326" y="17989"/>
                </a:lnTo>
                <a:lnTo>
                  <a:pt x="10326" y="10800"/>
                </a:lnTo>
                <a:lnTo>
                  <a:pt x="8672" y="10800"/>
                </a:lnTo>
                <a:close/>
              </a:path>
              <a:path fill="darkenLess" w="31270" h="21600">
                <a:moveTo>
                  <a:pt x="18211" y="6448"/>
                </a:move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close/>
              </a:path>
              <a:path fill="darkenLess" w="31270" h="21600">
                <a:moveTo>
                  <a:pt x="14712" y="14299"/>
                </a:moveTo>
                <a:lnTo>
                  <a:pt x="16558" y="14299"/>
                </a:lnTo>
                <a:lnTo>
                  <a:pt x="16558" y="17989"/>
                </a:lnTo>
                <a:lnTo>
                  <a:pt x="20944" y="17989"/>
                </a:lnTo>
                <a:lnTo>
                  <a:pt x="20944" y="10800"/>
                </a:lnTo>
                <a:lnTo>
                  <a:pt x="10326" y="10800"/>
                </a:lnTo>
                <a:lnTo>
                  <a:pt x="10326" y="17989"/>
                </a:lnTo>
                <a:lnTo>
                  <a:pt x="14712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RR)6FK`M`O})GPQS~JW@F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5638680" y="3505320"/>
            <a:ext cx="2743200" cy="2743200"/>
            <a:chOff x="5638680" y="3505320"/>
            <a:chExt cx="2743200" cy="2743200"/>
          </a:xfrm>
        </p:grpSpPr>
        <p:sp>
          <p:nvSpPr>
            <p:cNvPr id="226" name="Rectangle 4"/>
            <p:cNvSpPr/>
            <p:nvPr/>
          </p:nvSpPr>
          <p:spPr>
            <a:xfrm>
              <a:off x="5638680" y="350532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5"/>
            <p:cNvGrpSpPr/>
            <p:nvPr/>
          </p:nvGrpSpPr>
          <p:grpSpPr>
            <a:xfrm>
              <a:off x="5638680" y="3505320"/>
              <a:ext cx="2743200" cy="2743200"/>
              <a:chOff x="5638680" y="3505320"/>
              <a:chExt cx="2743200" cy="2743200"/>
            </a:xfrm>
          </p:grpSpPr>
          <p:sp>
            <p:nvSpPr>
              <p:cNvPr id="228" name="Line 6"/>
              <p:cNvSpPr/>
              <p:nvPr/>
            </p:nvSpPr>
            <p:spPr>
              <a:xfrm>
                <a:off x="5638680" y="4854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7"/>
              <p:cNvSpPr/>
              <p:nvPr/>
            </p:nvSpPr>
            <p:spPr>
              <a:xfrm>
                <a:off x="7010280" y="350532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8"/>
          <p:cNvGrpSpPr/>
          <p:nvPr/>
        </p:nvGrpSpPr>
        <p:grpSpPr>
          <a:xfrm>
            <a:off x="5562720" y="228600"/>
            <a:ext cx="2743200" cy="2743200"/>
            <a:chOff x="5562720" y="228600"/>
            <a:chExt cx="2743200" cy="2743200"/>
          </a:xfrm>
        </p:grpSpPr>
        <p:sp>
          <p:nvSpPr>
            <p:cNvPr id="231" name="Rectangle 9"/>
            <p:cNvSpPr/>
            <p:nvPr/>
          </p:nvSpPr>
          <p:spPr>
            <a:xfrm>
              <a:off x="5562720" y="22860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0"/>
            <p:cNvGrpSpPr/>
            <p:nvPr/>
          </p:nvGrpSpPr>
          <p:grpSpPr>
            <a:xfrm>
              <a:off x="5562720" y="228600"/>
              <a:ext cx="2743200" cy="2743200"/>
              <a:chOff x="5562720" y="228600"/>
              <a:chExt cx="2743200" cy="2743200"/>
            </a:xfrm>
          </p:grpSpPr>
          <p:sp>
            <p:nvSpPr>
              <p:cNvPr id="233" name="Line 11"/>
              <p:cNvSpPr/>
              <p:nvPr/>
            </p:nvSpPr>
            <p:spPr>
              <a:xfrm>
                <a:off x="5562720" y="157788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2"/>
              <p:cNvSpPr/>
              <p:nvPr/>
            </p:nvSpPr>
            <p:spPr>
              <a:xfrm>
                <a:off x="6934320" y="22860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13"/>
          <p:cNvGrpSpPr/>
          <p:nvPr/>
        </p:nvGrpSpPr>
        <p:grpSpPr>
          <a:xfrm>
            <a:off x="1447920" y="3505320"/>
            <a:ext cx="2743200" cy="2743200"/>
            <a:chOff x="1447920" y="3505320"/>
            <a:chExt cx="2743200" cy="2743200"/>
          </a:xfrm>
        </p:grpSpPr>
        <p:sp>
          <p:nvSpPr>
            <p:cNvPr id="236" name="Rectangle 14"/>
            <p:cNvSpPr/>
            <p:nvPr/>
          </p:nvSpPr>
          <p:spPr>
            <a:xfrm>
              <a:off x="1447920" y="350532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15"/>
            <p:cNvGrpSpPr/>
            <p:nvPr/>
          </p:nvGrpSpPr>
          <p:grpSpPr>
            <a:xfrm>
              <a:off x="1447920" y="3505320"/>
              <a:ext cx="2743200" cy="2743200"/>
              <a:chOff x="1447920" y="3505320"/>
              <a:chExt cx="2743200" cy="2743200"/>
            </a:xfrm>
          </p:grpSpPr>
          <p:sp>
            <p:nvSpPr>
              <p:cNvPr id="238" name="Line 16"/>
              <p:cNvSpPr/>
              <p:nvPr/>
            </p:nvSpPr>
            <p:spPr>
              <a:xfrm>
                <a:off x="1447920" y="4854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7"/>
              <p:cNvSpPr/>
              <p:nvPr/>
            </p:nvSpPr>
            <p:spPr>
              <a:xfrm>
                <a:off x="2819520" y="350532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18"/>
          <p:cNvGrpSpPr/>
          <p:nvPr/>
        </p:nvGrpSpPr>
        <p:grpSpPr>
          <a:xfrm>
            <a:off x="1523880" y="152280"/>
            <a:ext cx="2743200" cy="2743200"/>
            <a:chOff x="1523880" y="152280"/>
            <a:chExt cx="2743200" cy="2743200"/>
          </a:xfrm>
        </p:grpSpPr>
        <p:sp>
          <p:nvSpPr>
            <p:cNvPr id="241" name="Rectangle 19"/>
            <p:cNvSpPr/>
            <p:nvPr/>
          </p:nvSpPr>
          <p:spPr>
            <a:xfrm>
              <a:off x="1523880" y="15228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20"/>
            <p:cNvGrpSpPr/>
            <p:nvPr/>
          </p:nvGrpSpPr>
          <p:grpSpPr>
            <a:xfrm>
              <a:off x="1523880" y="152280"/>
              <a:ext cx="2743200" cy="2743200"/>
              <a:chOff x="1523880" y="152280"/>
              <a:chExt cx="2743200" cy="2743200"/>
            </a:xfrm>
          </p:grpSpPr>
          <p:sp>
            <p:nvSpPr>
              <p:cNvPr id="243" name="Line 21"/>
              <p:cNvSpPr/>
              <p:nvPr/>
            </p:nvSpPr>
            <p:spPr>
              <a:xfrm>
                <a:off x="1523880" y="150156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2"/>
              <p:cNvSpPr/>
              <p:nvPr/>
            </p:nvSpPr>
            <p:spPr>
              <a:xfrm>
                <a:off x="2895480" y="15228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23"/>
          <p:cNvGrpSpPr/>
          <p:nvPr/>
        </p:nvGrpSpPr>
        <p:grpSpPr>
          <a:xfrm>
            <a:off x="2057040" y="609480"/>
            <a:ext cx="1829160" cy="2057400"/>
            <a:chOff x="2057040" y="609480"/>
            <a:chExt cx="1829160" cy="2057400"/>
          </a:xfrm>
        </p:grpSpPr>
        <p:sp>
          <p:nvSpPr>
            <p:cNvPr id="246" name="AutoShape 24"/>
            <p:cNvSpPr/>
            <p:nvPr/>
          </p:nvSpPr>
          <p:spPr>
            <a:xfrm>
              <a:off x="2057400" y="609480"/>
              <a:ext cx="18288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057040" y="655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2071080" y="624960"/>
              <a:ext cx="1772640" cy="200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2437200" y="1669680"/>
              <a:ext cx="196920" cy="648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535480" y="1559160"/>
              <a:ext cx="956520" cy="727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2563560" y="1859760"/>
              <a:ext cx="590760" cy="12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2606040" y="2128680"/>
              <a:ext cx="632880" cy="12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071080" y="2381760"/>
              <a:ext cx="1772640" cy="25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563560" y="1305720"/>
              <a:ext cx="703440" cy="173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2113560" y="957600"/>
              <a:ext cx="239040" cy="506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282400" y="925920"/>
              <a:ext cx="1561680" cy="4586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2746440" y="624960"/>
              <a:ext cx="351720" cy="300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36"/>
          <p:cNvSpPr/>
          <p:nvPr/>
        </p:nvSpPr>
        <p:spPr>
          <a:xfrm>
            <a:off x="6027840" y="609480"/>
            <a:ext cx="1896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6019560" y="646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6043680" y="614520"/>
            <a:ext cx="1852560" cy="21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6416640" y="1693800"/>
            <a:ext cx="212760" cy="6825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未知"/>
          <p:cNvSpPr/>
          <p:nvPr/>
        </p:nvSpPr>
        <p:spPr>
          <a:xfrm>
            <a:off x="6524640" y="1590840"/>
            <a:ext cx="996840" cy="7556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未知"/>
          <p:cNvSpPr/>
          <p:nvPr/>
        </p:nvSpPr>
        <p:spPr>
          <a:xfrm>
            <a:off x="6551640" y="1905120"/>
            <a:ext cx="614160" cy="1267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6602400" y="2190600"/>
            <a:ext cx="660240" cy="1159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6043680" y="2454120"/>
            <a:ext cx="1843200" cy="2606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6551640" y="1332000"/>
            <a:ext cx="741240" cy="1792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6081840" y="960480"/>
            <a:ext cx="244440" cy="5317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6265800" y="928800"/>
            <a:ext cx="1630440" cy="4762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6743880" y="614520"/>
            <a:ext cx="371160" cy="3142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8"/>
          <p:cNvSpPr/>
          <p:nvPr/>
        </p:nvSpPr>
        <p:spPr>
          <a:xfrm>
            <a:off x="6099120" y="3962520"/>
            <a:ext cx="190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9"/>
          <p:cNvSpPr/>
          <p:nvPr/>
        </p:nvSpPr>
        <p:spPr>
          <a:xfrm>
            <a:off x="6095520" y="3989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6113520" y="3967200"/>
            <a:ext cx="1869840" cy="186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未知"/>
          <p:cNvSpPr/>
          <p:nvPr/>
        </p:nvSpPr>
        <p:spPr>
          <a:xfrm>
            <a:off x="6407280" y="4379760"/>
            <a:ext cx="566640" cy="1796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未知"/>
          <p:cNvSpPr/>
          <p:nvPr/>
        </p:nvSpPr>
        <p:spPr>
          <a:xfrm>
            <a:off x="6570720" y="3967200"/>
            <a:ext cx="196920" cy="8222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6151680" y="4695840"/>
            <a:ext cx="866520" cy="2491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未知"/>
          <p:cNvSpPr/>
          <p:nvPr/>
        </p:nvSpPr>
        <p:spPr>
          <a:xfrm>
            <a:off x="6113520" y="5005440"/>
            <a:ext cx="461880" cy="6760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6672240" y="4815000"/>
            <a:ext cx="128520" cy="5490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6730920" y="4995720"/>
            <a:ext cx="263520" cy="1098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6445080" y="5176800"/>
            <a:ext cx="1538280" cy="6573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7056360" y="4140360"/>
            <a:ext cx="671760" cy="6667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7012080" y="4267080"/>
            <a:ext cx="352440" cy="6541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7081920" y="4957920"/>
            <a:ext cx="142920" cy="4730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7155000" y="4892760"/>
            <a:ext cx="558720" cy="3776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未知"/>
          <p:cNvSpPr/>
          <p:nvPr/>
        </p:nvSpPr>
        <p:spPr>
          <a:xfrm>
            <a:off x="7192800" y="5237280"/>
            <a:ext cx="422280" cy="1267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3"/>
          <p:cNvGrpSpPr/>
          <p:nvPr/>
        </p:nvGrpSpPr>
        <p:grpSpPr>
          <a:xfrm>
            <a:off x="1905120" y="3962520"/>
            <a:ext cx="1828440" cy="1904760"/>
            <a:chOff x="1905120" y="3962520"/>
            <a:chExt cx="1828440" cy="1904760"/>
          </a:xfrm>
        </p:grpSpPr>
        <p:sp>
          <p:nvSpPr>
            <p:cNvPr id="286" name="AutoShape 64"/>
            <p:cNvSpPr/>
            <p:nvPr/>
          </p:nvSpPr>
          <p:spPr>
            <a:xfrm>
              <a:off x="1907640" y="3962520"/>
              <a:ext cx="18259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5"/>
            <p:cNvSpPr/>
            <p:nvPr/>
          </p:nvSpPr>
          <p:spPr>
            <a:xfrm>
              <a:off x="1905120" y="39888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920960" y="3967200"/>
              <a:ext cx="1796760" cy="18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2203920" y="4379760"/>
              <a:ext cx="543240" cy="1796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2360160" y="3967200"/>
              <a:ext cx="190080" cy="82188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1958040" y="4695480"/>
              <a:ext cx="832680" cy="24876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920960" y="5004720"/>
              <a:ext cx="443520" cy="6768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2457360" y="4815000"/>
              <a:ext cx="124560" cy="548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514240" y="4995720"/>
              <a:ext cx="253440" cy="1094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240640" y="5176440"/>
              <a:ext cx="1476720" cy="6580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826360" y="4140000"/>
              <a:ext cx="645120" cy="66600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2783880" y="4267440"/>
              <a:ext cx="338400" cy="653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2851200" y="4957920"/>
              <a:ext cx="137880" cy="472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2921040" y="4892040"/>
              <a:ext cx="536400" cy="3780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2958120" y="5236560"/>
              <a:ext cx="404640" cy="1270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79"/>
          <p:cNvSpPr/>
          <p:nvPr/>
        </p:nvSpPr>
        <p:spPr>
          <a:xfrm>
            <a:off x="5029200" y="6400800"/>
            <a:ext cx="662040" cy="457200"/>
          </a:xfrm>
          <a:custGeom>
            <a:avLst/>
            <a:gdLst>
              <a:gd name="textAreaLeft" fmla="*/ 29520 w 662040"/>
              <a:gd name="textAreaRight" fmla="*/ 632520 w 662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1270" h="21600">
                <a:moveTo>
                  <a:pt x="0" y="0"/>
                </a:moveTo>
                <a:lnTo>
                  <a:pt x="31270" y="0"/>
                </a:lnTo>
                <a:lnTo>
                  <a:pt x="31270" y="21600"/>
                </a:lnTo>
                <a:lnTo>
                  <a:pt x="0" y="21600"/>
                </a:lnTo>
                <a:close/>
              </a:path>
              <a:path fill="lightenLess" w="31270" h="21600">
                <a:moveTo>
                  <a:pt x="0" y="0"/>
                </a:moveTo>
                <a:lnTo>
                  <a:pt x="31270" y="0"/>
                </a:lnTo>
                <a:lnTo>
                  <a:pt x="29870" y="1400"/>
                </a:lnTo>
                <a:lnTo>
                  <a:pt x="1400" y="1400"/>
                </a:lnTo>
                <a:close/>
              </a:path>
              <a:path fill="darken" w="31270" h="21600">
                <a:moveTo>
                  <a:pt x="31270" y="0"/>
                </a:moveTo>
                <a:lnTo>
                  <a:pt x="31270" y="21600"/>
                </a:lnTo>
                <a:lnTo>
                  <a:pt x="29870" y="20200"/>
                </a:lnTo>
                <a:lnTo>
                  <a:pt x="29870" y="1400"/>
                </a:lnTo>
                <a:close/>
              </a:path>
              <a:path fill="darkenLess" w="31270" h="21600">
                <a:moveTo>
                  <a:pt x="3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70" y="20200"/>
                </a:lnTo>
                <a:close/>
              </a:path>
              <a:path fill="lighten" w="3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70" h="21600">
                <a:moveTo>
                  <a:pt x="15635" y="3837"/>
                </a:moveTo>
                <a:lnTo>
                  <a:pt x="18211" y="6448"/>
                </a:ln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lnTo>
                  <a:pt x="22598" y="10800"/>
                </a:lnTo>
                <a:lnTo>
                  <a:pt x="20944" y="10800"/>
                </a:lnTo>
                <a:lnTo>
                  <a:pt x="20944" y="17989"/>
                </a:lnTo>
                <a:lnTo>
                  <a:pt x="10326" y="17989"/>
                </a:lnTo>
                <a:lnTo>
                  <a:pt x="10326" y="10800"/>
                </a:lnTo>
                <a:lnTo>
                  <a:pt x="8672" y="10800"/>
                </a:lnTo>
                <a:close/>
              </a:path>
              <a:path fill="darkenLess" w="31270" h="21600">
                <a:moveTo>
                  <a:pt x="18211" y="6448"/>
                </a:move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close/>
              </a:path>
              <a:path fill="darkenLess" w="31270" h="21600">
                <a:moveTo>
                  <a:pt x="14712" y="14299"/>
                </a:moveTo>
                <a:lnTo>
                  <a:pt x="16558" y="14299"/>
                </a:lnTo>
                <a:lnTo>
                  <a:pt x="16558" y="17989"/>
                </a:lnTo>
                <a:lnTo>
                  <a:pt x="20944" y="17989"/>
                </a:lnTo>
                <a:lnTo>
                  <a:pt x="20944" y="10800"/>
                </a:lnTo>
                <a:lnTo>
                  <a:pt x="10326" y="10800"/>
                </a:lnTo>
                <a:lnTo>
                  <a:pt x="10326" y="17989"/>
                </a:lnTo>
                <a:lnTo>
                  <a:pt x="14712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6e232c7018476e6d0006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238934"/>
          <p:cNvPicPr/>
          <p:nvPr/>
        </p:nvPicPr>
        <p:blipFill>
          <a:blip r:embed="rId2"/>
          <a:stretch/>
        </p:blipFill>
        <p:spPr>
          <a:xfrm>
            <a:off x="228600" y="129528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1219320" y="434340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图片 8" descr=""/>
          <p:cNvPicPr/>
          <p:nvPr/>
        </p:nvPicPr>
        <p:blipFill>
          <a:blip r:embed="rId3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3"/>
          <p:cNvGrpSpPr/>
          <p:nvPr/>
        </p:nvGrpSpPr>
        <p:grpSpPr>
          <a:xfrm>
            <a:off x="1590840" y="312840"/>
            <a:ext cx="2743200" cy="2743200"/>
            <a:chOff x="1590840" y="312840"/>
            <a:chExt cx="2743200" cy="2743200"/>
          </a:xfrm>
        </p:grpSpPr>
        <p:sp>
          <p:nvSpPr>
            <p:cNvPr id="304" name="Rectangle 4"/>
            <p:cNvSpPr/>
            <p:nvPr/>
          </p:nvSpPr>
          <p:spPr>
            <a:xfrm>
              <a:off x="1590840" y="31284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5"/>
            <p:cNvGrpSpPr/>
            <p:nvPr/>
          </p:nvGrpSpPr>
          <p:grpSpPr>
            <a:xfrm>
              <a:off x="1590840" y="312840"/>
              <a:ext cx="2743200" cy="2743200"/>
              <a:chOff x="1590840" y="312840"/>
              <a:chExt cx="2743200" cy="2743200"/>
            </a:xfrm>
          </p:grpSpPr>
          <p:sp>
            <p:nvSpPr>
              <p:cNvPr id="306" name="Line 6"/>
              <p:cNvSpPr/>
              <p:nvPr/>
            </p:nvSpPr>
            <p:spPr>
              <a:xfrm>
                <a:off x="1590840" y="16621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7"/>
              <p:cNvSpPr/>
              <p:nvPr/>
            </p:nvSpPr>
            <p:spPr>
              <a:xfrm>
                <a:off x="2962440" y="31284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Group 8"/>
          <p:cNvGrpSpPr/>
          <p:nvPr/>
        </p:nvGrpSpPr>
        <p:grpSpPr>
          <a:xfrm>
            <a:off x="4714920" y="312840"/>
            <a:ext cx="2743200" cy="2743200"/>
            <a:chOff x="4714920" y="312840"/>
            <a:chExt cx="2743200" cy="2743200"/>
          </a:xfrm>
        </p:grpSpPr>
        <p:sp>
          <p:nvSpPr>
            <p:cNvPr id="309" name="Rectangle 9"/>
            <p:cNvSpPr/>
            <p:nvPr/>
          </p:nvSpPr>
          <p:spPr>
            <a:xfrm>
              <a:off x="4714920" y="31284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0"/>
            <p:cNvGrpSpPr/>
            <p:nvPr/>
          </p:nvGrpSpPr>
          <p:grpSpPr>
            <a:xfrm>
              <a:off x="4714920" y="312840"/>
              <a:ext cx="2743200" cy="2743200"/>
              <a:chOff x="4714920" y="312840"/>
              <a:chExt cx="2743200" cy="2743200"/>
            </a:xfrm>
          </p:grpSpPr>
          <p:sp>
            <p:nvSpPr>
              <p:cNvPr id="311" name="Line 11"/>
              <p:cNvSpPr/>
              <p:nvPr/>
            </p:nvSpPr>
            <p:spPr>
              <a:xfrm>
                <a:off x="4714920" y="16621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2"/>
              <p:cNvSpPr/>
              <p:nvPr/>
            </p:nvSpPr>
            <p:spPr>
              <a:xfrm>
                <a:off x="6086520" y="31284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13"/>
          <p:cNvGrpSpPr/>
          <p:nvPr/>
        </p:nvGrpSpPr>
        <p:grpSpPr>
          <a:xfrm>
            <a:off x="1514520" y="3589200"/>
            <a:ext cx="2743200" cy="2743200"/>
            <a:chOff x="1514520" y="3589200"/>
            <a:chExt cx="2743200" cy="2743200"/>
          </a:xfrm>
        </p:grpSpPr>
        <p:sp>
          <p:nvSpPr>
            <p:cNvPr id="314" name="Rectangle 14"/>
            <p:cNvSpPr/>
            <p:nvPr/>
          </p:nvSpPr>
          <p:spPr>
            <a:xfrm>
              <a:off x="1514520" y="358920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15"/>
            <p:cNvGrpSpPr/>
            <p:nvPr/>
          </p:nvGrpSpPr>
          <p:grpSpPr>
            <a:xfrm>
              <a:off x="1514520" y="3589200"/>
              <a:ext cx="2743200" cy="2743200"/>
              <a:chOff x="1514520" y="3589200"/>
              <a:chExt cx="2743200" cy="2743200"/>
            </a:xfrm>
          </p:grpSpPr>
          <p:sp>
            <p:nvSpPr>
              <p:cNvPr id="316" name="Line 16"/>
              <p:cNvSpPr/>
              <p:nvPr/>
            </p:nvSpPr>
            <p:spPr>
              <a:xfrm>
                <a:off x="1514520" y="493848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7"/>
              <p:cNvSpPr/>
              <p:nvPr/>
            </p:nvSpPr>
            <p:spPr>
              <a:xfrm>
                <a:off x="2886120" y="358920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Group 18"/>
          <p:cNvGrpSpPr/>
          <p:nvPr/>
        </p:nvGrpSpPr>
        <p:grpSpPr>
          <a:xfrm>
            <a:off x="4714920" y="3589200"/>
            <a:ext cx="2743200" cy="2743200"/>
            <a:chOff x="4714920" y="3589200"/>
            <a:chExt cx="2743200" cy="2743200"/>
          </a:xfrm>
        </p:grpSpPr>
        <p:sp>
          <p:nvSpPr>
            <p:cNvPr id="319" name="Rectangle 19"/>
            <p:cNvSpPr/>
            <p:nvPr/>
          </p:nvSpPr>
          <p:spPr>
            <a:xfrm>
              <a:off x="4714920" y="358920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20"/>
            <p:cNvGrpSpPr/>
            <p:nvPr/>
          </p:nvGrpSpPr>
          <p:grpSpPr>
            <a:xfrm>
              <a:off x="4714920" y="3589200"/>
              <a:ext cx="2743200" cy="2743200"/>
              <a:chOff x="4714920" y="3589200"/>
              <a:chExt cx="2743200" cy="2743200"/>
            </a:xfrm>
          </p:grpSpPr>
          <p:sp>
            <p:nvSpPr>
              <p:cNvPr id="321" name="Line 21"/>
              <p:cNvSpPr/>
              <p:nvPr/>
            </p:nvSpPr>
            <p:spPr>
              <a:xfrm>
                <a:off x="4714920" y="493848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2"/>
              <p:cNvSpPr/>
              <p:nvPr/>
            </p:nvSpPr>
            <p:spPr>
              <a:xfrm>
                <a:off x="6086520" y="358920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AutoShape 23"/>
          <p:cNvSpPr/>
          <p:nvPr/>
        </p:nvSpPr>
        <p:spPr>
          <a:xfrm>
            <a:off x="5251320" y="770040"/>
            <a:ext cx="174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5248080" y="797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未知"/>
          <p:cNvSpPr/>
          <p:nvPr/>
        </p:nvSpPr>
        <p:spPr>
          <a:xfrm>
            <a:off x="5257800" y="774720"/>
            <a:ext cx="1725480" cy="179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6259680" y="774720"/>
            <a:ext cx="236520" cy="2048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未知"/>
          <p:cNvSpPr/>
          <p:nvPr/>
        </p:nvSpPr>
        <p:spPr>
          <a:xfrm>
            <a:off x="5257800" y="1954080"/>
            <a:ext cx="630360" cy="3682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未知"/>
          <p:cNvSpPr/>
          <p:nvPr/>
        </p:nvSpPr>
        <p:spPr>
          <a:xfrm>
            <a:off x="5334120" y="817560"/>
            <a:ext cx="444240" cy="7556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未知"/>
          <p:cNvSpPr/>
          <p:nvPr/>
        </p:nvSpPr>
        <p:spPr>
          <a:xfrm>
            <a:off x="5383080" y="1144440"/>
            <a:ext cx="578160" cy="8208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未知"/>
          <p:cNvSpPr/>
          <p:nvPr/>
        </p:nvSpPr>
        <p:spPr>
          <a:xfrm>
            <a:off x="5649840" y="1166760"/>
            <a:ext cx="538200" cy="12938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未知"/>
          <p:cNvSpPr/>
          <p:nvPr/>
        </p:nvSpPr>
        <p:spPr>
          <a:xfrm>
            <a:off x="6164280" y="1046160"/>
            <a:ext cx="598320" cy="3650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未知"/>
          <p:cNvSpPr/>
          <p:nvPr/>
        </p:nvSpPr>
        <p:spPr>
          <a:xfrm>
            <a:off x="6124680" y="1384200"/>
            <a:ext cx="527040" cy="1890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未知"/>
          <p:cNvSpPr/>
          <p:nvPr/>
        </p:nvSpPr>
        <p:spPr>
          <a:xfrm>
            <a:off x="6049800" y="1751040"/>
            <a:ext cx="90720" cy="7272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未知"/>
          <p:cNvSpPr/>
          <p:nvPr/>
        </p:nvSpPr>
        <p:spPr>
          <a:xfrm>
            <a:off x="6100920" y="1641600"/>
            <a:ext cx="882360" cy="9255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未知"/>
          <p:cNvSpPr/>
          <p:nvPr/>
        </p:nvSpPr>
        <p:spPr>
          <a:xfrm>
            <a:off x="6164280" y="1935000"/>
            <a:ext cx="566640" cy="1731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未知"/>
          <p:cNvSpPr/>
          <p:nvPr/>
        </p:nvSpPr>
        <p:spPr>
          <a:xfrm>
            <a:off x="6265800" y="1778040"/>
            <a:ext cx="95400" cy="5605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未知"/>
          <p:cNvSpPr/>
          <p:nvPr/>
        </p:nvSpPr>
        <p:spPr>
          <a:xfrm>
            <a:off x="6512040" y="1725480"/>
            <a:ext cx="95040" cy="6368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8"/>
          <p:cNvGrpSpPr/>
          <p:nvPr/>
        </p:nvGrpSpPr>
        <p:grpSpPr>
          <a:xfrm>
            <a:off x="2123640" y="770040"/>
            <a:ext cx="1753200" cy="1904760"/>
            <a:chOff x="2123640" y="770040"/>
            <a:chExt cx="1753200" cy="1904760"/>
          </a:xfrm>
        </p:grpSpPr>
        <p:sp>
          <p:nvSpPr>
            <p:cNvPr id="339" name="AutoShape 39"/>
            <p:cNvSpPr/>
            <p:nvPr/>
          </p:nvSpPr>
          <p:spPr>
            <a:xfrm>
              <a:off x="2124000" y="770040"/>
              <a:ext cx="175284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0"/>
            <p:cNvSpPr/>
            <p:nvPr/>
          </p:nvSpPr>
          <p:spPr>
            <a:xfrm>
              <a:off x="2123640" y="796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131920" y="774720"/>
              <a:ext cx="1727280" cy="18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134520" y="774720"/>
              <a:ext cx="236520" cy="2120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131920" y="1996200"/>
              <a:ext cx="631440" cy="38160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208240" y="819000"/>
              <a:ext cx="444600" cy="7826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258280" y="1158480"/>
              <a:ext cx="578520" cy="8492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524680" y="1180080"/>
              <a:ext cx="537840" cy="134208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3039120" y="1056600"/>
              <a:ext cx="598680" cy="3776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3000240" y="1406160"/>
              <a:ext cx="527040" cy="19512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925720" y="1785960"/>
              <a:ext cx="89640" cy="75276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2942280" y="1714320"/>
              <a:ext cx="883440" cy="96012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3039120" y="1977480"/>
              <a:ext cx="567720" cy="1785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141000" y="1814760"/>
              <a:ext cx="95040" cy="57996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386880" y="1760400"/>
              <a:ext cx="95040" cy="65988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54"/>
          <p:cNvSpPr/>
          <p:nvPr/>
        </p:nvSpPr>
        <p:spPr>
          <a:xfrm>
            <a:off x="5175360" y="4199040"/>
            <a:ext cx="167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71760" y="42228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未知"/>
          <p:cNvSpPr/>
          <p:nvPr/>
        </p:nvSpPr>
        <p:spPr>
          <a:xfrm>
            <a:off x="5184720" y="4203720"/>
            <a:ext cx="1647720" cy="170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>
            <a:off x="5819760" y="4554360"/>
            <a:ext cx="144360" cy="4305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151680" y="4203720"/>
            <a:ext cx="245880" cy="2602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未知"/>
          <p:cNvSpPr/>
          <p:nvPr/>
        </p:nvSpPr>
        <p:spPr>
          <a:xfrm>
            <a:off x="6323040" y="4800600"/>
            <a:ext cx="303120" cy="3380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未知"/>
          <p:cNvSpPr/>
          <p:nvPr/>
        </p:nvSpPr>
        <p:spPr>
          <a:xfrm>
            <a:off x="5888160" y="4821120"/>
            <a:ext cx="339480" cy="4190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5985000" y="5235480"/>
            <a:ext cx="577800" cy="1555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6207120" y="5335560"/>
            <a:ext cx="128520" cy="3668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5799240" y="5619600"/>
            <a:ext cx="1033200" cy="2098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未知"/>
          <p:cNvSpPr/>
          <p:nvPr/>
        </p:nvSpPr>
        <p:spPr>
          <a:xfrm>
            <a:off x="5184720" y="4383000"/>
            <a:ext cx="316080" cy="15289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未知"/>
          <p:cNvSpPr/>
          <p:nvPr/>
        </p:nvSpPr>
        <p:spPr>
          <a:xfrm>
            <a:off x="5445000" y="4325760"/>
            <a:ext cx="374760" cy="15782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未知"/>
          <p:cNvSpPr/>
          <p:nvPr/>
        </p:nvSpPr>
        <p:spPr>
          <a:xfrm>
            <a:off x="5445000" y="5114880"/>
            <a:ext cx="200160" cy="903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未知"/>
          <p:cNvSpPr/>
          <p:nvPr/>
        </p:nvSpPr>
        <p:spPr>
          <a:xfrm>
            <a:off x="5937120" y="4494240"/>
            <a:ext cx="895320" cy="2919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未知"/>
          <p:cNvSpPr/>
          <p:nvPr/>
        </p:nvSpPr>
        <p:spPr>
          <a:xfrm>
            <a:off x="5445000" y="4754520"/>
            <a:ext cx="276480" cy="1494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69"/>
          <p:cNvGrpSpPr/>
          <p:nvPr/>
        </p:nvGrpSpPr>
        <p:grpSpPr>
          <a:xfrm>
            <a:off x="2047680" y="4122720"/>
            <a:ext cx="1676520" cy="1758960"/>
            <a:chOff x="2047680" y="4122720"/>
            <a:chExt cx="1676520" cy="1758960"/>
          </a:xfrm>
        </p:grpSpPr>
        <p:sp>
          <p:nvSpPr>
            <p:cNvPr id="370" name="AutoShape 70"/>
            <p:cNvSpPr/>
            <p:nvPr/>
          </p:nvSpPr>
          <p:spPr>
            <a:xfrm>
              <a:off x="2048040" y="4122720"/>
              <a:ext cx="1676160" cy="17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1"/>
            <p:cNvSpPr/>
            <p:nvPr/>
          </p:nvSpPr>
          <p:spPr>
            <a:xfrm>
              <a:off x="2047680" y="41479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59920" y="4127040"/>
              <a:ext cx="1647360" cy="171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695320" y="4479840"/>
              <a:ext cx="144720" cy="4316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3026520" y="4127040"/>
              <a:ext cx="246960" cy="2613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3199320" y="4725720"/>
              <a:ext cx="302760" cy="3398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763720" y="4747680"/>
              <a:ext cx="339840" cy="42012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860920" y="5163480"/>
              <a:ext cx="576720" cy="15552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083040" y="5262840"/>
              <a:ext cx="128160" cy="36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74440" y="5547960"/>
              <a:ext cx="1033200" cy="2102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049480" y="4297680"/>
              <a:ext cx="314640" cy="153540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319480" y="4250160"/>
              <a:ext cx="375480" cy="15840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2319480" y="5042160"/>
              <a:ext cx="201240" cy="9108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813040" y="4418640"/>
              <a:ext cx="894600" cy="29232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319480" y="4680360"/>
              <a:ext cx="277560" cy="14940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85"/>
          <p:cNvSpPr/>
          <p:nvPr/>
        </p:nvSpPr>
        <p:spPr>
          <a:xfrm>
            <a:off x="5715000" y="6400800"/>
            <a:ext cx="662040" cy="457200"/>
          </a:xfrm>
          <a:custGeom>
            <a:avLst/>
            <a:gdLst>
              <a:gd name="textAreaLeft" fmla="*/ 29520 w 662040"/>
              <a:gd name="textAreaRight" fmla="*/ 632520 w 662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1270" h="21600">
                <a:moveTo>
                  <a:pt x="0" y="0"/>
                </a:moveTo>
                <a:lnTo>
                  <a:pt x="31270" y="0"/>
                </a:lnTo>
                <a:lnTo>
                  <a:pt x="31270" y="21600"/>
                </a:lnTo>
                <a:lnTo>
                  <a:pt x="0" y="21600"/>
                </a:lnTo>
                <a:close/>
              </a:path>
              <a:path fill="lightenLess" w="31270" h="21600">
                <a:moveTo>
                  <a:pt x="0" y="0"/>
                </a:moveTo>
                <a:lnTo>
                  <a:pt x="31270" y="0"/>
                </a:lnTo>
                <a:lnTo>
                  <a:pt x="29870" y="1400"/>
                </a:lnTo>
                <a:lnTo>
                  <a:pt x="1400" y="1400"/>
                </a:lnTo>
                <a:close/>
              </a:path>
              <a:path fill="darken" w="31270" h="21600">
                <a:moveTo>
                  <a:pt x="31270" y="0"/>
                </a:moveTo>
                <a:lnTo>
                  <a:pt x="31270" y="21600"/>
                </a:lnTo>
                <a:lnTo>
                  <a:pt x="29870" y="20200"/>
                </a:lnTo>
                <a:lnTo>
                  <a:pt x="29870" y="1400"/>
                </a:lnTo>
                <a:close/>
              </a:path>
              <a:path fill="darkenLess" w="31270" h="21600">
                <a:moveTo>
                  <a:pt x="3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70" y="20200"/>
                </a:lnTo>
                <a:close/>
              </a:path>
              <a:path fill="lighten" w="3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70" h="21600">
                <a:moveTo>
                  <a:pt x="15635" y="3837"/>
                </a:moveTo>
                <a:lnTo>
                  <a:pt x="18211" y="6448"/>
                </a:ln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lnTo>
                  <a:pt x="22598" y="10800"/>
                </a:lnTo>
                <a:lnTo>
                  <a:pt x="20944" y="10800"/>
                </a:lnTo>
                <a:lnTo>
                  <a:pt x="20944" y="17989"/>
                </a:lnTo>
                <a:lnTo>
                  <a:pt x="10326" y="17989"/>
                </a:lnTo>
                <a:lnTo>
                  <a:pt x="10326" y="10800"/>
                </a:lnTo>
                <a:lnTo>
                  <a:pt x="8672" y="10800"/>
                </a:lnTo>
                <a:close/>
              </a:path>
              <a:path fill="darkenLess" w="31270" h="21600">
                <a:moveTo>
                  <a:pt x="18211" y="6448"/>
                </a:move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close/>
              </a:path>
              <a:path fill="darkenLess" w="31270" h="21600">
                <a:moveTo>
                  <a:pt x="14712" y="14299"/>
                </a:moveTo>
                <a:lnTo>
                  <a:pt x="16558" y="14299"/>
                </a:lnTo>
                <a:lnTo>
                  <a:pt x="16558" y="17989"/>
                </a:lnTo>
                <a:lnTo>
                  <a:pt x="20944" y="17989"/>
                </a:lnTo>
                <a:lnTo>
                  <a:pt x="20944" y="10800"/>
                </a:lnTo>
                <a:lnTo>
                  <a:pt x="10326" y="10800"/>
                </a:lnTo>
                <a:lnTo>
                  <a:pt x="10326" y="17989"/>
                </a:lnTo>
                <a:lnTo>
                  <a:pt x="14712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87" descr=""/>
          <p:cNvPicPr/>
          <p:nvPr/>
        </p:nvPicPr>
        <p:blipFill>
          <a:blip r:embed="rId2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b7cdf315f216a17d20a4e9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3"/>
          <p:cNvGrpSpPr/>
          <p:nvPr/>
        </p:nvGrpSpPr>
        <p:grpSpPr>
          <a:xfrm>
            <a:off x="1523880" y="1371600"/>
            <a:ext cx="2743200" cy="2743200"/>
            <a:chOff x="1523880" y="1371600"/>
            <a:chExt cx="2743200" cy="2743200"/>
          </a:xfrm>
        </p:grpSpPr>
        <p:sp>
          <p:nvSpPr>
            <p:cNvPr id="389" name="Rectangle 4"/>
            <p:cNvSpPr/>
            <p:nvPr/>
          </p:nvSpPr>
          <p:spPr>
            <a:xfrm>
              <a:off x="1523880" y="1371600"/>
              <a:ext cx="269892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5"/>
            <p:cNvGrpSpPr/>
            <p:nvPr/>
          </p:nvGrpSpPr>
          <p:grpSpPr>
            <a:xfrm>
              <a:off x="1523880" y="1371600"/>
              <a:ext cx="2743200" cy="2743200"/>
              <a:chOff x="1523880" y="1371600"/>
              <a:chExt cx="2743200" cy="2743200"/>
            </a:xfrm>
          </p:grpSpPr>
          <p:sp>
            <p:nvSpPr>
              <p:cNvPr id="391" name="Line 6"/>
              <p:cNvSpPr/>
              <p:nvPr/>
            </p:nvSpPr>
            <p:spPr>
              <a:xfrm>
                <a:off x="1523880" y="272088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7"/>
              <p:cNvSpPr/>
              <p:nvPr/>
            </p:nvSpPr>
            <p:spPr>
              <a:xfrm>
                <a:off x="2895480" y="137160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" name="AutoShape 8"/>
          <p:cNvSpPr/>
          <p:nvPr/>
        </p:nvSpPr>
        <p:spPr>
          <a:xfrm>
            <a:off x="5721480" y="1905120"/>
            <a:ext cx="1593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5714640" y="19335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未知"/>
          <p:cNvSpPr/>
          <p:nvPr/>
        </p:nvSpPr>
        <p:spPr>
          <a:xfrm>
            <a:off x="5732640" y="1909800"/>
            <a:ext cx="1557000" cy="172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未知"/>
          <p:cNvSpPr/>
          <p:nvPr/>
        </p:nvSpPr>
        <p:spPr>
          <a:xfrm>
            <a:off x="5916600" y="2011320"/>
            <a:ext cx="196920" cy="2952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未知"/>
          <p:cNvSpPr/>
          <p:nvPr/>
        </p:nvSpPr>
        <p:spPr>
          <a:xfrm>
            <a:off x="5732640" y="2467080"/>
            <a:ext cx="182520" cy="2649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未知"/>
          <p:cNvSpPr/>
          <p:nvPr/>
        </p:nvSpPr>
        <p:spPr>
          <a:xfrm>
            <a:off x="5759280" y="2835360"/>
            <a:ext cx="290520" cy="77472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未知"/>
          <p:cNvSpPr/>
          <p:nvPr/>
        </p:nvSpPr>
        <p:spPr>
          <a:xfrm>
            <a:off x="6240600" y="2946240"/>
            <a:ext cx="258480" cy="1461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未知"/>
          <p:cNvSpPr/>
          <p:nvPr/>
        </p:nvSpPr>
        <p:spPr>
          <a:xfrm>
            <a:off x="6603840" y="2703600"/>
            <a:ext cx="685800" cy="91764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6651720" y="2703600"/>
            <a:ext cx="412560" cy="4176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>
            <a:off x="6207120" y="2027160"/>
            <a:ext cx="162000" cy="7254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>
            <a:off x="6224760" y="1905120"/>
            <a:ext cx="799920" cy="7570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>
            <a:off x="6296040" y="2260440"/>
            <a:ext cx="355680" cy="12096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6346800" y="2538360"/>
            <a:ext cx="405000" cy="14940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6118200" y="2797200"/>
            <a:ext cx="405000" cy="839880"/>
          </a:xfrm>
          <a:prstGeom prst="pie">
            <a:avLst/>
          </a:prstGeom>
          <a:solidFill>
            <a:srgbClr val="ff0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5029200" y="1371600"/>
            <a:ext cx="2698920" cy="26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5029200" y="2720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6400800" y="1371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5"/>
          <p:cNvGrpSpPr/>
          <p:nvPr/>
        </p:nvGrpSpPr>
        <p:grpSpPr>
          <a:xfrm>
            <a:off x="2209680" y="1905120"/>
            <a:ext cx="1752840" cy="1752480"/>
            <a:chOff x="2209680" y="1905120"/>
            <a:chExt cx="1752840" cy="1752480"/>
          </a:xfrm>
        </p:grpSpPr>
        <p:sp>
          <p:nvSpPr>
            <p:cNvPr id="411" name="AutoShape 26"/>
            <p:cNvSpPr/>
            <p:nvPr/>
          </p:nvSpPr>
          <p:spPr>
            <a:xfrm>
              <a:off x="2209680" y="1905120"/>
              <a:ext cx="17528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7"/>
            <p:cNvSpPr/>
            <p:nvPr/>
          </p:nvSpPr>
          <p:spPr>
            <a:xfrm>
              <a:off x="2209680" y="1933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2226600" y="1909440"/>
              <a:ext cx="1707480" cy="172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2378880" y="2070360"/>
              <a:ext cx="214200" cy="2948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2226600" y="2467080"/>
              <a:ext cx="200880" cy="26496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2256480" y="2835000"/>
              <a:ext cx="318600" cy="77436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2785320" y="2945520"/>
              <a:ext cx="281160" cy="14688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3183120" y="2703960"/>
              <a:ext cx="750960" cy="91584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3234960" y="2703960"/>
              <a:ext cx="452160" cy="41652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2747880" y="2026800"/>
              <a:ext cx="177120" cy="72540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806560" y="1909440"/>
              <a:ext cx="755640" cy="75708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2844000" y="2261160"/>
              <a:ext cx="390600" cy="11952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2901600" y="2538720"/>
              <a:ext cx="443160" cy="14796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2651040" y="2797560"/>
              <a:ext cx="443160" cy="839880"/>
            </a:xfrm>
            <a:prstGeom prst="pie">
              <a:avLst/>
            </a:pr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AutoShape 40"/>
          <p:cNvSpPr/>
          <p:nvPr/>
        </p:nvSpPr>
        <p:spPr>
          <a:xfrm>
            <a:off x="5943600" y="6400800"/>
            <a:ext cx="662040" cy="457200"/>
          </a:xfrm>
          <a:custGeom>
            <a:avLst/>
            <a:gdLst>
              <a:gd name="textAreaLeft" fmla="*/ 29520 w 662040"/>
              <a:gd name="textAreaRight" fmla="*/ 632520 w 662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1270" h="21600">
                <a:moveTo>
                  <a:pt x="0" y="0"/>
                </a:moveTo>
                <a:lnTo>
                  <a:pt x="31270" y="0"/>
                </a:lnTo>
                <a:lnTo>
                  <a:pt x="31270" y="21600"/>
                </a:lnTo>
                <a:lnTo>
                  <a:pt x="0" y="21600"/>
                </a:lnTo>
                <a:close/>
              </a:path>
              <a:path fill="lightenLess" w="31270" h="21600">
                <a:moveTo>
                  <a:pt x="0" y="0"/>
                </a:moveTo>
                <a:lnTo>
                  <a:pt x="31270" y="0"/>
                </a:lnTo>
                <a:lnTo>
                  <a:pt x="29870" y="1400"/>
                </a:lnTo>
                <a:lnTo>
                  <a:pt x="1400" y="1400"/>
                </a:lnTo>
                <a:close/>
              </a:path>
              <a:path fill="darken" w="31270" h="21600">
                <a:moveTo>
                  <a:pt x="31270" y="0"/>
                </a:moveTo>
                <a:lnTo>
                  <a:pt x="31270" y="21600"/>
                </a:lnTo>
                <a:lnTo>
                  <a:pt x="29870" y="20200"/>
                </a:lnTo>
                <a:lnTo>
                  <a:pt x="29870" y="1400"/>
                </a:lnTo>
                <a:close/>
              </a:path>
              <a:path fill="darkenLess" w="31270" h="21600">
                <a:moveTo>
                  <a:pt x="3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70" y="20200"/>
                </a:lnTo>
                <a:close/>
              </a:path>
              <a:path fill="lighten" w="3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70" h="21600">
                <a:moveTo>
                  <a:pt x="15635" y="3837"/>
                </a:moveTo>
                <a:lnTo>
                  <a:pt x="18211" y="6448"/>
                </a:ln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lnTo>
                  <a:pt x="22598" y="10800"/>
                </a:lnTo>
                <a:lnTo>
                  <a:pt x="20944" y="10800"/>
                </a:lnTo>
                <a:lnTo>
                  <a:pt x="20944" y="17989"/>
                </a:lnTo>
                <a:lnTo>
                  <a:pt x="10326" y="17989"/>
                </a:lnTo>
                <a:lnTo>
                  <a:pt x="10326" y="10800"/>
                </a:lnTo>
                <a:lnTo>
                  <a:pt x="8672" y="10800"/>
                </a:lnTo>
                <a:close/>
              </a:path>
              <a:path fill="darkenLess" w="31270" h="21600">
                <a:moveTo>
                  <a:pt x="18211" y="6448"/>
                </a:move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close/>
              </a:path>
              <a:path fill="darkenLess" w="31270" h="21600">
                <a:moveTo>
                  <a:pt x="14712" y="14299"/>
                </a:moveTo>
                <a:lnTo>
                  <a:pt x="16558" y="14299"/>
                </a:lnTo>
                <a:lnTo>
                  <a:pt x="16558" y="17989"/>
                </a:lnTo>
                <a:lnTo>
                  <a:pt x="20944" y="17989"/>
                </a:lnTo>
                <a:lnTo>
                  <a:pt x="20944" y="10800"/>
                </a:lnTo>
                <a:lnTo>
                  <a:pt x="10326" y="10800"/>
                </a:lnTo>
                <a:lnTo>
                  <a:pt x="10326" y="17989"/>
                </a:lnTo>
                <a:lnTo>
                  <a:pt x="14712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42" descr=""/>
          <p:cNvPicPr/>
          <p:nvPr/>
        </p:nvPicPr>
        <p:blipFill>
          <a:blip r:embed="rId2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易网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.downyi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6e232c7018476e6d0006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3685320" y="3048120"/>
            <a:ext cx="170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儿童文学的一种体裁，把一个深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的道理寄托在精炼、生动的故事里来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现对某种人或社会现象的评价、赞扬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批判或嘲讽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089160" y="175248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寓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7" descr=""/>
          <p:cNvPicPr/>
          <p:nvPr/>
        </p:nvPicPr>
        <p:blipFill>
          <a:blip r:embed="rId2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14480" y="46836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7" descr=""/>
          <p:cNvPicPr/>
          <p:nvPr/>
        </p:nvPicPr>
        <p:blipFill>
          <a:blip r:embed="rId2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2349182369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0" y="304920"/>
            <a:ext cx="5029200" cy="586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国时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宣王喜欢听吹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喜欢讲排场，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下吹竽的乐队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三百人。他常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这三百人一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吹竽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$9]TR6G1C3$9IUK{(ILBA)Q"/>
          <p:cNvPicPr/>
          <p:nvPr/>
        </p:nvPicPr>
        <p:blipFill>
          <a:blip r:embed="rId2"/>
          <a:stretch/>
        </p:blipFill>
        <p:spPr>
          <a:xfrm>
            <a:off x="5181480" y="426708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滥竽充数[20110531-1237361]"/>
          <p:cNvPicPr/>
          <p:nvPr/>
        </p:nvPicPr>
        <p:blipFill>
          <a:blip r:embed="rId3"/>
          <a:stretch/>
        </p:blipFill>
        <p:spPr>
          <a:xfrm>
            <a:off x="5257800" y="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838080" y="297180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38080" y="24382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990720" y="2438280"/>
            <a:ext cx="3429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1066680" y="297180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990720" y="5715000"/>
            <a:ext cx="342900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场：形容铺张的场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_imgloadCAKEK4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滥竽充数[20110531-1238122]"/>
          <p:cNvPicPr/>
          <p:nvPr/>
        </p:nvPicPr>
        <p:blipFill>
          <a:blip r:embed="rId2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80880" y="22096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04920" y="28195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3886200" y="6400800"/>
            <a:ext cx="662040" cy="457200"/>
          </a:xfrm>
          <a:custGeom>
            <a:avLst/>
            <a:gdLst>
              <a:gd name="textAreaLeft" fmla="*/ 29520 w 662040"/>
              <a:gd name="textAreaRight" fmla="*/ 632520 w 662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1270" h="21600">
                <a:moveTo>
                  <a:pt x="0" y="0"/>
                </a:moveTo>
                <a:lnTo>
                  <a:pt x="31270" y="0"/>
                </a:lnTo>
                <a:lnTo>
                  <a:pt x="31270" y="21600"/>
                </a:lnTo>
                <a:lnTo>
                  <a:pt x="0" y="21600"/>
                </a:lnTo>
                <a:close/>
              </a:path>
              <a:path fill="lightenLess" w="31270" h="21600">
                <a:moveTo>
                  <a:pt x="0" y="0"/>
                </a:moveTo>
                <a:lnTo>
                  <a:pt x="31270" y="0"/>
                </a:lnTo>
                <a:lnTo>
                  <a:pt x="29870" y="1400"/>
                </a:lnTo>
                <a:lnTo>
                  <a:pt x="1400" y="1400"/>
                </a:lnTo>
                <a:close/>
              </a:path>
              <a:path fill="darken" w="31270" h="21600">
                <a:moveTo>
                  <a:pt x="31270" y="0"/>
                </a:moveTo>
                <a:lnTo>
                  <a:pt x="31270" y="21600"/>
                </a:lnTo>
                <a:lnTo>
                  <a:pt x="29870" y="20200"/>
                </a:lnTo>
                <a:lnTo>
                  <a:pt x="29870" y="1400"/>
                </a:lnTo>
                <a:close/>
              </a:path>
              <a:path fill="darkenLess" w="31270" h="21600">
                <a:moveTo>
                  <a:pt x="3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70" y="20200"/>
                </a:lnTo>
                <a:close/>
              </a:path>
              <a:path fill="lighten" w="3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70" h="21600">
                <a:moveTo>
                  <a:pt x="15635" y="3837"/>
                </a:moveTo>
                <a:lnTo>
                  <a:pt x="18211" y="6448"/>
                </a:ln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lnTo>
                  <a:pt x="22598" y="10800"/>
                </a:lnTo>
                <a:lnTo>
                  <a:pt x="20944" y="10800"/>
                </a:lnTo>
                <a:lnTo>
                  <a:pt x="20944" y="17989"/>
                </a:lnTo>
                <a:lnTo>
                  <a:pt x="10326" y="17989"/>
                </a:lnTo>
                <a:lnTo>
                  <a:pt x="10326" y="10800"/>
                </a:lnTo>
                <a:lnTo>
                  <a:pt x="8672" y="10800"/>
                </a:lnTo>
                <a:close/>
              </a:path>
              <a:path fill="darkenLess" w="31270" h="21600">
                <a:moveTo>
                  <a:pt x="18211" y="6448"/>
                </a:moveTo>
                <a:lnTo>
                  <a:pt x="18211" y="4707"/>
                </a:lnTo>
                <a:lnTo>
                  <a:pt x="19987" y="4707"/>
                </a:lnTo>
                <a:lnTo>
                  <a:pt x="19987" y="8224"/>
                </a:lnTo>
                <a:close/>
              </a:path>
              <a:path fill="darkenLess" w="31270" h="21600">
                <a:moveTo>
                  <a:pt x="14712" y="14299"/>
                </a:moveTo>
                <a:lnTo>
                  <a:pt x="16558" y="14299"/>
                </a:lnTo>
                <a:lnTo>
                  <a:pt x="16558" y="17989"/>
                </a:lnTo>
                <a:lnTo>
                  <a:pt x="20944" y="17989"/>
                </a:lnTo>
                <a:lnTo>
                  <a:pt x="20944" y="10800"/>
                </a:lnTo>
                <a:lnTo>
                  <a:pt x="10326" y="10800"/>
                </a:lnTo>
                <a:lnTo>
                  <a:pt x="10326" y="17989"/>
                </a:lnTo>
                <a:lnTo>
                  <a:pt x="14712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0090216_e18237cb3cf1e70664e6LtvEfQ0VBEhj[1]"/>
          <p:cNvPicPr/>
          <p:nvPr/>
        </p:nvPicPr>
        <p:blipFill>
          <a:blip r:embed="rId4"/>
          <a:stretch/>
        </p:blipFill>
        <p:spPr>
          <a:xfrm>
            <a:off x="0" y="358128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>
            <a:off x="5410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45720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5334120" y="18288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1981080" y="25146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228600" y="2971800"/>
            <a:ext cx="556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4648320" y="1981080"/>
            <a:ext cx="4343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228600" y="2514600"/>
            <a:ext cx="8763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0" y="3048120"/>
            <a:ext cx="9144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装腔作势：故意做作想引起人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685800" y="312408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8305920" y="25909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2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2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2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6e232c7018476e6d0006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Z]7VV@CRY][6H%AMO`Z3CPB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416200" y="990720"/>
            <a:ext cx="2743920" cy="3080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来，齐宣王死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的儿子齐湣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继承了王位。齐湣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也爱听吹竽，但是他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喜欢听大家一起吹，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一个挨一个地吹给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5410080" y="3581280"/>
            <a:ext cx="3048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952880" y="403848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8" descr=""/>
          <p:cNvPicPr/>
          <p:nvPr/>
        </p:nvPicPr>
        <p:blipFill>
          <a:blip r:embed="rId3"/>
          <a:stretch/>
        </p:blipFill>
        <p:spPr>
          <a:xfrm>
            <a:off x="7429680" y="6324480"/>
            <a:ext cx="1714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0ebaeefa4dc132cfcfa3c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QVMB@BOC2GGGJQ1(N8606{S"/>
          <p:cNvPicPr/>
          <p:nvPr/>
        </p:nvPicPr>
        <p:blipFill>
          <a:blip r:embed="rId2"/>
          <a:stretch/>
        </p:blipFill>
        <p:spPr>
          <a:xfrm>
            <a:off x="4495680" y="182880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Oval 4"/>
          <p:cNvSpPr/>
          <p:nvPr/>
        </p:nvSpPr>
        <p:spPr>
          <a:xfrm>
            <a:off x="609480" y="228600"/>
            <a:ext cx="4724640" cy="4114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听到这个消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南郭先生只好偷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溜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3276720" y="228600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6-30T14:15:55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